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14B-89DA-4025-BFCE-10EF2C7D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F81-CE54-49EF-8B77-A6D2176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AB6-2E91-482E-85B5-5F8BC162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6B0-7C15-4057-9C81-2BF0AA4C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CAC63-AA0B-4920-8624-B91EBB7C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BEFA4-8A66-4F32-835F-7C749578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0D0B-A32B-4B3C-80ED-06B271B9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89E7F-96E4-40E7-83C5-153663E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F1C3E-0A99-45E9-8FB2-272C6CE9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55115-A151-47CA-85C5-5D5E8C6A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DA8C5-46B8-4029-886E-92977DE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5FF-8D7F-454C-A625-1021B5CF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711DB-F068-42D2-853C-D227C8B1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E8E4E-09C1-4D93-B989-1BF46BD3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884E4-AF20-4413-B757-671813B4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A543A-E708-4945-8E5F-06490AE7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E1576-F565-4556-B2E4-AAA8BE81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DE2-ADED-451F-9870-F5C5AD50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354-98AC-4775-BBA9-5802F21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79E-440A-4D8F-BFF0-D6E4F693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748-1C25-46F1-B75F-249EBD8D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856-4ED2-4EC3-A764-08E6FD0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F57-D037-445C-98E2-6141EC7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099-8742-4392-91BD-E93E714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A02-6E14-4645-A7CD-8D1BDD4D4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4D37-F228-4485-ACF4-172F1BE18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 урока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Путешеств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идросфер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ь урока: обобщить пройденный материал, оценить знания и умения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луостров зн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какие виды делятся ледники? Приведи приме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типы морей ты знаешь? Приведи приме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какие виды подразделяются озера по происхождению? Каково происхождение озера Байка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отличие внутренних морей от окраинны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луостров зн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Перечисли океаны в порядке уменьшения их площа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К бассейну какой реки относится наша реч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Что является устьем нашей речки Сухой Карабул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. Приведите примеры водопроницаемых и водоупорных пор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олуостро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знан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ая вода чище грунтовая или межпластовая? Почему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йсберг – это ледник или нет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олуостров знан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ем отличается море от залив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) Почему Каспийское море является озеро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то быстре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 помощью атласа определите, о каких объектах идёт реч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Залив и пролив на севере Северной Амер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Пролив, разделяющий Евразию и Северную Амер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Пролив между островом Огненная Земля и Южной Амер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Море к юго-востоку от Австрал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Самое северное море Тих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Остров к югу от Австрал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Пролив между Антарктидой и островом Огненная Зем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Море, названное в честь братьев-мореплава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98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1295280"/>
            <a:ext cx="5105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атерик понят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атери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океа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йте определение «ледни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называется речной систем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речной бассей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– эт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зеро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неговая ли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атерик понят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Остров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. Залив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 Пролив – это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. Что называется ре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. Исток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. Устье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. Дайте определение понятию «подземные воды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. Артезианские воды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гад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орях и реках обит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часто по небу ле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ак наскучит ей лет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землю падает оп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тров открыт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162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хипелаг ум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физической карте России определите прито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ка у ре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га                             О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хипелаг ум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омощью физической карты полушарий определите объекты, имеющие следующие географические координа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ю.ш. 34 в.д                     16 ю.ш. 69 з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9 с.ш 89 з.д.                    18 ю.ш. 26 в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хипелаг ум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еро Виктория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ье р. Миссис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еро Титик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дп. Вик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86600" y="3962520"/>
            <a:ext cx="19335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ара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т вам легкая шара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ноте «Н» прибавить на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та больше не по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рекой она теч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4T18:08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