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DC13-5D8F-4CF0-A18E-0E29B504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5A47-D345-4B63-AB03-230AF895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0A50-73F7-4B56-9E0E-271577EF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38D6-D4BC-4179-BB42-3F5DEAA1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7784-3C47-4390-A88B-3013E4F6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CEC1-D8F3-4FC9-9518-01012038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65CE-7CD9-4740-AE00-0A287877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1EB4-1A1A-4671-8196-6AA1FF34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7100-B9D0-4712-BE0F-3AEF87C9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3C57-AD04-404C-BDE6-80D1D19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1B50-A27D-409B-86E6-6DEE6A17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3545-4FAB-46F3-A0C1-85BA13A0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99DE-3F6B-4400-9A4C-0DE920F7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1A18-DEE3-4534-90FE-02B80992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927E-3DDF-4850-979E-17FC22F6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FAF3-2D98-4FAA-81A0-D63C6236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D5F7-55B4-4A3B-9458-FBDCC6B4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904E-55C0-4604-BB66-8B646628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EA82-757C-4750-A516-91308FF5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1A9B-10D0-429B-BBCB-C0F22CD1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2600-C187-462C-8CF8-426E72F4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00BD-E1FC-4CC4-AAC8-F4859375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DE30-EA53-4D2F-8FBC-DBAEF2DA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B5F1-2858-47F7-9643-8E7AD4D9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7C98-E425-44B6-9AA8-31B9D077DFA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5F40-F08A-4EF0-8E11-2D8D48D748B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атирические портретные образ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тира – произведение, остро и беспощадно обличающее отрицательные явления действи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331"/>
          <p:cNvPicPr/>
          <p:nvPr/>
        </p:nvPicPr>
        <p:blipFill>
          <a:blip r:embed="rId1"/>
          <a:stretch/>
        </p:blipFill>
        <p:spPr>
          <a:xfrm>
            <a:off x="1905120" y="260280"/>
            <a:ext cx="49719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34"/>
          <p:cNvPicPr/>
          <p:nvPr/>
        </p:nvPicPr>
        <p:blipFill>
          <a:blip r:embed="rId1"/>
          <a:stretch/>
        </p:blipFill>
        <p:spPr>
          <a:xfrm>
            <a:off x="1871640" y="189000"/>
            <a:ext cx="4932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335"/>
          <p:cNvPicPr/>
          <p:nvPr/>
        </p:nvPicPr>
        <p:blipFill>
          <a:blip r:embed="rId1"/>
          <a:srcRect l="2318" t="5387" r="2551" b="3050"/>
          <a:stretch/>
        </p:blipFill>
        <p:spPr>
          <a:xfrm>
            <a:off x="1357200" y="765000"/>
            <a:ext cx="6286680" cy="5543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Жан Эйфель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337"/>
          <p:cNvPicPr/>
          <p:nvPr/>
        </p:nvPicPr>
        <p:blipFill>
          <a:blip r:embed="rId1"/>
          <a:stretch/>
        </p:blipFill>
        <p:spPr>
          <a:xfrm>
            <a:off x="1782720" y="646200"/>
            <a:ext cx="557856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336"/>
          <p:cNvPicPr/>
          <p:nvPr/>
        </p:nvPicPr>
        <p:blipFill>
          <a:blip r:embed="rId1"/>
          <a:stretch/>
        </p:blipFill>
        <p:spPr>
          <a:xfrm>
            <a:off x="1825560" y="658800"/>
            <a:ext cx="54928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кна ТАСС. Кукрыниксы. 1941 год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3960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кна ТАСС. Кукрыниксы. 1941г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4248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укрыниксы. Окна ТАСС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Rectangle 25" descr=""/>
          <p:cNvPicPr/>
          <p:nvPr/>
        </p:nvPicPr>
        <p:blipFill>
          <a:blip r:embed="rId1"/>
          <a:stretch/>
        </p:blipFill>
        <p:spPr>
          <a:xfrm>
            <a:off x="2976480" y="1125360"/>
            <a:ext cx="31892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кна ТАСС. Кукрыниксы. 1941 год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75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«Ваш карандаш вернее винтовки,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Бьёт и пронзает лучше штыков.»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В. Маяковск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Гротес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изображение в фантастическом, уродливо-комическом виде, преувеличение, контра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Карикатур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изображение дерзкое. Иногда со злой иро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Дружеский шарж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смешной, выразительный рисунок на друзей, проникнутый мягким юмор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ероним Босх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08360" y="1484280"/>
            <a:ext cx="3241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5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612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3499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02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496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14560" y="428400"/>
            <a:ext cx="3971880" cy="157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Херлуф Бидструп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7" descr="33"/>
          <p:cNvPicPr/>
          <p:nvPr/>
        </p:nvPicPr>
        <p:blipFill>
          <a:blip r:embed="rId1"/>
          <a:stretch/>
        </p:blipFill>
        <p:spPr>
          <a:xfrm>
            <a:off x="357120" y="285840"/>
            <a:ext cx="421488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333"/>
          <p:cNvPicPr/>
          <p:nvPr/>
        </p:nvPicPr>
        <p:blipFill>
          <a:blip r:embed="rId1"/>
          <a:stretch/>
        </p:blipFill>
        <p:spPr>
          <a:xfrm>
            <a:off x="2411280" y="0"/>
            <a:ext cx="5185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28:20Z</dcterms:created>
  <dc:creator>FoM</dc:creator>
  <dc:description/>
  <dc:language>en-US</dc:language>
  <cp:lastModifiedBy>Tester</cp:lastModifiedBy>
  <dcterms:modified xsi:type="dcterms:W3CDTF">2009-03-12T10:40:09Z</dcterms:modified>
  <cp:revision>13</cp:revision>
  <dc:subject/>
  <dc:title>Херлуф Бидструп</dc:title>
</cp:coreProperties>
</file>