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0F8-4070-4961-87B1-8162522F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F94-564F-4243-9A41-EA6AA76F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D57-AE80-4A61-A1CC-E24EAEA5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5DA-3027-435E-884E-F234F2ED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A969-E25D-4F22-A27A-0C767A8C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248E-1BFC-4A4C-B205-E77B4F41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3E36-3CC8-41C2-ABD9-73D79678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0E2A-F14E-4029-898A-CC78DFF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670C-8790-447D-9583-56DCDB52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0601-EA10-427B-AFAF-BB04F24E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1D65-B928-4A75-A0EA-6148D006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FFF-0531-42C6-9FCE-72D630DD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FB3C-2D60-4EBE-8920-8E486F58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D531-D3A5-452B-B46B-C6369E50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AB0F-0D08-4856-894F-D84F3157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DA37-FF5E-4C32-B362-52E23D1B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7853-5615-47EC-9F70-E79725D5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F97-F3DE-4956-B7E0-148E2193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7DB-5C85-48E0-B4CA-FA0D0A5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EC5-2A63-4415-A225-758001E1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BC9-5BB9-4889-B71A-0FEC51F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AE1-AE86-400A-A414-FBFB1BBB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250-0164-4762-BEF6-6CED70F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731-DED2-4250-BFF9-747D3F27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B501-C52B-43F1-9F4E-6F34D140CF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366E-6D01-4FF6-9731-207BB4F1B5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«ФИЗИЧЕСКИЙ КАЛЕЙДОСКОП»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КОУ Новониколаевская С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згадай ребу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1" name="" descr="сила"/>
          <p:cNvPicPr/>
          <p:nvPr/>
        </p:nvPicPr>
        <p:blipFill>
          <a:blip r:embed="rId1"/>
          <a:stretch/>
        </p:blipFill>
        <p:spPr>
          <a:xfrm>
            <a:off x="228600" y="1374840"/>
            <a:ext cx="8763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згадай ребу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" descr="масса"/>
          <p:cNvPicPr/>
          <p:nvPr/>
        </p:nvPicPr>
        <p:blipFill>
          <a:blip r:embed="rId1"/>
          <a:stretch/>
        </p:blipFill>
        <p:spPr>
          <a:xfrm>
            <a:off x="228600" y="1405080"/>
            <a:ext cx="87631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Конкурс: "Точный ответ?"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нкурс «Отгадал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нкурс «Измерялки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гра стоила свеч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Свет ежедневно, ежечасно дарит нам волшебные мгновения "наслаждения красотой"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Девиз игры:</a:t>
            </a:r>
            <a:br>
              <a:rPr sz="3200"/>
            </a:b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"Ученье - СВЕТ, а не ученье - ТЬМА!"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удный дар природы вечной,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ар бесценный и свят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нем источник бесконе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слажденья красот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олнце, небо, звезд сиянь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оре в блеске голубом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сю природу и создан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ы лишь в свете познае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bd71"/>
                </a:solidFill>
                <a:latin typeface="Arial"/>
              </a:rPr>
              <a:t>СВЕТ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С - "Смекалка - ваш друг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 - "Веселое соревнование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Е - "Если память вам не изменяет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Т - "Точные советы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Конкурс "Смекалка - ваш друг"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. Конкурс "Кто быстре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Ве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Динамом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Мензур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Линей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Термом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Ча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Конкурс "Кто быстрее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Две сестры качались, правды добивались, а когда добились, то остановилис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На спине язык, что скажет - люди веря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Стоят - молчат, пойдут - запою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Нема и глуха, а определять объем жидкости позволя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Я под мышкой посижу и что делать укажу: или разрешу гулять, или уложу в кровать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ИЗИЧЕСКИЕ ОБОЗНАЧ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Пеший конному не товарищ; поспешишь - людей насмешишь; тише едешь - дальше будешь. О какой физической величине идет речь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С какой физической величиной можно связать эти пословицы: не все на свой аршин меряй; семь раз отмерь - один раз отрешь; без меры и лаптя не сплетешь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Плохи дела, где сила без ума; без уменья и сила не при чем; через силу и конь не тян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Мал золотник да дорог; своя ноша не тянет; тяжело понесешь - домой не донесеш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Конкурс «Веселые соревнования»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«Гадание на ромашк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«Кто больше?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Динамомет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Конкурс: "Если вам не изменяет память"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нкурс «Одна мину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нкурс «Разгадай ребу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згадай ребу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9" name="" descr="опыт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5:38:21Z</dcterms:created>
  <dc:creator>1</dc:creator>
  <dc:description/>
  <dc:language>en-US</dc:language>
  <cp:lastModifiedBy>User</cp:lastModifiedBy>
  <dcterms:modified xsi:type="dcterms:W3CDTF">2012-03-18T08:42:0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