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A1D6A153-AB41-4DEC-84C1-43E4EE809335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6"/>
          <p:cNvSpPr/>
          <p:nvPr/>
        </p:nvSpPr>
        <p:spPr>
          <a:xfrm>
            <a:off x="3419640" y="1916280"/>
            <a:ext cx="561636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чему люди фантазиру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8"/>
          <p:cNvSpPr/>
          <p:nvPr/>
        </p:nvSpPr>
        <p:spPr>
          <a:xfrm>
            <a:off x="1187280" y="292428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ргей      Коз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0"/>
          <p:cNvSpPr/>
          <p:nvPr/>
        </p:nvSpPr>
        <p:spPr>
          <a:xfrm>
            <a:off x="900000" y="1916280"/>
            <a:ext cx="465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вуки и голо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81680" y="1413000"/>
            <a:ext cx="39099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ргей Григорьевич Коз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3751200" y="5837400"/>
            <a:ext cx="19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39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2771640" y="102888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78880" y="189000"/>
            <a:ext cx="455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и Сергея Коз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979640" y="1341360"/>
            <a:ext cx="6480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2884680" cy="445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2794320" cy="431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6286680" y="3141720"/>
            <a:ext cx="28573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и Сергея Коз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2519640" cy="407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059280" y="1628640"/>
            <a:ext cx="3024000" cy="43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6048360" y="2492280"/>
            <a:ext cx="3095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и Сергея Козло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944800" cy="36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27640" y="2352600"/>
            <a:ext cx="2916360" cy="450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203640" y="1844640"/>
            <a:ext cx="2952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391280" cy="5910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вуки и гол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26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Придумать продолжение 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Представить, осенний день и нарисовать иллюстраци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Найти и прочитать другое произведение Сергея Козлова о Ёж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каких произведениях Ёжик учит Медвежонка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Искусству мол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решите с вами посумернич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Восхищаться осенней тиш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ак оттенить тиши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Любоваться лунной ночью и тум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жик в тум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Задумываться над тем, как это –  когда тебя совсе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Если меня совсем 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Admin</cp:lastModifiedBy>
  <dcterms:modified xsi:type="dcterms:W3CDTF">2013-10-12T17:25:46Z</dcterms:modified>
  <cp:revision>120</cp:revision>
  <dc:subject/>
  <dc:title>Green Butterflies</dc:title>
</cp:coreProperties>
</file>