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020-B0CE-4585-94D8-35595506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992-3480-4E4E-939A-4863F334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F2A-6004-4C85-A95B-3CF09773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45C-3D95-4194-A2E9-5F750A1A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3DCB-3D7E-440F-A7E5-EA280724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8F6-5F63-40E6-933F-3663808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3DF1-168B-4810-A9C8-F7DFA4D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F4D4-41D2-40EE-88BB-B4D0FE43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05F-3536-4409-8F03-5382565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4AA-1DAB-4D30-AFF3-75CF07E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137-3AE5-41C1-9A25-E040622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037-EFE8-402D-BAF6-09CB3319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032-E4D8-42AB-B85C-D7B5039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614-C91F-42F7-AA46-0B5E37C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66D2-90DD-4E29-A8D5-A98EFFF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70EA-D7B2-4540-B057-7032BA7C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ED7-E685-4484-B658-C5FE6264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BA24-4FD1-482D-8BF5-9E7EEE66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FFFF-646C-42F1-9EAF-AD5C61A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5A56-F265-48AF-9CB7-6C7767D9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8AA0-31E3-4C36-A131-BE1F4ED0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D84B-E6A8-4663-9BE5-226EC531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EF6-B2A6-4B06-ACEA-6D0C4A8E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D5EF-D8A2-466E-B414-E73DDF4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4F75-AA24-4608-BCF3-C450619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30D4-E446-4E79-B522-756F0A1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BB6D-7C62-4B06-9ABF-F303169F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5CD7-634E-4A2D-A540-226A34F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5B97-72D4-4654-89F8-70D4AE5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DF43-3D2C-4D77-B6F1-5C3F1E98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83D1-2153-4748-8E34-E4F4844E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C7E6-594B-4EE6-966C-8ED2735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E376-8BB8-4B46-ACBA-BCD9D5E0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234-8416-47CB-BF80-8DEC011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0B10-D72F-4CE0-9E4E-02B8BB2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D4AC-C402-489F-A532-9DA2616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96A2-4D3D-4E70-B48E-79ADDB8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FC60-CB5D-49E7-A3FE-F797AEF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5F3A-ED34-4AE7-919F-88EFDC6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FE11-179B-48C3-B10D-495CAA8F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8A34-2EB9-4AA0-8EA7-731A4DA3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E5FE-6169-47E2-B042-CFD9A697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1FE8-8F8A-4BC0-A81F-9D8793AE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D4A01-FEEA-4930-938B-1BFE8355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50F-C30C-464A-8775-FE3631B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ED3D-AA9C-44C8-82EF-3BEF27A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2369-1661-40DF-BB34-D695EAA5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A433-E1F3-46E3-8140-FA32C46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723A-F4C0-40B5-BD18-58AA834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FFFE-D1D5-4F4A-ADCF-8B2CC636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CE0F-C81E-4F61-BB12-2B2DD86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40AE-BDDE-46D9-B2AF-4E8E34A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D82B-D4FF-4FDE-B54C-B60CE8D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17973-A1E7-4B25-898E-DCA9721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BC31-D45C-4025-9EE0-C65F645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D31-BE48-4010-81D8-70774B03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8BE0A-742A-4703-9FE6-F36EA619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2B-5BF0-484D-BC87-3E5C88E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454-0CAE-4BB6-96CD-8E3DAA0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7D6-86DE-4363-9F8F-5378829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690B-CAE0-4105-9F57-013ED6042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B28-3BD2-4248-B7E5-2915C4C348E7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B1B-7708-4F9C-8A0B-9EE73FA79F4B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D52-E23D-45BA-887B-EE0E617FFB63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3E50-E409-47A1-B53B-A9DF24A2D2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3" descr=""/>
          <p:cNvPicPr/>
          <p:nvPr/>
        </p:nvPicPr>
        <p:blipFill>
          <a:blip r:embed="rId1"/>
          <a:stretch/>
        </p:blipFill>
        <p:spPr>
          <a:xfrm>
            <a:off x="993600" y="1944720"/>
            <a:ext cx="7077240" cy="3816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4643280" y="6308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итель информатики Лашина Т.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3" descr=""/>
          <p:cNvPicPr/>
          <p:nvPr/>
        </p:nvPicPr>
        <p:blipFill>
          <a:blip r:embed="rId1"/>
          <a:stretch/>
        </p:blipFill>
        <p:spPr>
          <a:xfrm>
            <a:off x="2639880" y="835200"/>
            <a:ext cx="4151520" cy="11588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85880" y="2285640"/>
            <a:ext cx="75009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бъём — вместимость геометрического тела, т. е. части пространства, ограниченной одной или несколькими замкнутыми поверхностями. Вместимость или ёмкость выражается числом заключающихся в объёме кубических едини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изобразительном искусстве объёмом называется иллюзорная передача пространственных характеристик изображаемого предмета художественными метод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3" descr=""/>
          <p:cNvPicPr/>
          <p:nvPr/>
        </p:nvPicPr>
        <p:blipFill>
          <a:blip r:embed="rId1"/>
          <a:stretch/>
        </p:blipFill>
        <p:spPr>
          <a:xfrm>
            <a:off x="1468440" y="811080"/>
            <a:ext cx="6181560" cy="1036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давать объем телам в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otoshop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можно разными способами, например использовать фильтр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D Transform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ли же воспользоваться градиентом и т.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нако мы способны имитировать только достаточно простые формы с примитивным явлением. Но бывают и исключ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мные тела могут быть разными, от простого объемного шара до сложной имитации объема тех вещей, которые мы видим каждый день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" descr=""/>
          <p:cNvPicPr/>
          <p:nvPr/>
        </p:nvPicPr>
        <p:blipFill>
          <a:blip r:embed="rId1"/>
          <a:stretch/>
        </p:blipFill>
        <p:spPr>
          <a:xfrm>
            <a:off x="974880" y="755640"/>
            <a:ext cx="7211880" cy="110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857160" y="2643120"/>
            <a:ext cx="3114720" cy="3119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5072040" y="2643120"/>
            <a:ext cx="31431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857840" y="2357280"/>
            <a:ext cx="3138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45007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429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2:47:39Z</dcterms:created>
  <dc:creator>Бекназар</dc:creator>
  <dc:description/>
  <dc:language>en-US</dc:language>
  <cp:lastModifiedBy>Лашкины</cp:lastModifiedBy>
  <dcterms:modified xsi:type="dcterms:W3CDTF">2013-08-31T12:02:54Z</dcterms:modified>
  <cp:revision>29</cp:revision>
  <dc:subject/>
  <dc:title>Slide 1</dc:title>
</cp:coreProperties>
</file>