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1C8-2721-489A-9FBD-828467A5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EE5-D89D-46E0-8A49-CB6D7636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453-B8EF-482D-92C6-E7400B33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0A0-20EB-4A2F-BD63-0698918D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C80-B150-4F11-80E5-006A5491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02F-9402-4FF2-AE6F-457EF663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716-E901-4347-9003-C9FB116A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383-574F-49FB-9543-BA2A6A5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B91-8EC8-4F7D-AEB2-4679E2E9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65C-EBF0-4608-A8DF-7712DAB4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B20-216C-49E3-A55C-737A774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3EE-E567-4C1A-9ECA-C8B01CC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2BA7-B931-42A0-9BAF-87750189A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ный час, посвященный 70-летней годовщине победы в Сталинградской  би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памятник"/>
          <p:cNvPicPr/>
          <p:nvPr/>
        </p:nvPicPr>
        <p:blipFill>
          <a:blip r:embed="rId1"/>
          <a:stretch/>
        </p:blipFill>
        <p:spPr>
          <a:xfrm>
            <a:off x="2627280" y="3141720"/>
            <a:ext cx="38052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атюш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867280" y="603576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ачало наступления Красной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паулюс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435640" y="587700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ленный фельдмаршал  Паулю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пленные_немц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6119640" y="6165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ленные нем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пленные_немцы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побе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обеда_под_сталинградом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793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вечный_ого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Родина_мать_памят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начало_войны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бомбардировка_города"/>
          <p:cNvPicPr/>
          <p:nvPr/>
        </p:nvPicPr>
        <p:blipFill>
          <a:blip r:embed="rId2"/>
          <a:stretch/>
        </p:blipFill>
        <p:spPr>
          <a:xfrm>
            <a:off x="208116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0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родина_мать"/>
          <p:cNvPicPr/>
          <p:nvPr/>
        </p:nvPicPr>
        <p:blipFill>
          <a:blip r:embed="rId1"/>
          <a:stretch/>
        </p:blipFill>
        <p:spPr>
          <a:xfrm>
            <a:off x="2195640" y="0"/>
            <a:ext cx="48132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священная_война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32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довоенный_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796000" y="616572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талинград до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уличный_б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156360" y="580536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Бои на улицах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сбитый_самолет"/>
          <p:cNvPicPr/>
          <p:nvPr/>
        </p:nvPicPr>
        <p:blipFill>
          <a:blip r:embed="rId1"/>
          <a:stretch/>
        </p:blipFill>
        <p:spPr>
          <a:xfrm>
            <a:off x="0" y="-11268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57340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битый немецкий само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фонтан_хоров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516720" y="5877000"/>
            <a:ext cx="26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Разрушенный 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волга_в_огн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551640" y="6165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олга в ог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мамаев_кург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443640" y="595008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Бой за Мамаев кур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9:16:39Z</dcterms:created>
  <dc:creator>User</dc:creator>
  <dc:description/>
  <dc:language>en-US</dc:language>
  <cp:lastModifiedBy>Неточка</cp:lastModifiedBy>
  <dcterms:modified xsi:type="dcterms:W3CDTF">2013-10-13T07:11:22Z</dcterms:modified>
  <cp:revision>15</cp:revision>
  <dc:subject/>
  <dc:title>Слайд 1</dc:title>
</cp:coreProperties>
</file>