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526F-6F4C-427E-821E-9AC2E5C2FC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3712-2083-49B2-AAFA-C15BB11637D8}" type="slidenum">
              <a:rPr b="0" lang="ru-RU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E10D-C860-4655-A088-81BA317C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E0A-28C8-42D2-BCEC-7345330F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EB6-BF87-487A-BFE5-35B611DA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97E-64E1-4F78-9E4E-4D2C158E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2EE1-C376-4403-8C14-EE380C50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AD81-8956-4DD0-ADF8-7ED8FEE3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575C-A78F-460D-98B6-86335B92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0600-5154-43A3-98E1-87E35119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DD46-9F2E-4068-86B9-506497A4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A174-B90A-4F01-B384-ECC99DED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A17D-A04E-43A3-8F59-8BB188B7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901C-3177-43D5-A4F9-43AF1755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E6A0-2282-4A10-A16B-81D84DF3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7476-0E76-41FE-8DEA-4C3F4A24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81AF-C579-4C19-8AD4-19201E0B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583B-C2BC-4D22-99C1-F113B871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7163-4400-4B68-89EA-E525A785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99E8-8892-4ECB-9F46-AD98AADC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261-E754-4E7F-A360-46FF36D6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7805-2C9A-422D-876A-CCA95008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96B-F099-4007-9BF9-8036ADED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7A0D-09D7-42AD-B417-8F9E86CC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E0C-C941-408C-B229-35139470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E95-9570-4132-9A49-1E5476E8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CB2D-3919-4C6E-81B3-47613350810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7A51-4C2A-42CF-93F2-6AB9E6993144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оя родословная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СОЛОВЬЁВА АРИНА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РОДОВОЕ ДЕРЕВО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Picture 3" descr="DSCN0923"/>
          <p:cNvPicPr/>
          <p:nvPr/>
        </p:nvPicPr>
        <p:blipFill>
          <a:blip r:embed="rId1"/>
          <a:stretch/>
        </p:blipFill>
        <p:spPr>
          <a:xfrm>
            <a:off x="1143000" y="186696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ОЯ СЕМЬЯ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-533880" y="228240"/>
            <a:ext cx="107442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Picture 4" descr="DSCN0924"/>
          <p:cNvPicPr/>
          <p:nvPr/>
        </p:nvPicPr>
        <p:blipFill>
          <a:blip r:embed="rId1"/>
          <a:stretch/>
        </p:blipFill>
        <p:spPr>
          <a:xfrm>
            <a:off x="990720" y="13795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ОЁ ИМЯ АРИША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ЗНАЧЕНИЕ - МИРНАЯ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ЛАНЕТА - ВЕНЕРА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ЦВЕТ – БЛЕДНО-ГОЛУБО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КАМЕНЬ – ОПАЛ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ХАРАКТЕР – СПОКОЙНАЯ, ДОБРАЯ, РЕШИТЕЛЬНАЯ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РОФЕССИЯ – ПЕДАГОГ, АДВОКАТ, ВРАЧ, ПСИХОЛОГ, ТАНЦОВЩИЦА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ЖИВОТНОЕ –СОВА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РАСТЕНИЕ – КАШТАН , ЛАНДЫШ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ОЯ ФАМИЛИЯ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СОЛОВЬЁВ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ФАМИЛИЯ ИМЕЕТ  РУССКОЕ БЕЛОРУСКОЕ ПРОИСХОЖДЕНИЕ, ЭТА ФАМИЛИЯ ОБРАЗОВОНА ОТ РОДА ЗАНЯТИЙ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ФАМИЛИЯ ПРОИЗОШЛА ОТ ЧЕЛОВЕКА, А НЕ ПТИЦ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Флаг и герб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0" name="Picture 4" descr="DSCN0926"/>
          <p:cNvPicPr/>
          <p:nvPr/>
        </p:nvPicPr>
        <p:blipFill>
          <a:blip r:embed="rId1"/>
          <a:stretch/>
        </p:blipFill>
        <p:spPr>
          <a:xfrm>
            <a:off x="1219320" y="1523880"/>
            <a:ext cx="64609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ЛЮБИМЫЕ ЗАНЯТИЯ СЕМЬИ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2" name="Picture 3" descr="D:\Ариша\DSCN0928.JPG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4" name="Picture 2" descr="D:\Ариша\DSCN0930.JPG"/>
          <p:cNvPicPr/>
          <p:nvPr/>
        </p:nvPicPr>
        <p:blipFill>
          <a:blip r:embed="rId1"/>
          <a:stretch/>
        </p:blipFill>
        <p:spPr>
          <a:xfrm>
            <a:off x="380880" y="1440"/>
            <a:ext cx="845820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2-05T14:52:3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