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6D8C-B4C2-4E9A-90FE-FEB57837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2CA8-39BA-4700-9550-C84FD75C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B7D-7AA8-4AE8-9E02-F4FB5181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9D4-4536-4A02-83CA-E4D78C77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6E21-9E0D-4C06-B255-D4BCAF86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4BED-7C7F-4DA0-8B3B-5F8E5F0A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B966-12B5-4C4E-AB94-38CD5FA3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4539-E4BB-4371-B3A2-C937528D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2CD4-2590-4899-A968-8E0772C8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74C5-9404-4915-927C-5E491F64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9973-4929-4CEB-BF6F-A1790090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5FC-E7B2-425A-8DC4-5C00414F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A326-DAD7-4413-A1A1-4F57E416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8612-0012-482D-A945-C7740CD4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AC44-BC42-4E38-9761-E8CBF273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BDD3-5BC0-4A68-AACF-85C6B5DC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6946-93A9-4E5D-961D-14C31916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B851-59AA-4F63-BCC1-F398F09E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A2F4-5E9A-44C5-BA26-A5ECD2B9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D0A-4516-4166-889E-7D860AF0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48DC-A229-404C-8ADD-F48C3FBE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5B44-A14F-4138-9474-FC96591A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3E42-93AC-4EE8-BAB6-AFC27D24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48CD-31C2-40A2-B4F5-0C20158F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67D3-BD6C-45AA-97BA-C05681C3B4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2DB2-70D4-4206-B985-4EE9496E11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«Будь здоров малыш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ологина Татьяна Серге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932360" y="2130480"/>
            <a:ext cx="4032360" cy="40240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035000" y="3068640"/>
            <a:ext cx="25066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Как вырасти здоровым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6327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жно ли избежать болезн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556000" y="2587680"/>
            <a:ext cx="540072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92000" y="764640"/>
            <a:ext cx="69944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mic"/>
              </a:rPr>
              <a:t>Как уберечься от микробов?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086280" cy="4400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43704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18920" y="2637000"/>
            <a:ext cx="68403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ажно ли правильно питаться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835280" y="2491920"/>
            <a:ext cx="396072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508720" y="4076640"/>
            <a:ext cx="2303280" cy="2303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835280" y="189000"/>
            <a:ext cx="2396880" cy="2421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68360" y="4005360"/>
            <a:ext cx="37432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Что такое  закаливание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чем надо ходить босико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012000" y="2565360"/>
            <a:ext cx="2274840" cy="3429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16000" y="2852640"/>
            <a:ext cx="425772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ак правильно одеваться на улицу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793116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924360" y="1628640"/>
            <a:ext cx="4516200" cy="33879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33494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585720" y="342720"/>
            <a:ext cx="78328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руппа общеразвивающей направленности 5-6 лет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676908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187280" y="2143080"/>
            <a:ext cx="705672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1T07:20:47Z</dcterms:created>
  <dc:creator>USER</dc:creator>
  <dc:description/>
  <dc:language>en-US</dc:language>
  <cp:lastModifiedBy>User</cp:lastModifiedBy>
  <dcterms:modified xsi:type="dcterms:W3CDTF">2013-10-13T20:24:54Z</dcterms:modified>
  <cp:revision>19</cp:revision>
  <dc:subject/>
  <dc:title>Будь здоров малыш</dc:title>
</cp:coreProperties>
</file>