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1E74-9754-4B91-85F4-40B4ACF6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330C-C1D4-4B66-9020-6CC8E39F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EEAD-DEDA-45CD-AA63-027BEE53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6C5A-3D44-4666-98AC-51EAF1E7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F6A5-F75E-44F2-AF5F-32F1B5D7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4FF8-83C6-465D-950C-E6EF917C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C50C-CBB7-4E01-B90C-4384CEDF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58C3-9C5B-4F67-9F3A-CA38ADC8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E035-6A73-4E54-98DD-D386206F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7E3B-AE18-4280-BB14-30108480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462B-28CF-492E-AB6D-0E6CE539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9165-A62D-4461-BDDF-BA3ABCF9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D372-83B2-44DD-90A6-D3AF3DE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72D4-5C1A-48D4-B854-CBE514CC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6F59-F4D3-4EE1-8C09-7A0C8276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9EDA-791C-4C7A-B7F9-C8596F6E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0299-D70E-461A-9491-A69CE094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8DED-9BC9-4BAC-8C3B-E8608D80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5F77-B765-4C75-845D-2DC6F21B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88AC-1411-4C81-BB49-A90EF51E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DF46-3FF7-4191-9809-C4E3608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A87D-9123-4A22-B534-2D526A4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EE04-250F-41F7-8585-66DD047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37DB-FD6C-444A-9477-7364D55C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2CD-1F2E-4289-A601-5ED97E036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DCEA-4F18-4496-B29E-D32050F34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661000"/>
            <a:ext cx="73850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886e0"/>
                </a:solidFill>
                <a:latin typeface="Arial"/>
              </a:rPr>
              <a:t>Автор: Бурдюг Илья, 3 Б класс</a:t>
            </a:r>
            <a:br>
              <a:rPr sz="2800"/>
            </a:br>
            <a:r>
              <a:rPr b="1" lang="ru-RU" sz="2800" spc="-1" strike="noStrike">
                <a:solidFill>
                  <a:srgbClr val="a886e0"/>
                </a:solidFill>
                <a:latin typeface="Arial"/>
              </a:rPr>
              <a:t> МБОУ г. Мурманска СОШ № 23</a:t>
            </a:r>
            <a:endParaRPr b="1" lang="en-US" sz="28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85920" y="142920"/>
            <a:ext cx="64864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МЫЛЬНАЯ ИСТОРИЯ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Рисунок 6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3690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Calibri"/>
              </a:rPr>
              <a:t>Мыловарение на Руси</a:t>
            </a:r>
            <a:endParaRPr b="1" lang="en-US" sz="4800" spc="-1" strike="noStrike">
              <a:solidFill>
                <a:srgbClr val="e5e5ff"/>
              </a:solidFill>
              <a:latin typeface="Calibri"/>
            </a:endParaRPr>
          </a:p>
        </p:txBody>
      </p:sp>
      <p:pic>
        <p:nvPicPr>
          <p:cNvPr id="130" name="Содержимое 4" descr="milo1.jpg"/>
          <p:cNvPicPr/>
          <p:nvPr/>
        </p:nvPicPr>
        <p:blipFill>
          <a:blip r:embed="rId1"/>
          <a:stretch/>
        </p:blipFill>
        <p:spPr>
          <a:xfrm>
            <a:off x="5500800" y="1500120"/>
            <a:ext cx="3416040" cy="49561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8"/>
          <p:cNvSpPr/>
          <p:nvPr/>
        </p:nvSpPr>
        <p:spPr>
          <a:xfrm>
            <a:off x="357120" y="17146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214200" y="1357200"/>
            <a:ext cx="5072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а Руси мыло появилось в 15 веке – его наши предки заимствовали у византийцев.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оизводить мыло на промышленном уровне стали при Петре Первом. Мыловаренные фабрики открылись в 18 ве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Однако многие хозяйки варили мыло сами, так как печи топились дровами, щёлочь делали сами, жир было не трудно достать – везде держали скотин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Рисунок 6" descr="rome-bath"/>
          <p:cNvPicPr/>
          <p:nvPr/>
        </p:nvPicPr>
        <p:blipFill>
          <a:blip r:embed="rId1"/>
          <a:stretch/>
        </p:blipFill>
        <p:spPr>
          <a:xfrm>
            <a:off x="285840" y="285840"/>
            <a:ext cx="3468600" cy="60008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егодня на прилавках магазинов можно встретить тысячи сортов твёрдого и жидкого мыла любых расцветок и форм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Многие увлекаются самостоятельным изготовлением мыла, превращая его в настоящее произведение искусства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Рисунок 7" descr="4adcb3a6df24"/>
          <p:cNvPicPr/>
          <p:nvPr/>
        </p:nvPicPr>
        <p:blipFill>
          <a:blip r:embed="rId1"/>
          <a:stretch/>
        </p:blipFill>
        <p:spPr>
          <a:xfrm>
            <a:off x="428760" y="142920"/>
            <a:ext cx="3071520" cy="235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bf49ed6953600e150f500a6c098_prev"/>
          <p:cNvPicPr/>
          <p:nvPr/>
        </p:nvPicPr>
        <p:blipFill>
          <a:blip r:embed="rId2"/>
          <a:stretch/>
        </p:blipFill>
        <p:spPr>
          <a:xfrm>
            <a:off x="428760" y="4643280"/>
            <a:ext cx="3046320" cy="200844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  <p:pic>
        <p:nvPicPr>
          <p:cNvPr id="142" name="Рисунок 9" descr=""/>
          <p:cNvPicPr/>
          <p:nvPr/>
        </p:nvPicPr>
        <p:blipFill>
          <a:blip r:embed="rId3"/>
          <a:stretch/>
        </p:blipFill>
        <p:spPr>
          <a:xfrm>
            <a:off x="357120" y="2500200"/>
            <a:ext cx="31431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alibri"/>
              </a:rPr>
              <a:t>Интересные факты о мыле:</a:t>
            </a: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Чем мыло старее, тем оно лучше. Оказывается, мыло должно «дозревать» - чем дольше оно лежит после производства, тем будет лучше пениться и эффективнее  очищать кожу при использован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амое дорогое в мире мыло стоит около 4 тысяч рублей за 100 граммов, в состав которого входят частицы чистого серебра и 4 разных коллагена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71680" y="214200"/>
            <a:ext cx="811512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Остатки мыла – очень полезная в хозяйстве вещь. Во-первых, их можно использовать в качестве портняжных мелков – они оставляют отличную линию на ткани и легко стираются. Во-вторых, обмылок может помочь, если  стал плохо застегиваться замок-молния: его нужно просто натереть по всей длине мылом и потом вытереть сухой салфеткой.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fb19"/>
                </a:solidFill>
                <a:latin typeface="Calibri"/>
              </a:rPr>
              <a:t>Формула мыла</a:t>
            </a: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pic>
        <p:nvPicPr>
          <p:cNvPr id="148" name="Picture 4" descr="1294121220_152046272_2---"/>
          <p:cNvPicPr/>
          <p:nvPr/>
        </p:nvPicPr>
        <p:blipFill>
          <a:blip r:embed="rId1"/>
          <a:stretch/>
        </p:blipFill>
        <p:spPr>
          <a:xfrm>
            <a:off x="1763640" y="2781360"/>
            <a:ext cx="5761080" cy="384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9" name="Line 6"/>
          <p:cNvSpPr/>
          <p:nvPr/>
        </p:nvSpPr>
        <p:spPr>
          <a:xfrm flipH="1">
            <a:off x="1763640" y="1052640"/>
            <a:ext cx="86544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443640" y="1052640"/>
            <a:ext cx="8650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24000" y="112068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ff21"/>
                </a:solidFill>
                <a:latin typeface="Garamond"/>
              </a:rPr>
              <a:t>твёрдого мыл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 C17H35COO</a:t>
            </a:r>
            <a:r>
              <a:rPr b="0" lang="en-US" sz="3200" spc="-1" strike="noStrike">
                <a:solidFill>
                  <a:srgbClr val="ebfb19"/>
                </a:solidFill>
                <a:latin typeface="Garamond"/>
              </a:rPr>
              <a:t>N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508720" y="1411920"/>
            <a:ext cx="32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ff21"/>
                </a:solidFill>
                <a:latin typeface="Garamond"/>
              </a:rPr>
              <a:t>жидког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— C17H35COO</a:t>
            </a:r>
            <a:r>
              <a:rPr b="0" lang="en-GB" sz="3200" spc="-1" strike="noStrike">
                <a:solidFill>
                  <a:srgbClr val="ebfb19"/>
                </a:solidFill>
                <a:latin typeface="Garamond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alibri"/>
              </a:rPr>
              <a:t>Виды мыла</a:t>
            </a: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507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Хозяйственное                                    Самодельно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Жидкое        Туалетно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372360" y="333360"/>
            <a:ext cx="1800000" cy="136836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AutoShape 5"/>
          <p:cNvSpPr/>
          <p:nvPr/>
        </p:nvSpPr>
        <p:spPr>
          <a:xfrm flipH="1">
            <a:off x="1187280" y="333360"/>
            <a:ext cx="1657440" cy="1440000"/>
          </a:xfrm>
          <a:custGeom>
            <a:avLst/>
            <a:gdLst>
              <a:gd name="textAreaLeft" fmla="*/ 242640 w 1657440"/>
              <a:gd name="textAreaRight" fmla="*/ 1414800 w 165744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5286240" y="1357200"/>
            <a:ext cx="1079640" cy="1571760"/>
          </a:xfrm>
          <a:prstGeom prst="downArrow">
            <a:avLst>
              <a:gd name="adj1" fmla="val 50000"/>
              <a:gd name="adj2" fmla="val 3165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7" descr="6"/>
          <p:cNvPicPr/>
          <p:nvPr/>
        </p:nvPicPr>
        <p:blipFill>
          <a:blip r:embed="rId1"/>
          <a:stretch/>
        </p:blipFill>
        <p:spPr>
          <a:xfrm>
            <a:off x="6786720" y="2214720"/>
            <a:ext cx="1923840" cy="142848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  <p:pic>
        <p:nvPicPr>
          <p:cNvPr id="159" name="Picture 8" descr="bf49ed6953600e150f500a6c098_prev"/>
          <p:cNvPicPr/>
          <p:nvPr/>
        </p:nvPicPr>
        <p:blipFill>
          <a:blip r:embed="rId2"/>
          <a:stretch/>
        </p:blipFill>
        <p:spPr>
          <a:xfrm>
            <a:off x="214200" y="2214720"/>
            <a:ext cx="1951200" cy="128556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  <p:pic>
        <p:nvPicPr>
          <p:cNvPr id="160" name="Picture 9" descr="788160911"/>
          <p:cNvPicPr/>
          <p:nvPr/>
        </p:nvPicPr>
        <p:blipFill>
          <a:blip r:embed="rId3"/>
          <a:stretch/>
        </p:blipFill>
        <p:spPr>
          <a:xfrm>
            <a:off x="2214720" y="3643200"/>
            <a:ext cx="1935000" cy="242892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  <p:sp>
        <p:nvSpPr>
          <p:cNvPr id="161" name="AutoShape 6"/>
          <p:cNvSpPr/>
          <p:nvPr/>
        </p:nvSpPr>
        <p:spPr>
          <a:xfrm>
            <a:off x="3214800" y="1285920"/>
            <a:ext cx="1079280" cy="1571760"/>
          </a:xfrm>
          <a:prstGeom prst="downArrow">
            <a:avLst>
              <a:gd name="adj1" fmla="val 50000"/>
              <a:gd name="adj2" fmla="val 3166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Рисунок 13" descr="4adcb3a6df24"/>
          <p:cNvPicPr/>
          <p:nvPr/>
        </p:nvPicPr>
        <p:blipFill>
          <a:blip r:embed="rId4"/>
          <a:stretch/>
        </p:blipFill>
        <p:spPr>
          <a:xfrm>
            <a:off x="4714920" y="3571920"/>
            <a:ext cx="19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СПАСИБО  ЗА ВНИМАНИЕ</a:t>
            </a: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Calibri"/>
              </a:rPr>
              <a:t>Мыло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—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жидкий или твёрдый продукт,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2228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получаемый соединением жиров и щёлочей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076720" y="252864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95280" y="5546520"/>
            <a:ext cx="37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Рисунок 8" descr=""/>
          <p:cNvPicPr/>
          <p:nvPr/>
        </p:nvPicPr>
        <p:blipFill>
          <a:blip r:embed="rId1"/>
          <a:stretch/>
        </p:blipFill>
        <p:spPr>
          <a:xfrm>
            <a:off x="214200" y="3571920"/>
            <a:ext cx="4429080" cy="28573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9" descr=""/>
          <p:cNvPicPr/>
          <p:nvPr/>
        </p:nvPicPr>
        <p:blipFill>
          <a:blip r:embed="rId2"/>
          <a:stretch/>
        </p:blipFill>
        <p:spPr>
          <a:xfrm>
            <a:off x="4929120" y="3643200"/>
            <a:ext cx="3925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alibri"/>
              </a:rPr>
              <a:t>Используется как:</a:t>
            </a: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9680" y="1143000"/>
            <a:ext cx="3995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косметическое средство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 — для очищения и ухода за коже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(туалетное мыло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0" y="1214280"/>
            <a:ext cx="4114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средство бытовой химии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 — моющее средств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(хозяйственное мыло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Рисунок 6" descr="b50dd1c7-9db3-11de-b2c5-001cc011426b"/>
          <p:cNvPicPr/>
          <p:nvPr/>
        </p:nvPicPr>
        <p:blipFill>
          <a:blip r:embed="rId1"/>
          <a:stretch/>
        </p:blipFill>
        <p:spPr>
          <a:xfrm>
            <a:off x="4929120" y="4357800"/>
            <a:ext cx="3571920" cy="2071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12" name="Рисунок 7" descr=""/>
          <p:cNvPicPr/>
          <p:nvPr/>
        </p:nvPicPr>
        <p:blipFill>
          <a:blip r:embed="rId2"/>
          <a:stretch/>
        </p:blipFill>
        <p:spPr>
          <a:xfrm>
            <a:off x="642960" y="4286160"/>
            <a:ext cx="36432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Calibri"/>
              </a:rPr>
              <a:t>Гора Сапо. Река Тибр.</a:t>
            </a:r>
            <a:endParaRPr b="1" lang="en-US" sz="4800" spc="-1" strike="noStrike">
              <a:solidFill>
                <a:srgbClr val="e5e5ff"/>
              </a:solidFill>
              <a:latin typeface="Calibri"/>
            </a:endParaRPr>
          </a:p>
        </p:txBody>
      </p:sp>
      <p:pic>
        <p:nvPicPr>
          <p:cNvPr id="114" name="Содержимое 4" descr="сапо.png"/>
          <p:cNvPicPr/>
          <p:nvPr/>
        </p:nvPicPr>
        <p:blipFill>
          <a:blip r:embed="rId1"/>
          <a:stretch/>
        </p:blipFill>
        <p:spPr>
          <a:xfrm>
            <a:off x="642960" y="1571760"/>
            <a:ext cx="800100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9680" y="571320"/>
            <a:ext cx="8186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вое название мыло получило от древнеримской горы Сапо. Когда-то на этой горе древние римляне совершали свои жертвоприношения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аму же гору Сапо можно считать местом производства натурального мыла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Рисунок 8" descr="http://www.randrs.ru/uploads/photos/micro/%5b1%5d_5_Aug_11_%5b2%5d_16_Aug_12/59_96294.jpg"/>
          <p:cNvPicPr/>
          <p:nvPr/>
        </p:nvPicPr>
        <p:blipFill>
          <a:blip r:embed="rId1"/>
          <a:stretch/>
        </p:blipFill>
        <p:spPr>
          <a:xfrm>
            <a:off x="7143840" y="4500720"/>
            <a:ext cx="1785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285480"/>
            <a:ext cx="79722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Происходило это следующим образом.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На горе после сжигания жертвы скапливался жир животного, который смешивался с золой от костра. Потоки дождя смывали эту массу в реку Тибр – место стирки белья. Со временем жители заметили, что при помощи смеси жира и золы белье лучше отстирывалось.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Так появилось мыло.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Рисунок 13" descr="1280588153_1267074196_shumer2"/>
          <p:cNvPicPr/>
          <p:nvPr/>
        </p:nvPicPr>
        <p:blipFill>
          <a:blip r:embed="rId1"/>
          <a:stretch/>
        </p:blipFill>
        <p:spPr>
          <a:xfrm>
            <a:off x="7429680" y="4429080"/>
            <a:ext cx="1500120" cy="21430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356760"/>
            <a:ext cx="81151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 том виде, в котором мы знаем мыло сейчас, оно появилось только в 8 веке нашей эры – его изобрели арабы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607212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2960" y="285480"/>
            <a:ext cx="80438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Первое европейское мыло было создано в 13 веке в Венеции. Оно долгое время считалось медицинским средством и использовалось для обмывания больных проказой. 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Здоровые же люди продолжали пользоваться глиной и золой. Тем более в то время за чистотой не следили даже представители высоких сословий, не говоря уже о простолюдинах.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2560" y="642600"/>
            <a:ext cx="81867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Постепенно ценность гигиены в Европе возросла, чему немало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способствовали рыцари, привозившие дамам своего сердца из походов 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ароматные мыльные шарики. Они были очень оригинально оформлены и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украшались  лилиями, полумесяцами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и другими  простыми символами. 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Рисунок 3" descr="Картинки рыцарей"/>
          <p:cNvPicPr/>
          <p:nvPr/>
        </p:nvPicPr>
        <p:blipFill>
          <a:blip r:embed="rId1"/>
          <a:stretch/>
        </p:blipFill>
        <p:spPr>
          <a:xfrm>
            <a:off x="7786800" y="4286160"/>
            <a:ext cx="1143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0:09:33Z</dcterms:created>
  <dc:creator>User</dc:creator>
  <dc:description/>
  <dc:language>en-US</dc:language>
  <cp:lastModifiedBy>user</cp:lastModifiedBy>
  <dcterms:modified xsi:type="dcterms:W3CDTF">2013-09-25T17:38:01Z</dcterms:modified>
  <cp:revision>44</cp:revision>
  <dc:subject/>
  <dc:title>МЫЛО</dc:title>
</cp:coreProperties>
</file>