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E94-F9CD-4F41-BC46-33B95144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F46-4284-4392-96E5-81F3465A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601-E36F-4EE2-9A54-42387F15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C3A-37D7-4C4E-8F14-4EDDC1E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3AA8-A833-416B-ACC8-199734C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8C76-1BC8-496E-BDE5-E7F371A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F840-A745-44A2-9597-BEBEE5A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CCC-4605-466D-B924-B91C793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E3BB-44D7-43EE-A725-B21CD367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596C-F3AA-4480-9F05-ED6F356B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0ED-A989-4970-880F-8158A2FC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956-3829-4DBC-B275-B402467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1AE7-C495-4B82-849C-2CFFAF73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FD4A-21C9-4835-9130-01B14B2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9CEF-28C4-4B6F-B433-62BA9A0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8DB-9471-4497-93FE-B662A48A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C9ED-D863-4DC2-A8D0-0B457356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70C-3A1B-489F-81E1-894592C7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C5F-7FF6-4925-BB03-8024888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CF0-0525-49A9-B4CE-7990AFA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C30-AB59-4A87-9EEF-2CE65623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BBD-0242-4F0C-A2E6-3E3DC54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3DB-4C0C-4D5F-90F2-EC1F4F7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35D-5767-4519-BF1A-567ABBD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F58A-0174-41BE-A756-6B301708C7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655-3FFE-4AA7-A29B-81B40CE141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50920" y="254880"/>
            <a:ext cx="864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Л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о из фундаментальных понятий этики, которое обозначает нравственно аргументированное принуждение к поступкам; нравственную необходимость, выступающую в качестве субъективного принципа поведения.  </a:t>
            </a:r>
            <a:r>
              <a:rPr b="0" i="1" lang="ru-RU" sz="1800" spc="-1" strike="noStrike">
                <a:solidFill>
                  <a:srgbClr val="ffcc00"/>
                </a:solidFill>
                <a:latin typeface="Arial"/>
              </a:rPr>
              <a:t>Философская энциклопе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Л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- все должное, что должно исполнить, обязанность. Общий долг человека вмещает долг его к Богу, долг гражданина и долг семьянина.  </a:t>
            </a:r>
            <a:r>
              <a:rPr b="0" i="1" lang="ru-RU" sz="1800" spc="-1" strike="noStrike">
                <a:solidFill>
                  <a:srgbClr val="ffcc00"/>
                </a:solidFill>
                <a:latin typeface="Arial"/>
              </a:rPr>
              <a:t>Толковый словарь Д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Л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- категория этики, нравственные обязанности человека, выполняемые из побуждений совести.  </a:t>
            </a:r>
            <a:r>
              <a:rPr b="0" i="1" lang="ru-RU" sz="1800" spc="-1" strike="noStrike">
                <a:solidFill>
                  <a:srgbClr val="ffcc00"/>
                </a:solidFill>
                <a:latin typeface="Arial"/>
              </a:rPr>
              <a:t>Энциклопедиче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Л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- в понятиях Св. Руси твердая обязанность человека перед Богом, Царем, государством, обществом, семьей, родственниками, друзьями. Долг свой человек обязан исполнять не формально, а старательно и с любовью.  Исполнить свой долг считалось делом чести и достоинства коренного русского человека. Нарушившего свой долг презирали. </a:t>
            </a:r>
            <a:r>
              <a:rPr b="0" i="1" lang="ru-RU" sz="1800" spc="-1" strike="noStrike">
                <a:solidFill>
                  <a:srgbClr val="ffcc00"/>
                </a:solidFill>
                <a:latin typeface="Arial"/>
              </a:rPr>
              <a:t>Русская ис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Л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- этическое понятие, которое обозначает нравственно аргументированное принуждение к поступкам; нравственную необходимость, фиксированную в качестве субъективного принципа поведения. </a:t>
            </a:r>
            <a:r>
              <a:rPr b="0" i="1" lang="ru-RU" sz="1800" spc="-1" strike="noStrike">
                <a:solidFill>
                  <a:srgbClr val="ffcc00"/>
                </a:solidFill>
                <a:latin typeface="Arial"/>
              </a:rPr>
              <a:t>Педагогический терминологиче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20:18:11Z</dcterms:created>
  <dc:creator>User</dc:creator>
  <dc:description/>
  <dc:language>en-US</dc:language>
  <cp:lastModifiedBy>User</cp:lastModifiedBy>
  <dcterms:modified xsi:type="dcterms:W3CDTF">2012-12-05T20:27:14Z</dcterms:modified>
  <cp:revision>1</cp:revision>
  <dc:subject/>
  <dc:title>Слайд 1</dc:title>
</cp:coreProperties>
</file>