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wind.wav" ContentType="audio/x-wav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69C2-6553-476A-9536-B30D9F0DC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C312-3894-4E61-B2F0-4B2F9F58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E5A3-0401-41C8-B821-AAFB70358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00FE-EF49-42EB-BF85-0B75C5494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AF2E-B258-45B9-A8F9-A2D90F998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6DF3-6409-4656-8F24-718F0026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D2E5-B90B-4340-B09C-BAC9B9FE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910C-9C5D-4200-8CB7-915E41C7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AEB5-998E-4DB6-9950-DC500B93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411C-463D-4DA7-BD02-B5DAE5CF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1E8E-76B1-4F60-9231-793B40AD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451D-68B3-4BDA-A7E7-4AFDF846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4A19-15A8-4839-826A-4A1A0723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69E4-75DE-4377-AADC-44847E22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BF9D-A9E0-4AE9-997C-75FE1EDC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01CB-C9EF-495F-9998-ED68CCB80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A16E-8FDB-4647-AF97-27EEFC518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7A3B-5798-4BF0-98F0-62528A69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DAF8-8364-4B25-BD2B-ACB2182E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F7C3-3FC7-4F99-A66B-0E46F8D1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D321-ED29-4191-A3FE-F1018845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AF20-C71F-474D-9D84-1DE8B9CA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5261-4347-42C2-9C02-5F5D76C2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4F73-7C00-4480-83FC-F7CC4575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927E-1377-4E79-B751-2EE395F9D45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119B-0CBC-4C33-B706-7E248570F789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6.wmf"/><Relationship Id="rId7" Type="http://schemas.openxmlformats.org/officeDocument/2006/relationships/audio" Target="../media/wind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audio" Target="../media/wind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wmf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wmf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342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800000"/>
                </a:solidFill>
                <a:latin typeface="Arial"/>
              </a:rPr>
              <a:t> </a:t>
            </a:r>
            <a:br>
              <a:rPr sz="5400"/>
            </a:br>
            <a:r>
              <a:rPr b="1" lang="uk-UA" sz="5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800000"/>
                </a:solidFill>
                <a:latin typeface="Arial"/>
              </a:rPr>
              <a:t>Вводный урок по футболу</a:t>
            </a:r>
            <a:r>
              <a:rPr b="1" lang="uk-UA" sz="66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6600"/>
            </a:b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1" name="Picture 9" descr="MPj04280140000[1]"/>
          <p:cNvPicPr/>
          <p:nvPr/>
        </p:nvPicPr>
        <p:blipFill>
          <a:blip r:embed="rId1"/>
          <a:stretch/>
        </p:blipFill>
        <p:spPr>
          <a:xfrm>
            <a:off x="2209680" y="3657600"/>
            <a:ext cx="46483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33720" y="685440"/>
            <a:ext cx="68580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Инструкция</a:t>
            </a:r>
            <a:br>
              <a:rPr sz="2800"/>
            </a:b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по правилам безопасности на уроках по футболу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1. Общие полож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Если не выполнять правила поведения и безопасности на уроках физкультуры оборудование и инвентарь могут стать причиной тяжелых травм и увечий. Особенно распространенной причиной травмирования является стремление слабых учащихся не уступать своим более сильным и ловким сверстниками. Только знание и выполнение учащимися правил поведения и безопасности снижает  опасность занятий физкультурой не только на спортивных площадках, но и в свободное от уроков врем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6" descr="MCj04297910000[1]"/>
          <p:cNvPicPr/>
          <p:nvPr/>
        </p:nvPicPr>
        <p:blipFill>
          <a:blip r:embed="rId2"/>
          <a:stretch/>
        </p:blipFill>
        <p:spPr>
          <a:xfrm>
            <a:off x="0" y="0"/>
            <a:ext cx="2209680" cy="194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68580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Требования безопасности перед началом урока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В спортивный зал или на площадку входить только по разрешению учителя или вместе с ни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К занятиям допускаются учащиеся, которые прошли медицинский осмотр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К занятиям допускаются учащиеся в спортивной форме (белая футболка, шорты, носки, кроссовки), без часов, сережек, цепочек и других украшений, в холодную погоду – спортивный костю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В раздевалке, в спортивном зале и на спортивной площадке соблюдать чистоту и порядок. Осторожно относиться к школьному имуществ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Не оставлять в раздевалке деньги и ценные вещ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4" descr="MCj04077240000[1]"/>
          <p:cNvPicPr/>
          <p:nvPr/>
        </p:nvPicPr>
        <p:blipFill>
          <a:blip r:embed="rId6"/>
          <a:stretch/>
        </p:blipFill>
        <p:spPr>
          <a:xfrm>
            <a:off x="0" y="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Требования безопасности во время проведения уроков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еред началом каждого урока обязательно делать разминк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облюдать правила игры и спортивное поведени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Без разрешения учителя не покидать спортивный зал или площадк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Учащиеся не должны опаздывать на уроки и пропускать их без уважительной причины, своевременно и точно выполнять распоряжения, указания и команды учителя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Учащиеся должны соблюдать дисциплину и организованность на уроках, во время выполнения товарищем упражнений не отвлекать его от работы, не заниматься посторонними делами на уроках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бязательно соблюдать правила личной гигиены: спортивная форма должна быть чистой, волосы аккуратно собраны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е перегревать и не переохлаждать свой организ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нимательно следить за своим самочувствием, если во время выполнения упражнения твое состояние ухудшилось, нужно немедленно сообщить учителю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05120" y="158400"/>
            <a:ext cx="678168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Требования безопасности после окончания урока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сле того, как учитель даст разрешение на выход из зала или с площадки, учащиеся должны организовано выйти в раздевалку, где необходимо обязательно переодеться, переобутьс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сли ученик плохо себя чувствует, то он должен обязательно сообщить учителю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4" descr="MCj04110650000[1]"/>
          <p:cNvPicPr/>
          <p:nvPr/>
        </p:nvPicPr>
        <p:blipFill>
          <a:blip r:embed="rId3"/>
          <a:stretch/>
        </p:blipFill>
        <p:spPr>
          <a:xfrm>
            <a:off x="0" y="0"/>
            <a:ext cx="2209680" cy="211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52480" y="158400"/>
            <a:ext cx="693432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Требования безопасности в случае аварийных ситуаций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случае возникновения аварийной ситуации (взрыв, пожар, распространение отравляющих веществ), дети должны обязательно сообщить об этом учителю, под его руководством организовано выйти в безопасное место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читель сообщает об этом администрации школы и аварийным службам по соответствующим телефона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читель обязан оказать первую помощь пострадавшим, в случае необходимости вызвать скорую медицинскую помощ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Picture 4" descr="MCj04041150000[1]"/>
          <p:cNvPicPr/>
          <p:nvPr/>
        </p:nvPicPr>
        <p:blipFill>
          <a:blip r:embed="rId4"/>
          <a:stretch/>
        </p:blipFill>
        <p:spPr>
          <a:xfrm>
            <a:off x="0" y="0"/>
            <a:ext cx="1600200" cy="1582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ша</dc:creator>
  <dc:description/>
  <dc:language>en-US</dc:language>
  <cp:lastModifiedBy>Наташа</cp:lastModifiedBy>
  <dcterms:modified xsi:type="dcterms:W3CDTF">2013-09-29T12:29:4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