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92F9-A99B-46CF-8DD3-7953BDCA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96B8-4549-4E1B-953C-E5FA07A2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35A8-9465-4FAC-9D02-840B38FF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AFAA-90EF-45D2-9244-570BCDA6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8039-E7E9-4521-93AB-648DE461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4037-20B0-4EE2-A089-DF8CACEB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1A94-347D-4288-B27B-4EDB78CC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F662-D214-4E73-8D99-6628149C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6A8A-0032-439B-A367-0050151C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829C-D714-42F2-8D15-B8CF7BD5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028D-AA31-469E-B75E-B6870C71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E88E-D980-45D5-AB0D-510F872F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82DA-6244-4BB1-849B-FC873EF0FA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57.radikal.ru/i158/1006/bd/e5705df57b20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krysula.narod.ru/vist/228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nterage.org.ua/uploads/posts/2010-02/1266595705_interage1-canada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Знакомьтесь! Это мы!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48000" y="1600200"/>
            <a:ext cx="39956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У газеты – день рождения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шей газе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овно год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редставляем юбилейный десятый выпуск издания «Школьная Вселенна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75d1"/>
                </a:solidFill>
                <a:latin typeface="Arial"/>
              </a:rPr>
              <a:t>Главный редактор-Петракевич Е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P1030743"/>
          <p:cNvPicPr/>
          <p:nvPr/>
        </p:nvPicPr>
        <p:blipFill>
          <a:blip r:embed="rId1"/>
          <a:srcRect l="2715" t="0" r="11153" b="13121"/>
          <a:stretch/>
        </p:blipFill>
        <p:spPr>
          <a:xfrm>
            <a:off x="0" y="1557360"/>
            <a:ext cx="5148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спех интервью определяется именно вступительной беседо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щение уважительное, не фамильяр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ая информация о себе (имя, кого представляешь:  электронную газету, радио, стенгазету, сайт,  музей и.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яснение, где и как будет использована данн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Форма построения интервью прос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одная часть с представлением героя и тем фактом, который заставил нас обратиться к этому человеку; основная часть с вопросами и ответами; заключение с итогами бесе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еречень вопросов для интервью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964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е вопросы- это разминка. Они не должны быть сложными, чтобы не напугать сразу человека. Когда переходите к основной части, можно использовать фразу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Теперь позвольте перейти к более сложным вопроса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нчание беседы опять должно состоять из несложных вопросов. Завершить беседу можно  приятным для человека вопросом, например о его любимом животном, или о увлечении, или о планах на будуще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Помните!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вью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олжен вызва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спонден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искренность, при этом не нарушить его душевный покой. Вопросы не должны вызвать отрицательных эмоций у опрашиваемых, не должны освежить печальные воспоминания, ранить его достои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Основные законы жанра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вьюер обязан защитить опрашиваемого от возможных психологических трав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вьюер несёт ответственность за правильное цитирование материа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вьюер должен вести информативный диалог, задавая вопросы, стимулирующие более широкое освещение 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picture-32"/>
          <p:cNvPicPr/>
          <p:nvPr/>
        </p:nvPicPr>
        <p:blipFill>
          <a:blip r:embed="rId1"/>
          <a:stretch/>
        </p:blipFill>
        <p:spPr>
          <a:xfrm>
            <a:off x="5133960" y="836640"/>
            <a:ext cx="4010040" cy="29145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авила, по которым будем брать интер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619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журналисту необходимо представиться респонденту. Объяснить смысл работы.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должны быть понятные, точные. Надо использовать интересные красивы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еребивать друг д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шать собеседника, чтобы не повторяться и не задать один вопрос два р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агодарить за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отреть друг на друга при бесе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оро в школ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ноября – в школе акция «Урок успеха. Знаешь – научи!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гости к школьникам придут выпускники разных лет, ставшие успешными людь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И должны освещать это собы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Экспресс-опро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ресс-опрос – сбор мнений по одной теме среди людей разного возраста, разных профессий, разного социального полож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ресс-опросы отраж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ественное мн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ое возник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реакция на какое-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ытие или проблем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222885190_C03-33"/>
          <p:cNvPicPr/>
          <p:nvPr/>
        </p:nvPicPr>
        <p:blipFill>
          <a:blip r:embed="rId1"/>
          <a:stretch/>
        </p:blipFill>
        <p:spPr>
          <a:xfrm>
            <a:off x="6286680" y="4191120"/>
            <a:ext cx="285732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 заняться дома? Продумать интервью следующего номе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: «Мобильные телефоны в школ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: продумать вопросы для  опроса учителей, обучающихся, родителей по теме разгов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Жанры журнали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  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информ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короткое сообщение о событии, отвечающее, как минимум, на 3 вопроса: что, где когда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   •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репорта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то же, что и обычная информация, но написанная очевидцем события, а потому в несколько раз длиннее; может дополняться фотография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  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зарис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аленький рассказ о человеке, группе, классе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   •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очер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большой рассказ о человек, группе, классе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  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• стать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известный журналист А. Аграновский сказал однажды: «Мужское дело — статья». Скорее всего, он имел в виду, что этот жанр требует не только описания фактов, но и умения анализировать эти факты, делать выводы, находить варианты решения поднятых в статье проблем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   •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интервь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вопрос — ответ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   •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фельето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мешной рассказ о человеке, группе, классе, в котором автор бичует недостатки, выкорчевывает безобразия и клеймит поро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МЕТОДЫ СБОРА ИНФОРМА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наблюд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Лучше один раз увидеть, чем десять раз услышать. Даже если ты решишь, что зрение тебя подвело, или ты не поверишь собственным глазам, всегда есть еще два способа проверить информацию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интервью или бесе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участниками события, компетентными людьми. Сразу троим не померещится! Поэтому "пока блины на сковородке, больше вопросов повару". Иными словами, куй железо, пока горячо. Спрашивай всех и вся, кого удалось поймать в эпицентре событ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работа с документ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казами, актами, законами, фотографиями, патентами на научные открытия, другими публикациям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Жанр журналистики-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интервью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Картинка 11 из 259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29080"/>
            <a:ext cx="6350040" cy="4228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Картинка 3 из 2598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0"/>
            <a:ext cx="4500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Что такое интервью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32000" y="836280"/>
            <a:ext cx="421164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разговор, беседа корреспондента или журналиста с каким-нибудь человеком, для того, чтобы узнать что-то интерес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Картинка 26 из 25980">
            <a:hlinkClick r:id="rId1"/>
          </p:cNvPr>
          <p:cNvPicPr/>
          <p:nvPr/>
        </p:nvPicPr>
        <p:blipFill>
          <a:blip r:embed="rId2"/>
          <a:stretch/>
        </p:blipFill>
        <p:spPr>
          <a:xfrm rot="20849400">
            <a:off x="0" y="1412640"/>
            <a:ext cx="45306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Заглянем в словар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Интервьюер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(англ.).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ицо, собирающее сведения путем  интервью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Источник: Словарь иностранных слов, вошедших в состав русского языка . Чудинов А.Н., 191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НТЕРВЬЮ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англ. iterviewer]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ицо, которое берет ИНТЕРВЬЮ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Источник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арь иностранных слов русского язы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iCA2K8PWU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2924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Заглянем в словар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РЕСПОНДЕ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англ. respond - отвечать, лат. responsum - ответ) -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частник социологического опроса, который отвечает на вопросы анкеты или интервью и является источником устной или письменной информаци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 rot="674400">
            <a:off x="7524720" y="4581360"/>
            <a:ext cx="1440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кусство этого метода состоит в том, чтобы уметь и зн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о чём спрашива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ак спрашива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ого спрашива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какие вопросы задава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где вести бесед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как обрабатывать данны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Обычно интервью строится поэтап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Установление контак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этого этапа- вызвать интерес к беседе, убедить людей, как важно их мнение для газеты, радио, сайта и.т.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00:54:38Z</dcterms:created>
  <dc:creator>Петракевич Екатерина</dc:creator>
  <dc:description/>
  <dc:language>en-US</dc:language>
  <cp:lastModifiedBy>1</cp:lastModifiedBy>
  <dcterms:modified xsi:type="dcterms:W3CDTF">2013-10-11T08:51:13Z</dcterms:modified>
  <cp:revision>14</cp:revision>
  <dc:subject/>
  <dc:title>интервью</dc:title>
</cp:coreProperties>
</file>