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C88-E44C-4D73-A344-A99C82A6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838-743C-4DA2-99A2-C2A6F2EA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207-9647-4683-A096-F2C222E5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69C-180E-4D9A-B837-3AA8E986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ADF9-23B4-4020-8F88-5E345EB4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8F8B-0562-4D37-84DC-15908314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7812-3705-43F6-BAA1-C03DD853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03F1-A8E1-46D2-A545-80FFA0A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C03D-2EC3-4981-B9D8-DFD96DEA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DA8C-2CAB-4EB6-BEA2-EE95E053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A3F9-9D27-4525-8A21-CA8672E2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BF4-D48F-4F92-9D9B-BC0C5281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5781-1174-449B-B30A-FA9F92C3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174F-3871-45C3-BF5E-73D9886C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538F-E4E3-4618-98B1-350E57E4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4904-A0EA-447F-BF01-1B73F45A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3EBC-0090-4D09-9283-3C0DA140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06D-8122-4B21-8871-DC7FD4C4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CB3-5117-47FC-9D07-2A0B8B48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62A-D7DE-4CDE-A798-E7C20CE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436-3DE4-4FB3-9386-4D4078FB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F57-243E-45BC-AF71-F35C911E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361-A502-402E-A138-EEBA699C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07E-8209-4F50-91EF-F130B03C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894D-A79B-4921-AC0C-4EA45A04B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F03C-FCB2-4796-B515-678F1136D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Погода в «доме»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960720" cy="331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3192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Распределить слова на группы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я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л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елый гри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емля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Яблон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1736 -0.23075 E">
                                      <p:cBhvr>
                                        <p:cTn id="32" dur="2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795 -0.25179 E">
                                      <p:cBhvr>
                                        <p:cTn id="36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7 -0.08393 E">
                                      <p:cBhvr>
                                        <p:cTn id="40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33871 0.31468 E">
                                      <p:cBhvr>
                                        <p:cTn id="44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59280" y="407664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159000" cy="2203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916360" cy="2194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843280" y="907920"/>
            <a:ext cx="324144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52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Гри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6720" y="2775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Строение гриба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3821040" cy="607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5345640" y="169560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шляп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348000" y="1125000"/>
            <a:ext cx="1728720" cy="57492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01280" y="335124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ож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987280" y="1989000"/>
            <a:ext cx="2376360" cy="11527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7640" y="5295960"/>
            <a:ext cx="19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риб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195280" y="5661000"/>
            <a:ext cx="3097080" cy="43200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716000" y="4437000"/>
            <a:ext cx="41101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плесневый гри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дрожж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537080" cy="4608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195640" y="189000"/>
            <a:ext cx="496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Разнообразие гриб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dd1"/>
                </a:solidFill>
                <a:latin typeface="Times New Roman"/>
              </a:rPr>
              <a:t>Моя фантазия</a:t>
            </a:r>
            <a:endParaRPr b="1" lang="en-US" sz="6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16000" y="1643040"/>
            <a:ext cx="712800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0:53:59Z</dcterms:created>
  <dc:creator>User</dc:creator>
  <dc:description/>
  <dc:language>en-US</dc:language>
  <cp:lastModifiedBy>User</cp:lastModifiedBy>
  <dcterms:modified xsi:type="dcterms:W3CDTF">2007-10-10T12:39:34Z</dcterms:modified>
  <cp:revision>7</cp:revision>
  <dc:subject/>
  <dc:title>Погода в «доме»</dc:title>
</cp:coreProperties>
</file>