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49E-04FA-43DD-A7C0-BE529033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132-E6CF-4988-945B-C6F74DDB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3ED-1D46-4C1E-94B2-9AA0C45F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4CE-A044-4762-AD5E-D3B80E01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671-7ED4-41F8-B7CB-A01C36D4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142-3E8D-4FCD-B8E1-C05E77CE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EF4-9992-46E0-90D0-E12E71C7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C36-3A5F-4BFE-B52C-36447BFA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7C8-3120-418A-B39C-6CBD821C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002-0B37-45CA-805B-795EC87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B4D-1498-473F-98D0-6920B31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660-A36E-4C24-9EE8-754052C4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95E0-892F-4F3A-8C05-48BF50D6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333360"/>
            <a:ext cx="792000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Интерактивные методы обучени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1197000"/>
            <a:ext cx="6624720" cy="668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уроках экономики"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87640" y="5516640"/>
            <a:ext cx="33894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опыта рабо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46060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916280"/>
            <a:ext cx="8604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(от греч. «methodos» - теория, учение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способ достижения какой-либо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(от англ.«interaction»,«взаимодействие») — понятие, которое раскрывает характер и степень взаимодействия между объектами.</a:t>
            </a:r>
            <a:r>
              <a:rPr b="1" lang="ru-RU" sz="3200" spc="-1" strike="noStrike">
                <a:solidFill>
                  <a:srgbClr val="cc66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40360" y="5013360"/>
            <a:ext cx="3203640" cy="2112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002200"/>
            <a:ext cx="3132000" cy="1855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87640" y="4941720"/>
            <a:ext cx="3097080" cy="221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203640" y="155736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8920" y="2852640"/>
            <a:ext cx="62643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рактивность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260280"/>
            <a:ext cx="7920000" cy="10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мантика понят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35640" y="6381720"/>
            <a:ext cx="10857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916280"/>
            <a:ext cx="8604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(от греч. «methodos» - теория, учение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способ достижения какой-либо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(от англ.«interaction»,«взаимодействие») — понятие, которое раскрывает характер и степень взаимодействия между объектами.</a:t>
            </a:r>
            <a:r>
              <a:rPr b="1" lang="ru-RU" sz="3200" spc="-1" strike="noStrike">
                <a:solidFill>
                  <a:srgbClr val="cc66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40360" y="5013360"/>
            <a:ext cx="3203640" cy="21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002200"/>
            <a:ext cx="3132000" cy="185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87640" y="4941720"/>
            <a:ext cx="3097080" cy="221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03640" y="155736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58920" y="2852640"/>
            <a:ext cx="62643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рактивность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260280"/>
            <a:ext cx="7920000" cy="10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мантика понят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5435640" y="6381720"/>
            <a:ext cx="1085760" cy="47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5:00:25Z</dcterms:created>
  <dc:creator>Алена</dc:creator>
  <dc:description/>
  <dc:language>en-US</dc:language>
  <cp:lastModifiedBy>Алена</cp:lastModifiedBy>
  <dcterms:modified xsi:type="dcterms:W3CDTF">2013-10-13T05:00:30Z</dcterms:modified>
  <cp:revision>1</cp:revision>
  <dc:subject/>
  <dc:title>Слайд 1</dc:title>
</cp:coreProperties>
</file>