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17.gif" ContentType="image/gif"/>
  <Override PartName="/ppt/media/image3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09A0-33BB-4280-9B8E-4AAF6ABAC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FEA5-EC76-49FE-8855-42AA23F27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AFE2-2F8E-4FE6-9D3A-5F7CAC5BD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9F6D-69EA-444C-B12A-EB1EBEF26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42A6-7A15-4822-A112-58FD5AA63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BB77-CBDF-4864-BD4C-FD239C8C8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E78F-8BB7-46CA-BA27-5C4FCF7BE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152E-7F46-456A-AF94-82859567D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6ECA-3F5F-49B7-9A97-A2852E284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E8A3-E83B-49FB-8D48-8DDD24A7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8BBB-74E6-4486-B3BD-F602B24B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2AD6-F1B6-4F82-9D64-EB8233D1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0C25A-EEA2-4DB4-9B0D-44D6DA864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7.gi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459640" cy="4896000"/>
          </a:xfrm>
          <a:prstGeom prst="rect">
            <a:avLst/>
          </a:prstGeom>
          <a:ln w="0">
            <a:noFill/>
          </a:ln>
        </p:spPr>
      </p:pic>
      <p:cxnSp>
        <p:nvCxnSpPr>
          <p:cNvPr id="42" name=""/>
          <p:cNvCxnSpPr/>
          <p:nvPr/>
        </p:nvCxnSpPr>
        <p:spPr>
          <a:xfrm flipV="1" rot="10800000">
            <a:off x="327960" y="3646080"/>
            <a:ext cx="500760" cy="218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43" name=""/>
          <p:cNvSpPr/>
          <p:nvPr/>
        </p:nvSpPr>
        <p:spPr>
          <a:xfrm>
            <a:off x="0" y="3933720"/>
            <a:ext cx="21240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cc66ff"/>
                </a:solidFill>
                <a:latin typeface="Franklin Gothic Book"/>
                <a:ea typeface="SimSun"/>
              </a:rPr>
              <a:t>социальная зрел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/>
          <p:nvPr/>
        </p:nvCxnSpPr>
        <p:spPr>
          <a:xfrm>
            <a:off x="3419640" y="3860280"/>
            <a:ext cx="714960" cy="361080"/>
          </a:xfrm>
          <a:prstGeom prst="bentConnector3">
            <a:avLst>
              <a:gd name="adj1" fmla="val 49974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45" name=""/>
          <p:cNvSpPr/>
          <p:nvPr/>
        </p:nvSpPr>
        <p:spPr>
          <a:xfrm>
            <a:off x="2268360" y="4149720"/>
            <a:ext cx="278640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cc66ff"/>
                </a:solidFill>
                <a:latin typeface="Franklin Gothic Book"/>
                <a:ea typeface="SimSun"/>
              </a:rPr>
              <a:t>профессиональное и личностное самоопред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132000" y="0"/>
            <a:ext cx="2665440" cy="11127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684360" y="476280"/>
            <a:ext cx="1990440" cy="571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БЛЕМА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7524720" y="5238720"/>
            <a:ext cx="1619280" cy="1619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6227640" y="4797360"/>
            <a:ext cx="1365480" cy="2060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179280" y="4869000"/>
            <a:ext cx="1789200" cy="178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356000" y="1268280"/>
            <a:ext cx="4500720" cy="4176720"/>
          </a:xfrm>
          <a:prstGeom prst="wedgeEllipseCallout">
            <a:avLst>
              <a:gd name="adj1" fmla="val -53208"/>
              <a:gd name="adj2" fmla="val 55319"/>
            </a:avLst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413000"/>
            <a:ext cx="3887640" cy="4897440"/>
          </a:xfrm>
          <a:prstGeom prst="flowChartPunchedCard">
            <a:avLst/>
          </a:prstGeom>
          <a:solidFill>
            <a:srgbClr val="660033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1557360"/>
            <a:ext cx="485928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Зависи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Ответств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Групповое взаимодейст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Равное участие кажд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Одновременная рабо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(лицом к лицу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788000" y="1341360"/>
            <a:ext cx="435600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Распределение на груп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Организация учебного простран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Сигнал к переключению вним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Распределение ро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Вре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948360" y="5589720"/>
            <a:ext cx="1710000" cy="104904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dobe Fan Heiti Std B"/>
                <a:ea typeface="SimSun"/>
              </a:rPr>
              <a:t>Группов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dobe Fan Heiti Std B"/>
                <a:ea typeface="SimSun"/>
              </a:rPr>
              <a:t>Динам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0"/>
            <a:ext cx="4191120" cy="549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operative Learning: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50920" y="620640"/>
            <a:ext cx="5362560" cy="571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тод совместной работы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4360" y="1125360"/>
            <a:ext cx="324000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НЦИПЫ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867280" y="981000"/>
            <a:ext cx="1800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ХНИКА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4853160"/>
            <a:ext cx="8458200" cy="12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28760" y="785880"/>
          <a:ext cx="8429400" cy="5721120"/>
        </p:xfrm>
        <a:graphic>
          <a:graphicData uri="http://schemas.openxmlformats.org/drawingml/2006/table">
            <a:tbl>
              <a:tblPr/>
              <a:tblGrid>
                <a:gridCol w="4143240"/>
                <a:gridCol w="4286160"/>
              </a:tblGrid>
              <a:tr h="760320">
                <a:tc>
                  <a:txBody>
                    <a:bodyPr lIns="90000" rIns="90000" tIns="1022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Интерактивное обучение решает задачи: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1022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Коммуникативные компетенции включают: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430280">
                <a:tc>
                  <a:txBody>
                    <a:bodyPr lIns="90000" rIns="90000" tIns="1022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Развивает коммуникативные умения и навыки, помогает установлению эмоционального контакт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1022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buClr>
                          <a:srgbClr val="000000"/>
                        </a:buClr>
                        <a:buFont typeface="Adobe Fan Heiti Std B"/>
                        <a:buChar char="-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пособность адекватно вести  себя в различных социальных ситуациях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1765440">
                <a:tc>
                  <a:txBody>
                    <a:bodyPr lIns="90000" rIns="90000" tIns="1022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Развивает общие учебные умения и навыки (анализ, синтез, постановка целей и пр.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1022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Готовность решать коммуникативные задач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buClr>
                          <a:srgbClr val="000000"/>
                        </a:buClr>
                        <a:buFont typeface="Adobe Fan Heiti Std B"/>
                        <a:buChar char="-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пособность вести дискуссию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buClr>
                          <a:srgbClr val="000000"/>
                        </a:buClr>
                        <a:buFont typeface="Adobe Fan Heiti Std B"/>
                        <a:buChar char="-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ладение устным и письменным общение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1765080">
                <a:tc>
                  <a:txBody>
                    <a:bodyPr lIns="90000" rIns="90000" tIns="1022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способствует работе в команд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1022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Способность вступать в контакт, высказывать свою точку зрения, слушать и понимать точку зрения собеседник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  <p:sp>
        <p:nvSpPr>
          <p:cNvPr id="62" name=""/>
          <p:cNvSpPr txBox="1"/>
          <p:nvPr/>
        </p:nvSpPr>
        <p:spPr>
          <a:xfrm>
            <a:off x="468360" y="189000"/>
            <a:ext cx="5676840" cy="571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ОРЕТИЧЕСКОЕ ОБОСНОВАНИЕ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39640" y="1916280"/>
            <a:ext cx="860436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c66ff"/>
                </a:solidFill>
                <a:latin typeface="Arial"/>
                <a:ea typeface="SimSun"/>
              </a:rPr>
              <a:t>(от греч. «methodos» - теория, учение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c66ff"/>
                </a:solidFill>
                <a:latin typeface="Arial"/>
                <a:ea typeface="SimSun"/>
              </a:rPr>
              <a:t>способ достижения какой-либо ц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c66ff"/>
                </a:solidFill>
                <a:latin typeface="Arial"/>
                <a:ea typeface="SimSun"/>
              </a:rPr>
              <a:t>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c66ff"/>
                </a:solidFill>
                <a:latin typeface="Arial"/>
                <a:ea typeface="SimSun"/>
              </a:rPr>
              <a:t>(от англ.«interaction»,«взаимодействие») — понятие, которое раскрывает характер и степень взаимодействия между объектами.</a:t>
            </a:r>
            <a:r>
              <a:rPr b="1" lang="ru-RU" sz="3200" spc="-1" strike="noStrike">
                <a:solidFill>
                  <a:srgbClr val="cc66ff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940360" y="5013360"/>
            <a:ext cx="3203640" cy="2112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5002200"/>
            <a:ext cx="3132000" cy="1855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2987640" y="4941720"/>
            <a:ext cx="3097080" cy="22114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3203640" y="1557360"/>
            <a:ext cx="2519280" cy="431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ТОД 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258920" y="2852640"/>
            <a:ext cx="6264360" cy="571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нтерактивность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39640" y="260280"/>
            <a:ext cx="7920000" cy="1052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емантика понятий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8"/>
          <a:stretch/>
        </p:blipFill>
        <p:spPr>
          <a:xfrm>
            <a:off x="5435640" y="6381720"/>
            <a:ext cx="108576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844640"/>
            <a:ext cx="9144000" cy="56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dobe Fan Heiti Std B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Times New Roman"/>
                <a:ea typeface="SimSun"/>
              </a:rPr>
              <a:t>Активное включение каждого ученика в процесс усвоения учебного матери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dobe Fan Heiti Std B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Times New Roman"/>
                <a:ea typeface="SimSun"/>
              </a:rPr>
              <a:t>Повышение познавательной мотив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dobe Fan Heiti Std B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cc66ff"/>
                </a:solidFill>
                <a:latin typeface="Times New Roman"/>
                <a:ea typeface="SimSun"/>
              </a:rPr>
              <a:t>Обучение навыкам успешного общения</a:t>
            </a:r>
            <a:r>
              <a:rPr b="1" i="1" lang="en-US" sz="2400" spc="-1" strike="noStrike">
                <a:solidFill>
                  <a:srgbClr val="cc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dobe Fan Heiti Std B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cc66ff"/>
                </a:solidFill>
                <a:latin typeface="Times New Roman"/>
                <a:ea typeface="SimSun"/>
              </a:rPr>
              <a:t>Развитие навыков самостоятельной учебной деятельности</a:t>
            </a:r>
            <a:r>
              <a:rPr b="1" i="1" lang="en-US" sz="2400" spc="-1" strike="noStrike">
                <a:solidFill>
                  <a:srgbClr val="cc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dobe Fan Heiti Std B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cc66ff"/>
                </a:solidFill>
                <a:latin typeface="Times New Roman"/>
                <a:ea typeface="SimSun"/>
              </a:rPr>
              <a:t>Воспитание лидерских качеств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50920" y="260280"/>
            <a:ext cx="8642160" cy="432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нтерактивные методы обучения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116000" y="765000"/>
            <a:ext cx="6696000" cy="505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зволяют решать следующие 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635280" y="1268280"/>
            <a:ext cx="1657440" cy="505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чи: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3T05:00:25Z</dcterms:created>
  <dc:creator>Алена</dc:creator>
  <dc:description/>
  <dc:language>en-US</dc:language>
  <cp:lastModifiedBy>Алена</cp:lastModifiedBy>
  <dcterms:modified xsi:type="dcterms:W3CDTF">2013-10-13T05:14:56Z</dcterms:modified>
  <cp:revision>3</cp:revision>
  <dc:subject/>
  <dc:title>Слайд 1</dc:title>
</cp:coreProperties>
</file>