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2B900-7A2D-4EF6-8930-FACB6A322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B32D3-937D-4664-A843-CE85D51F7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5A01E-8BDB-4DEF-B3A0-2A9D93A82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615CA-7901-48FC-A76C-D4AE763A9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957DA-6E0C-41D2-855E-CC45BA130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214C2-7DA3-48F2-8698-308EF47E0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28C1A-5D2F-433A-82B0-79B788384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FDE3B-77F6-4AE1-A7D0-51C747E41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16B03-33DE-44E3-910B-6315205FE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B3BE3-76B0-435B-AF17-32073C048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341B3-260F-4E88-A10F-204364E4C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20917-FDA8-48F9-80C8-BBD7C0184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A1C23-A95A-4A01-AC5E-0CF0D2C86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A2A7F-6908-47C5-85EF-E68C611A9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84D7A-58C0-4E33-BADD-CEAE48943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B3C61-2782-48C6-AD0B-0CF281E5E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1E863-82D9-4616-93D5-11BB073B2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50AB5-1ECF-4605-A0A2-ED56CA687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7E5A4-0325-4FE8-9A71-C0C675784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2A90B-7CF5-4B8F-98C0-28BB92BC0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846BC-4260-42FE-92CF-FFE559BF6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3C875-F165-494E-9BF4-4F958BDE4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42133-1EB0-42FD-BB96-4CEB270D3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71B62-E79D-48F9-8DC6-DB8BE7EDA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BF630-613C-4184-8FF5-A5E2CE0F375A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200" y="-86760"/>
            <a:ext cx="2427840" cy="2247840"/>
            <a:chOff x="7171200" y="-86760"/>
            <a:chExt cx="2427840" cy="2247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200" y="-86760"/>
              <a:ext cx="2427840" cy="2247840"/>
              <a:chOff x="7171200" y="-86760"/>
              <a:chExt cx="2427840" cy="2247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200" y="-86760"/>
                <a:ext cx="2427840" cy="2247840"/>
                <a:chOff x="7171200" y="-86760"/>
                <a:chExt cx="2427840" cy="2247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5760" y="524520"/>
                  <a:ext cx="427320" cy="6955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4080" y="286920"/>
                  <a:ext cx="802440" cy="1425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2840" y="-29160"/>
                  <a:ext cx="120456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1040" y="1422360"/>
                  <a:ext cx="26856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640"/>
                  <a:ext cx="28728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7000" y="223200"/>
                  <a:ext cx="284400" cy="219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1480" y="4661280"/>
              <a:ext cx="998640" cy="4640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000" y="4639680"/>
              <a:ext cx="995400" cy="459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480" y="4625280"/>
              <a:ext cx="660240" cy="41976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0E97E-029A-48AB-AC36-F9D6ABFF792D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42600" y="571680"/>
            <a:ext cx="6870600" cy="4776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272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Данная работа выполнена учителем </a:t>
            </a: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английского языка ГБОУ СОШ №608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г. Санкт-Петербурга</a:t>
            </a:r>
            <a:br>
              <a:rPr sz="4000"/>
            </a:br>
            <a:r>
              <a:rPr b="1" lang="ru-RU" sz="4000" spc="-1" strike="noStrike" u="sng">
                <a:solidFill>
                  <a:srgbClr val="7030a0"/>
                </a:solidFill>
                <a:uFillTx/>
                <a:latin typeface="Comic Sans MS"/>
              </a:rPr>
              <a:t>Сафаровой Диной</a:t>
            </a:r>
            <a:br>
              <a:rPr sz="4000"/>
            </a:br>
            <a:r>
              <a:rPr b="1" lang="ru-RU" sz="4000" spc="-1" strike="noStrike" u="sng">
                <a:solidFill>
                  <a:srgbClr val="7030a0"/>
                </a:solidFill>
                <a:uFillTx/>
                <a:latin typeface="Comic Sans MS"/>
              </a:rPr>
              <a:t>Рафаэльевной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371600" y="691920"/>
            <a:ext cx="6400800" cy="288108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0000"/>
                </a:solidFill>
                <a:latin typeface="Comic Sans MS"/>
              </a:rPr>
              <a:t>My Room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549440" y="3573000"/>
            <a:ext cx="6262560" cy="20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 game for the 6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for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one by Dina Safarov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 teacher of English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chool 608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aint-Petersburg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dff"/>
                </a:solidFill>
                <a:latin typeface="Comic Sans MS"/>
              </a:rPr>
              <a:t>Make up sentences to describe the room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440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Это зал (гостиная)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s is a living room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Она большая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t is big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Рядом со стеной стоит телевизор.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re is a TV-set near the wall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4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dff"/>
                </a:solidFill>
                <a:latin typeface="Comic Sans MS"/>
              </a:rPr>
              <a:t>Make up sentences to describe the room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Справа от телевизора стоит кресло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re is an armchair on the right of the TV-set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Слева от телевизора стол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re is a table on the left of the TV-set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На столе лампа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re is a lamp on the table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55280" y="47592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Make up sentences to describe the room (3)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915920"/>
            <a:ext cx="7696080" cy="357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Перед столом кресло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here is an armchair in front of a table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На стене висит картина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here is a picture on the wall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21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dff"/>
                </a:solidFill>
                <a:latin typeface="Comic Sans MS"/>
              </a:rPr>
              <a:t>Make up sentences to describe the room (4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На полу лежит ковер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re is a carpet on the floor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Мне нравится эта комната.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 like this room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87280" y="151920"/>
            <a:ext cx="636912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703dff"/>
                </a:solidFill>
                <a:latin typeface="Comic Sans MS"/>
              </a:rPr>
              <a:t>This is that room!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3" name="Picture 6" descr=""/>
          <p:cNvPicPr/>
          <p:nvPr/>
        </p:nvPicPr>
        <p:blipFill>
          <a:blip r:embed="rId1"/>
          <a:stretch/>
        </p:blipFill>
        <p:spPr>
          <a:xfrm>
            <a:off x="1042920" y="1844640"/>
            <a:ext cx="6842160" cy="412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371600" y="1989000"/>
            <a:ext cx="6400800" cy="237672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Comic Sans MS"/>
              </a:rPr>
              <a:t>Thank you for your attention!!!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Дина</cp:lastModifiedBy>
  <dcterms:modified xsi:type="dcterms:W3CDTF">2013-04-28T19:40:22Z</dcterms:modified>
  <cp:revision>8</cp:revision>
  <dc:subject/>
  <dc:title>PowerPoint Presentation</dc:title>
</cp:coreProperties>
</file>