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17.gif" ContentType="image/gif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222C-9119-463E-889B-14A8EC45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4DCD-1DF9-434D-89AD-D63EF1AC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EAE5-7C09-4F15-B031-937CFD07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081-392A-4240-9CFB-186D3983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E4B-035B-47E0-9969-709CFA7C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A464-D0F5-4CB5-8E07-438384FB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B01-5F14-4DCE-A86E-B7412213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3DCD-E164-4B13-84D1-9CF55372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57E-2BCC-4B87-A536-D2B16CD8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0AE-D068-4CA8-B393-FF50D55C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6FF9-6B5F-40D9-872F-24E7E650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89E-E548-4066-9C23-02BF46CA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E159-70AB-4EFE-AE76-41C45E9D0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459640" cy="4896000"/>
          </a:xfrm>
          <a:prstGeom prst="rect">
            <a:avLst/>
          </a:prstGeom>
          <a:ln w="0">
            <a:noFill/>
          </a:ln>
        </p:spPr>
      </p:pic>
      <p:cxnSp>
        <p:nvCxnSpPr>
          <p:cNvPr id="42" name=""/>
          <p:cNvCxnSpPr/>
          <p:nvPr/>
        </p:nvCxnSpPr>
        <p:spPr>
          <a:xfrm flipV="1" rot="10800000">
            <a:off x="327960" y="3646080"/>
            <a:ext cx="500760" cy="218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43" name=""/>
          <p:cNvSpPr/>
          <p:nvPr/>
        </p:nvSpPr>
        <p:spPr>
          <a:xfrm>
            <a:off x="0" y="3933720"/>
            <a:ext cx="2124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c66ff"/>
                </a:solidFill>
                <a:latin typeface="Franklin Gothic Book"/>
                <a:ea typeface="SimSun"/>
              </a:rPr>
              <a:t>социальная зрел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/>
          <p:nvPr/>
        </p:nvCxnSpPr>
        <p:spPr>
          <a:xfrm>
            <a:off x="3419640" y="3860280"/>
            <a:ext cx="714960" cy="36108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45" name=""/>
          <p:cNvSpPr/>
          <p:nvPr/>
        </p:nvSpPr>
        <p:spPr>
          <a:xfrm>
            <a:off x="2268360" y="4149720"/>
            <a:ext cx="27864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c66ff"/>
                </a:solidFill>
                <a:latin typeface="Franklin Gothic Book"/>
                <a:ea typeface="SimSun"/>
              </a:rPr>
              <a:t>профессиональное и личностное 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132000" y="0"/>
            <a:ext cx="2665440" cy="1112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84360" y="476280"/>
            <a:ext cx="199044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БЛЕМ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524720" y="523872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227640" y="4797360"/>
            <a:ext cx="1365480" cy="2060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179280" y="4869000"/>
            <a:ext cx="1789200" cy="17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356000" y="1268280"/>
            <a:ext cx="4500720" cy="4176720"/>
          </a:xfrm>
          <a:prstGeom prst="wedgeEllipseCallout">
            <a:avLst>
              <a:gd name="adj1" fmla="val -53208"/>
              <a:gd name="adj2" fmla="val 55319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413000"/>
            <a:ext cx="3887640" cy="4897440"/>
          </a:xfrm>
          <a:prstGeom prst="flowChartPunchedCard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48592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Завис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Групповое взаимо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Равное участие кажд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Одновременная раб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лицом к лицу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88000" y="1341360"/>
            <a:ext cx="43560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спределение на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Организация учебного простр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игнал к переключению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спределение р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5589720"/>
            <a:ext cx="1710000" cy="10490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Fan Heiti Std B"/>
                <a:ea typeface="SimSun"/>
              </a:rPr>
              <a:t>Групп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Fan Heiti Std B"/>
                <a:ea typeface="SimSun"/>
              </a:rPr>
              <a:t>Дина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0"/>
            <a:ext cx="4191120" cy="54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operative Learning: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920" y="620640"/>
            <a:ext cx="536256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 совместной работы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125360"/>
            <a:ext cx="3240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ЦИПЫ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867280" y="98100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ХНИКА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4853160"/>
            <a:ext cx="84582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28760" y="785880"/>
          <a:ext cx="8429400" cy="5721120"/>
        </p:xfrm>
        <a:graphic>
          <a:graphicData uri="http://schemas.openxmlformats.org/drawingml/2006/table">
            <a:tbl>
              <a:tblPr/>
              <a:tblGrid>
                <a:gridCol w="4143240"/>
                <a:gridCol w="4286160"/>
              </a:tblGrid>
              <a:tr h="76032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нтерактивное обучение решает задачи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ммуникативные компетенции включают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30280"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Развивает коммуникативные умения и навыки, помогает установлению эмоционального контак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Adobe Fan Heiti Std B"/>
                        <a:buChar char="-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собность адекватно вести  себя в различных социальных ситуация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765440"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Развивает общие учебные умения и навыки (анализ, синтез, постановка целей и пр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Готовность решать коммуникативные задач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Adobe Fan Heiti Std B"/>
                        <a:buChar char="-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собность вести дискусси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Adobe Fan Heiti Std B"/>
                        <a:buChar char="-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ладение устным и письменным общение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765080"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способствует работе в команд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Способность вступать в контакт, высказывать свою точку зрения, слушать и понимать точку зрения собеседни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 txBox="1"/>
          <p:nvPr/>
        </p:nvSpPr>
        <p:spPr>
          <a:xfrm>
            <a:off x="468360" y="189000"/>
            <a:ext cx="567684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ОРЕТИЧЕСКОЕ ОБОСНОВ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1916280"/>
            <a:ext cx="860436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Arial"/>
                <a:ea typeface="SimSun"/>
              </a:rPr>
              <a:t>(от греч. «methodos» - теория, учение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Arial"/>
                <a:ea typeface="SimSun"/>
              </a:rPr>
              <a:t>способ достижения какой-либо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Arial"/>
                <a:ea typeface="SimSun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Arial"/>
                <a:ea typeface="SimSun"/>
              </a:rPr>
              <a:t>(от англ.«interaction»,«взаимодействие») — понятие, которое раскрывает характер и степень взаимодействия между объектами.</a:t>
            </a:r>
            <a:r>
              <a:rPr b="1" lang="ru-RU" sz="3200" spc="-1" strike="noStrike">
                <a:solidFill>
                  <a:srgbClr val="cc66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0360" y="5013360"/>
            <a:ext cx="3203640" cy="2112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5002200"/>
            <a:ext cx="3132000" cy="1855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987640" y="4941720"/>
            <a:ext cx="3097080" cy="2211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203640" y="1557360"/>
            <a:ext cx="2519280" cy="43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58920" y="2852640"/>
            <a:ext cx="626436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терактивность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9640" y="260280"/>
            <a:ext cx="7920000" cy="105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емантика поняти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5435640" y="6381720"/>
            <a:ext cx="108576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44640"/>
            <a:ext cx="914400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dobe Fan Heiti Std B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Times New Roman"/>
                <a:ea typeface="SimSun"/>
              </a:rPr>
              <a:t>Активное включение каждого ученика в процесс усвоения учеб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dobe Fan Heiti Std B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Times New Roman"/>
                <a:ea typeface="SimSun"/>
              </a:rPr>
              <a:t>Повышение познавательной мотив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dobe Fan Heiti Std B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cc66ff"/>
                </a:solidFill>
                <a:latin typeface="Times New Roman"/>
                <a:ea typeface="SimSun"/>
              </a:rPr>
              <a:t>Обучение навыкам успешного общения</a:t>
            </a:r>
            <a:r>
              <a:rPr b="1" i="1" lang="en-US" sz="2400" spc="-1" strike="noStrike">
                <a:solidFill>
                  <a:srgbClr val="cc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dobe Fan Heiti Std B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cc66ff"/>
                </a:solidFill>
                <a:latin typeface="Times New Roman"/>
                <a:ea typeface="SimSun"/>
              </a:rPr>
              <a:t>Развитие навыков самостоятельной учебной деятельности</a:t>
            </a:r>
            <a:r>
              <a:rPr b="1" i="1" lang="en-US" sz="2400" spc="-1" strike="noStrike">
                <a:solidFill>
                  <a:srgbClr val="cc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dobe Fan Heiti Std B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cc66ff"/>
                </a:solidFill>
                <a:latin typeface="Times New Roman"/>
                <a:ea typeface="SimSun"/>
              </a:rPr>
              <a:t>Воспитание лидерских качеств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920" y="260280"/>
            <a:ext cx="8642160" cy="43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терактивные методы обучения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116000" y="765000"/>
            <a:ext cx="6696000" cy="50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зволяют решать следующие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635280" y="1268280"/>
            <a:ext cx="1657440" cy="50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: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5:00:25Z</dcterms:created>
  <dc:creator>Алена</dc:creator>
  <dc:description/>
  <dc:language>en-US</dc:language>
  <cp:lastModifiedBy>Алена</cp:lastModifiedBy>
  <dcterms:modified xsi:type="dcterms:W3CDTF">2013-10-13T05:14:56Z</dcterms:modified>
  <cp:revision>3</cp:revision>
  <dc:subject/>
  <dc:title>Слайд 1</dc:title>
</cp:coreProperties>
</file>