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22D-CD81-4BBD-8A25-B756EE64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539-17D8-4B9B-8253-9013C6E1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626-278C-4AEE-8AB3-E31AE02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DFB-ACF7-495A-B3D4-2E803F32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537-A9E9-4B92-AE4C-A87433A4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AAA-1EF8-4A97-9604-2D8DE9AF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C0B-720F-4173-8D4B-79DBD58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6D4-A370-414D-97A4-B51D7D8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CDD-B22B-48B0-963B-20ABEE8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738-C3BA-47B5-9283-478F3F33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688-6A32-4E72-967A-D9BB9AF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804-44E8-4622-A0F2-188C3CF2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0CA3-99F0-4D3F-B571-6AD59C00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27016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5084640"/>
            <a:ext cx="2411280" cy="287640"/>
          </a:xfrm>
          <a:custGeom>
            <a:avLst/>
            <a:gdLst>
              <a:gd name="textAreaLeft" fmla="*/ 452160 w 2411280"/>
              <a:gd name="textAreaRight" fmla="*/ 1717920 w 24112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-2801698"/>
                <a:lnTo>
                  <a:pt x="21137" y="7200"/>
                </a:lnTo>
                <a:lnTo>
                  <a:pt x="17823" y="0"/>
                </a:lnTo>
                <a:lnTo>
                  <a:pt x="13582" y="7200"/>
                </a:lnTo>
                <a:lnTo>
                  <a:pt x="15742" y="7200"/>
                </a:lnTo>
                <a:arcTo wR="8103" hR="21600" stAng="2598302" swAng="2539486"/>
                <a:lnTo>
                  <a:pt x="9720" y="21165"/>
                </a:lnTo>
                <a:arcTo wR="8103" hR="21600" stAng="5662212" swAng="5137788"/>
                <a:close/>
              </a:path>
              <a:path fill="darkenLess"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262212"/>
                <a:lnTo>
                  <a:pt x="9720" y="21165"/>
                </a:lnTo>
                <a:arcTo wR="8103" hR="21600" stAng="5662212" swAng="513778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862880" y="3643920"/>
            <a:ext cx="2303280" cy="289080"/>
          </a:xfrm>
          <a:custGeom>
            <a:avLst/>
            <a:gdLst>
              <a:gd name="textAreaLeft" fmla="*/ 432000 w 2303280"/>
              <a:gd name="textAreaRight" fmla="*/ 1640880 w 230328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-2801698"/>
                <a:lnTo>
                  <a:pt x="21137" y="7200"/>
                </a:lnTo>
                <a:lnTo>
                  <a:pt x="17823" y="0"/>
                </a:lnTo>
                <a:lnTo>
                  <a:pt x="13582" y="7200"/>
                </a:lnTo>
                <a:lnTo>
                  <a:pt x="15742" y="7200"/>
                </a:lnTo>
                <a:arcTo wR="8103" hR="21600" stAng="2598302" swAng="2539486"/>
                <a:lnTo>
                  <a:pt x="9720" y="21165"/>
                </a:lnTo>
                <a:arcTo wR="8103" hR="21600" stAng="5662212" swAng="5137788"/>
                <a:close/>
              </a:path>
              <a:path fill="darkenLess"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262212"/>
                <a:lnTo>
                  <a:pt x="9720" y="21165"/>
                </a:lnTo>
                <a:arcTo wR="8103" hR="21600" stAng="5662212" swAng="513778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6159600" y="2063880"/>
            <a:ext cx="2303280" cy="288720"/>
          </a:xfrm>
          <a:custGeom>
            <a:avLst/>
            <a:gdLst>
              <a:gd name="textAreaLeft" fmla="*/ 432000 w 2303280"/>
              <a:gd name="textAreaRight" fmla="*/ 1640880 w 230328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-2801698"/>
                <a:lnTo>
                  <a:pt x="21137" y="7200"/>
                </a:lnTo>
                <a:lnTo>
                  <a:pt x="17823" y="0"/>
                </a:lnTo>
                <a:lnTo>
                  <a:pt x="13582" y="7200"/>
                </a:lnTo>
                <a:lnTo>
                  <a:pt x="15742" y="7200"/>
                </a:lnTo>
                <a:arcTo wR="8103" hR="21600" stAng="2598302" swAng="2539486"/>
                <a:lnTo>
                  <a:pt x="9720" y="21165"/>
                </a:lnTo>
                <a:arcTo wR="8103" hR="21600" stAng="5662212" swAng="5137788"/>
                <a:close/>
              </a:path>
              <a:path fill="darkenLess"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262212"/>
                <a:lnTo>
                  <a:pt x="9720" y="21165"/>
                </a:lnTo>
                <a:arcTo wR="8103" hR="21600" stAng="5662212" swAng="513778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7829280" y="3482280"/>
            <a:ext cx="2305080" cy="324000"/>
          </a:xfrm>
          <a:custGeom>
            <a:avLst/>
            <a:gdLst>
              <a:gd name="textAreaLeft" fmla="*/ 432360 w 2305080"/>
              <a:gd name="textAreaRight" fmla="*/ 1642320 w 230508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-2801698"/>
                <a:lnTo>
                  <a:pt x="21137" y="7200"/>
                </a:lnTo>
                <a:lnTo>
                  <a:pt x="17823" y="0"/>
                </a:lnTo>
                <a:lnTo>
                  <a:pt x="13582" y="7200"/>
                </a:lnTo>
                <a:lnTo>
                  <a:pt x="15742" y="7200"/>
                </a:lnTo>
                <a:arcTo wR="8103" hR="21600" stAng="2598302" swAng="2539486"/>
                <a:lnTo>
                  <a:pt x="9720" y="21165"/>
                </a:lnTo>
                <a:arcTo wR="8103" hR="21600" stAng="5662212" swAng="5137788"/>
                <a:close/>
              </a:path>
              <a:path fill="darkenLess" w="21600" h="21600">
                <a:moveTo>
                  <a:pt x="0" y="0"/>
                </a:moveTo>
                <a:arcTo wR="8103" hR="21600" stAng="10800000" swAng="-5400000"/>
                <a:lnTo>
                  <a:pt x="11338" y="21600"/>
                </a:lnTo>
                <a:arcTo wR="8103" hR="21600" stAng="5400000" swAng="262212"/>
                <a:lnTo>
                  <a:pt x="9720" y="21165"/>
                </a:lnTo>
                <a:arcTo wR="8103" hR="21600" stAng="5662212" swAng="513778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59770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Готовятся проблемные вопросы по числу членов группы (у каждой группы – одни и те же вопро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Каждый член группы получает лист бумаги со «своим» вопросом, в котором выделены места для ответов других членов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В течение ограниченного времени учащийся письменно отвечает на вопрос в отведенном на листе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По истечении времени лист передается по кругу, где каждый участник группы добавляет свои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Когда лист попадает к своему первоначальному «владельцу», тот подытоживает все предложения и обобщает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Представители одной из групп докладывают полученные результаты всей аудитории, а члены других групп добавляют свои комментарии по каждо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89000"/>
            <a:ext cx="5688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руглый стол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08720" y="5208480"/>
            <a:ext cx="1638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50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Техника Мозгового Шту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280360" cy="54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команда 3-5 человек. Администратор (игротехник), секретарь, критик, тайм-кип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Генерирование идей (5 мин.</a:t>
            </a:r>
            <a:r>
              <a:rPr b="0" lang="ru-RU" sz="2200" spc="-1" strike="noStrike" u="sng">
                <a:solidFill>
                  <a:srgbClr val="cc66ff"/>
                </a:solidFill>
                <a:uFillTx/>
                <a:latin typeface="Arial"/>
              </a:rPr>
              <a:t>+</a:t>
            </a: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 1). Цель – собрать, как можно больше различных предложений. Правило – никакой критики. Приветствуется развитие чужих ид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Анализ полученного материала (10-12 мин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систематизация (группиров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убрать параллельные предло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обсудить плюсы, минусы, применимость, особ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Отбор результатов (3-5 мин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606600">
              <a:lnSpc>
                <a:spcPct val="80000"/>
              </a:lnSpc>
              <a:spcBef>
                <a:spcPts val="451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проранжировать альтерн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606600">
              <a:lnSpc>
                <a:spcPct val="80000"/>
              </a:lnSpc>
              <a:spcBef>
                <a:spcPts val="451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определить «границу отсе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606600">
              <a:lnSpc>
                <a:spcPct val="80000"/>
              </a:lnSpc>
              <a:spcBef>
                <a:spcPts val="451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выбрать варианты для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Подготовка презентационного материала (ок.15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Adobe Fan Heiti Std B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66ff"/>
                </a:solidFill>
                <a:latin typeface="Arial"/>
              </a:rPr>
              <a:t>Презентация полученного решения. Роли: ответственный за аргументацию, ответственный за наглядность и демонстрационный материал, презентато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dobe Fan Heiti Std B"/>
                <a:ea typeface="SimSun"/>
              </a:rPr>
              <a:t>ИТОГО – ок. 35 ми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4200" y="1197000"/>
            <a:ext cx="87868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Adobe Fan Heiti Std B"/>
                <a:ea typeface="SimSun"/>
              </a:rPr>
              <a:t>Самостоятельное исследование различных тем, проводимое учениками в течение некотор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Adobe Fan Heiti Std B"/>
                <a:ea typeface="SimSun"/>
              </a:rPr>
              <a:t>Этот прием может быть использован для  изменения ценностных ориентаций учащихся, улучшения климата в коллективе, индивидуализации и дифференциаци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Adobe Fan Heiti Std B"/>
                <a:ea typeface="SimSun"/>
              </a:rPr>
              <a:t>Его лучше использовать, когда дети уже могут выполнять самостоятельный пои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333360"/>
            <a:ext cx="57607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ная деятель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СОВОКУПНОСТЬ ПРИЁМОВ, ДЕЙСТВИЙ                   УЧАЩИХСЯ В ИХ ОПРЕДЕЛЁННОЙ ПОСЛЕДОВА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НАПРАВЛЕННОЙ НА ДОСТИЖЕНИЕ ПОСТАВЛЕННОЙ ЦЕ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ОФОРМЛЕННОЙ В ВИДЕ КОНЕЧНОГО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280" y="476280"/>
            <a:ext cx="496872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00000" y="1052640"/>
            <a:ext cx="763272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УКТУРА ПРОЕК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2637000"/>
            <a:ext cx="78483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А - ПРОЕК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3860640"/>
            <a:ext cx="7777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ИСК ИНФОРМАЦИИ - ПРОДУК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5084640"/>
            <a:ext cx="7777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- ПОРТФОЛИ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380880"/>
            <a:ext cx="7619760" cy="763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00200"/>
            <a:ext cx="2666880" cy="1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676520"/>
            <a:ext cx="1981080" cy="1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700000">
            <a:off x="306000" y="533520"/>
            <a:ext cx="914400" cy="91440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3500000">
            <a:off x="7924680" y="609120"/>
            <a:ext cx="914400" cy="9144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629400"/>
            <a:ext cx="7848720" cy="1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1197000"/>
          <a:ext cx="7993080" cy="1293840"/>
        </p:xfrm>
        <a:graphic>
          <a:graphicData uri="http://schemas.openxmlformats.org/drawingml/2006/table">
            <a:tbl>
              <a:tblPr/>
              <a:tblGrid>
                <a:gridCol w="2800080"/>
                <a:gridCol w="5193000"/>
              </a:tblGrid>
              <a:tr h="129384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луб делового человека», «Я- Гражданин», «Подросток на рынке труда», «Компас добрых дел»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84360" y="2349360"/>
          <a:ext cx="8002440" cy="1079640"/>
        </p:xfrm>
        <a:graphic>
          <a:graphicData uri="http://schemas.openxmlformats.org/drawingml/2006/table">
            <a:tbl>
              <a:tblPr/>
              <a:tblGrid>
                <a:gridCol w="2755800"/>
                <a:gridCol w="5246640"/>
              </a:tblGrid>
              <a:tr h="107964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9-11 кла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141720"/>
          <a:ext cx="8002440" cy="1568520"/>
        </p:xfrm>
        <a:graphic>
          <a:graphicData uri="http://schemas.openxmlformats.org/drawingml/2006/table">
            <a:tbl>
              <a:tblPr/>
              <a:tblGrid>
                <a:gridCol w="2755800"/>
                <a:gridCol w="5246640"/>
              </a:tblGrid>
              <a:tr h="156852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олезная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ынок труда) и социальные роли в общ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84360" y="4437000"/>
          <a:ext cx="8002440" cy="1225440"/>
        </p:xfrm>
        <a:graphic>
          <a:graphicData uri="http://schemas.openxmlformats.org/drawingml/2006/table">
            <a:tbl>
              <a:tblPr/>
              <a:tblGrid>
                <a:gridCol w="2736720"/>
                <a:gridCol w="5265720"/>
              </a:tblGrid>
              <a:tr h="122544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 база исследова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У СОШ №1039, Управа района Люблин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тский сад ЮВАО № 1375, «МИВТ-центр»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84360" y="5486400"/>
          <a:ext cx="8002440" cy="1352520"/>
        </p:xfrm>
        <a:graphic>
          <a:graphicData uri="http://schemas.openxmlformats.org/drawingml/2006/table">
            <a:tbl>
              <a:tblPr/>
              <a:tblGrid>
                <a:gridCol w="2585880"/>
                <a:gridCol w="5416560"/>
              </a:tblGrid>
              <a:tr h="135252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проектов: долгосроч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роекта: социальный, внутрирайонный, групп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71" name=""/>
          <p:cNvSpPr txBox="1"/>
          <p:nvPr/>
        </p:nvSpPr>
        <p:spPr>
          <a:xfrm>
            <a:off x="1295280" y="333360"/>
            <a:ext cx="6858000" cy="108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ЗИТНАЯ КАРТОЧК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-2892240" y="3352680"/>
            <a:ext cx="662940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ТЕРРИТОРИЯ ИННОВАЦИЙ И КРЕАТИ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1752480"/>
            <a:ext cx="91440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2895480"/>
            <a:ext cx="91440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4114800"/>
            <a:ext cx="91440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86800" y="5334120"/>
            <a:ext cx="914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0"/>
            <a:ext cx="12189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93080" y="371628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44720" y="3211560"/>
            <a:ext cx="1652760" cy="220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491508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1979640" cy="148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975280" y="134136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154944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133720" y="491508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589200" y="0"/>
            <a:ext cx="2532240" cy="328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7816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081840" y="-171360"/>
            <a:ext cx="124272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648320" y="5643720"/>
            <a:ext cx="2158920" cy="121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7308720" y="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4500720" y="4581360"/>
            <a:ext cx="1123920" cy="14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427640" y="3284640"/>
            <a:ext cx="1731960" cy="129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2700360" y="0"/>
            <a:ext cx="1309680" cy="1747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27280" cy="147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5:00:25Z</dcterms:created>
  <dc:creator>Алена</dc:creator>
  <dc:description/>
  <dc:language>en-US</dc:language>
  <cp:lastModifiedBy>Алена</cp:lastModifiedBy>
  <dcterms:modified xsi:type="dcterms:W3CDTF">2013-10-13T05:29:02Z</dcterms:modified>
  <cp:revision>5</cp:revision>
  <dc:subject/>
  <dc:title>Слайд 1</dc:title>
</cp:coreProperties>
</file>