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A3A-BEBB-4A11-809C-7F64CB57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0C0-2C66-4331-BD8B-57E6558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D4E-C9A7-4B80-B060-C6D39CCB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AF5-777C-4457-B3C6-C98A08D4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4AAA-2593-49DF-9930-B0D00000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32C3-9646-4D10-A16B-0A8CA5F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1EC-7F99-43D0-844B-8C46EFC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3C66-40C1-4523-B3D9-0DDF8E14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D32-C263-4465-9128-2392F88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07E7-ADA7-47FD-9BBD-F9BD4F4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CB8-1F9E-4427-86AF-9DCEAD5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012-24F4-4959-9565-3A0B614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E86D-F239-40E8-8DB6-C722088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13B-4B04-474E-AD01-701B59F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2D1-DCC2-42B2-9C41-BD8AF9D8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9D7-42CB-4BFF-BB2A-547CE034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5F6-3E2C-411A-8246-E5AAE993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60CA-03A4-43A6-9E07-A8C7684F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1B9E-FDF6-40B6-B7BA-AEB83F5D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531F-1E8D-472C-B076-F27BA47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B55A-DDF7-4BF9-B00C-7E72709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B98F-CE27-4B78-A7FE-3D7D573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8C3-01D3-4E3E-87D8-5875085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9772-32B0-4798-8138-6624772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A0F8-363F-4E07-9CDB-C015309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A86D-C300-4368-9300-8C3550F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B009-4781-413B-836D-FE796C8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0BA8-2AFB-4A95-9936-8DCC26F9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F052-6F21-49EF-A69D-D3785077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B2D3-8F42-4AF4-971B-D635EA23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130-86F4-4EAF-A1F2-9D1E8E8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FB8-C3AA-4451-AE06-E347916F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E2F-E09C-4C3B-9FA6-8EF77428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F6D-8E77-4FCC-9A4E-CB7774E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E8D-4F29-4772-8A50-736BBF3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3F9-D064-4B00-863E-D8CD0A0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3931-2673-4590-9674-E7710E6D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F072-E6C4-4BA0-B1AA-0F8255BA7E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A4CA-D02A-4DF6-B340-D7984E4193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01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ПЕРВЫЙ ПРИЗНАК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468360" y="476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∆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ABC = ∆PSK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.     Выпишите соответственно равные элементы этих треуголь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4429080" y="19288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479760" y="1928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347920" y="2297160"/>
            <a:ext cx="151128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055960" y="4086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94160" y="4086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 rot="18874200">
            <a:off x="4078080" y="2317320"/>
            <a:ext cx="158292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4500720" y="4214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857920" y="278604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2771640" y="3305160"/>
            <a:ext cx="14472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44"/>
          <p:cNvSpPr/>
          <p:nvPr/>
        </p:nvSpPr>
        <p:spPr>
          <a:xfrm>
            <a:off x="4641840" y="3436920"/>
            <a:ext cx="227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46"/>
          <p:cNvSpPr/>
          <p:nvPr/>
        </p:nvSpPr>
        <p:spPr>
          <a:xfrm>
            <a:off x="3098880" y="406404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50"/>
          <p:cNvSpPr/>
          <p:nvPr/>
        </p:nvSpPr>
        <p:spPr>
          <a:xfrm>
            <a:off x="3051000" y="406404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52"/>
          <p:cNvSpPr/>
          <p:nvPr/>
        </p:nvSpPr>
        <p:spPr>
          <a:xfrm>
            <a:off x="5410080" y="3878280"/>
            <a:ext cx="14472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54"/>
          <p:cNvSpPr/>
          <p:nvPr/>
        </p:nvSpPr>
        <p:spPr>
          <a:xfrm>
            <a:off x="5464080" y="3833640"/>
            <a:ext cx="144720" cy="14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56"/>
          <p:cNvSpPr/>
          <p:nvPr/>
        </p:nvSpPr>
        <p:spPr>
          <a:xfrm>
            <a:off x="3533760" y="3220920"/>
            <a:ext cx="227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58"/>
          <p:cNvSpPr/>
          <p:nvPr/>
        </p:nvSpPr>
        <p:spPr>
          <a:xfrm>
            <a:off x="3533760" y="3295800"/>
            <a:ext cx="227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59"/>
          <p:cNvSpPr/>
          <p:nvPr/>
        </p:nvSpPr>
        <p:spPr>
          <a:xfrm>
            <a:off x="3537000" y="3367080"/>
            <a:ext cx="22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60"/>
          <p:cNvSpPr/>
          <p:nvPr/>
        </p:nvSpPr>
        <p:spPr>
          <a:xfrm flipV="1">
            <a:off x="5102280" y="2695320"/>
            <a:ext cx="19044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61"/>
          <p:cNvSpPr/>
          <p:nvPr/>
        </p:nvSpPr>
        <p:spPr>
          <a:xfrm flipV="1">
            <a:off x="5143680" y="2738160"/>
            <a:ext cx="19044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62"/>
          <p:cNvSpPr/>
          <p:nvPr/>
        </p:nvSpPr>
        <p:spPr>
          <a:xfrm flipV="1">
            <a:off x="5200560" y="2777760"/>
            <a:ext cx="19044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Дуга 20"/>
          <p:cNvSpPr/>
          <p:nvPr/>
        </p:nvSpPr>
        <p:spPr>
          <a:xfrm>
            <a:off x="2278080" y="3973680"/>
            <a:ext cx="372960" cy="392040"/>
          </a:xfrm>
          <a:custGeom>
            <a:avLst/>
            <a:gdLst/>
            <a:ahLst/>
            <a:rect l="l" t="t" r="r" b="b"/>
            <a:pathLst>
              <a:path stroke="0" w="373062" h="392112">
                <a:moveTo>
                  <a:pt x="186531" y="0"/>
                </a:moveTo>
                <a:cubicBezTo>
                  <a:pt x="289549" y="0"/>
                  <a:pt x="373062" y="87777"/>
                  <a:pt x="373062" y="196056"/>
                </a:cubicBezTo>
                <a:lnTo>
                  <a:pt x="186531" y="196056"/>
                </a:lnTo>
                <a:lnTo>
                  <a:pt x="186531" y="0"/>
                </a:lnTo>
                <a:close/>
              </a:path>
              <a:path fill="none" w="373062" h="392112">
                <a:moveTo>
                  <a:pt x="186531" y="0"/>
                </a:moveTo>
                <a:cubicBezTo>
                  <a:pt x="289549" y="0"/>
                  <a:pt x="373062" y="87777"/>
                  <a:pt x="373062" y="1960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63"/>
          <p:cNvSpPr/>
          <p:nvPr/>
        </p:nvSpPr>
        <p:spPr>
          <a:xfrm>
            <a:off x="4716360" y="4176720"/>
            <a:ext cx="371520" cy="392040"/>
          </a:xfrm>
          <a:custGeom>
            <a:avLst/>
            <a:gdLst/>
            <a:ahLst/>
            <a:rect l="l" t="t" r="r" b="b"/>
            <a:pathLst>
              <a:path stroke="0" w="371475" h="392112">
                <a:moveTo>
                  <a:pt x="185737" y="0"/>
                </a:moveTo>
                <a:cubicBezTo>
                  <a:pt x="273704" y="0"/>
                  <a:pt x="349608" y="65137"/>
                  <a:pt x="367564" y="156036"/>
                </a:cubicBezTo>
                <a:lnTo>
                  <a:pt x="185738" y="196056"/>
                </a:lnTo>
                <a:cubicBezTo>
                  <a:pt x="185738" y="130704"/>
                  <a:pt x="185737" y="65352"/>
                  <a:pt x="185737" y="0"/>
                </a:cubicBezTo>
                <a:close/>
              </a:path>
              <a:path fill="none" w="371475" h="392112">
                <a:moveTo>
                  <a:pt x="185737" y="0"/>
                </a:moveTo>
                <a:cubicBezTo>
                  <a:pt x="273704" y="0"/>
                  <a:pt x="349608" y="65137"/>
                  <a:pt x="367564" y="1560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Дуга 64"/>
          <p:cNvSpPr/>
          <p:nvPr/>
        </p:nvSpPr>
        <p:spPr>
          <a:xfrm flipH="1" flipV="1">
            <a:off x="3312360" y="2334600"/>
            <a:ext cx="523800" cy="393480"/>
          </a:xfrm>
          <a:custGeom>
            <a:avLst/>
            <a:gdLst/>
            <a:ahLst/>
            <a:rect l="l" t="t" r="r" b="b"/>
            <a:pathLst>
              <a:path stroke="0" w="523875" h="393700">
                <a:moveTo>
                  <a:pt x="261937" y="0"/>
                </a:moveTo>
                <a:cubicBezTo>
                  <a:pt x="406601" y="0"/>
                  <a:pt x="523875" y="88133"/>
                  <a:pt x="523875" y="196850"/>
                </a:cubicBezTo>
                <a:lnTo>
                  <a:pt x="261938" y="196850"/>
                </a:lnTo>
                <a:cubicBezTo>
                  <a:pt x="261938" y="131233"/>
                  <a:pt x="261937" y="65617"/>
                  <a:pt x="261937" y="0"/>
                </a:cubicBezTo>
                <a:close/>
              </a:path>
              <a:path fill="none" w="523875" h="393700">
                <a:moveTo>
                  <a:pt x="261937" y="0"/>
                </a:moveTo>
                <a:cubicBezTo>
                  <a:pt x="406601" y="0"/>
                  <a:pt x="523875" y="88133"/>
                  <a:pt x="523875" y="19685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65"/>
          <p:cNvSpPr/>
          <p:nvPr/>
        </p:nvSpPr>
        <p:spPr>
          <a:xfrm flipH="1" flipV="1">
            <a:off x="3250440" y="2465280"/>
            <a:ext cx="523800" cy="393840"/>
          </a:xfrm>
          <a:custGeom>
            <a:avLst/>
            <a:gdLst/>
            <a:ahLst/>
            <a:rect l="l" t="t" r="r" b="b"/>
            <a:pathLst>
              <a:path stroke="0" w="523875" h="393700">
                <a:moveTo>
                  <a:pt x="191242" y="7305"/>
                </a:moveTo>
                <a:cubicBezTo>
                  <a:pt x="255412" y="-6212"/>
                  <a:pt x="324026" y="-839"/>
                  <a:pt x="383110" y="22329"/>
                </a:cubicBezTo>
                <a:cubicBezTo>
                  <a:pt x="469627" y="56255"/>
                  <a:pt x="523875" y="123512"/>
                  <a:pt x="523875" y="196850"/>
                </a:cubicBezTo>
                <a:lnTo>
                  <a:pt x="261938" y="196850"/>
                </a:lnTo>
                <a:lnTo>
                  <a:pt x="191242" y="7305"/>
                </a:lnTo>
                <a:close/>
              </a:path>
              <a:path fill="none" w="523875" h="393700">
                <a:moveTo>
                  <a:pt x="191242" y="7305"/>
                </a:moveTo>
                <a:cubicBezTo>
                  <a:pt x="255412" y="-6212"/>
                  <a:pt x="324026" y="-839"/>
                  <a:pt x="383110" y="22329"/>
                </a:cubicBezTo>
                <a:cubicBezTo>
                  <a:pt x="469627" y="56255"/>
                  <a:pt x="523875" y="123512"/>
                  <a:pt x="523875" y="19685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Дуга 66"/>
          <p:cNvSpPr/>
          <p:nvPr/>
        </p:nvSpPr>
        <p:spPr>
          <a:xfrm flipH="1" flipV="1">
            <a:off x="4407840" y="2486880"/>
            <a:ext cx="461880" cy="174600"/>
          </a:xfrm>
          <a:custGeom>
            <a:avLst/>
            <a:gdLst/>
            <a:ahLst/>
            <a:rect l="l" t="t" r="r" b="b"/>
            <a:pathLst>
              <a:path stroke="0" w="461962" h="174625">
                <a:moveTo>
                  <a:pt x="106" y="84667"/>
                </a:moveTo>
                <a:cubicBezTo>
                  <a:pt x="3619" y="40855"/>
                  <a:pt x="92519" y="4818"/>
                  <a:pt x="207894" y="437"/>
                </a:cubicBezTo>
                <a:cubicBezTo>
                  <a:pt x="259872" y="-1537"/>
                  <a:pt x="312086" y="3208"/>
                  <a:pt x="356011" y="13897"/>
                </a:cubicBezTo>
                <a:lnTo>
                  <a:pt x="230981" y="87313"/>
                </a:lnTo>
                <a:lnTo>
                  <a:pt x="106" y="84667"/>
                </a:lnTo>
                <a:close/>
              </a:path>
              <a:path fill="none" w="461962" h="174625">
                <a:moveTo>
                  <a:pt x="106" y="84667"/>
                </a:moveTo>
                <a:cubicBezTo>
                  <a:pt x="3619" y="40855"/>
                  <a:pt x="92519" y="4818"/>
                  <a:pt x="207894" y="437"/>
                </a:cubicBezTo>
                <a:cubicBezTo>
                  <a:pt x="259872" y="-1537"/>
                  <a:pt x="312086" y="3208"/>
                  <a:pt x="356011" y="1389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67"/>
          <p:cNvSpPr/>
          <p:nvPr/>
        </p:nvSpPr>
        <p:spPr>
          <a:xfrm flipH="1" flipV="1">
            <a:off x="4454640" y="2574360"/>
            <a:ext cx="522000" cy="174600"/>
          </a:xfrm>
          <a:custGeom>
            <a:avLst/>
            <a:gdLst/>
            <a:ahLst/>
            <a:rect l="l" t="t" r="r" b="b"/>
            <a:pathLst>
              <a:path stroke="0" w="522288" h="174625">
                <a:moveTo>
                  <a:pt x="153" y="84322"/>
                </a:moveTo>
                <a:cubicBezTo>
                  <a:pt x="4669" y="40265"/>
                  <a:pt x="106701" y="4244"/>
                  <a:pt x="238032" y="342"/>
                </a:cubicBezTo>
                <a:cubicBezTo>
                  <a:pt x="291003" y="-1232"/>
                  <a:pt x="344149" y="2639"/>
                  <a:pt x="390362" y="11438"/>
                </a:cubicBezTo>
                <a:lnTo>
                  <a:pt x="261144" y="87313"/>
                </a:lnTo>
                <a:lnTo>
                  <a:pt x="153" y="84322"/>
                </a:lnTo>
                <a:close/>
              </a:path>
              <a:path fill="none" w="522288" h="174625">
                <a:moveTo>
                  <a:pt x="153" y="84322"/>
                </a:moveTo>
                <a:cubicBezTo>
                  <a:pt x="4669" y="40265"/>
                  <a:pt x="106701" y="4244"/>
                  <a:pt x="238032" y="342"/>
                </a:cubicBezTo>
                <a:cubicBezTo>
                  <a:pt x="291003" y="-1232"/>
                  <a:pt x="344149" y="2639"/>
                  <a:pt x="390362" y="1143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68"/>
          <p:cNvSpPr/>
          <p:nvPr/>
        </p:nvSpPr>
        <p:spPr>
          <a:xfrm flipH="1" flipV="1">
            <a:off x="4450680" y="2574360"/>
            <a:ext cx="523800" cy="174600"/>
          </a:xfrm>
          <a:custGeom>
            <a:avLst/>
            <a:gdLst/>
            <a:ahLst/>
            <a:rect l="l" t="t" r="r" b="b"/>
            <a:pathLst>
              <a:path stroke="0" w="523875" h="174625">
                <a:moveTo>
                  <a:pt x="155" y="84313"/>
                </a:moveTo>
                <a:cubicBezTo>
                  <a:pt x="4699" y="40250"/>
                  <a:pt x="107077" y="4230"/>
                  <a:pt x="238826" y="340"/>
                </a:cubicBezTo>
                <a:cubicBezTo>
                  <a:pt x="291820" y="-1225"/>
                  <a:pt x="344987" y="2627"/>
                  <a:pt x="391253" y="11381"/>
                </a:cubicBezTo>
                <a:lnTo>
                  <a:pt x="261938" y="87313"/>
                </a:lnTo>
                <a:lnTo>
                  <a:pt x="155" y="84313"/>
                </a:lnTo>
                <a:close/>
              </a:path>
              <a:path fill="none" w="523875" h="174625">
                <a:moveTo>
                  <a:pt x="155" y="84313"/>
                </a:moveTo>
                <a:cubicBezTo>
                  <a:pt x="4699" y="40250"/>
                  <a:pt x="107077" y="4230"/>
                  <a:pt x="238826" y="340"/>
                </a:cubicBezTo>
                <a:cubicBezTo>
                  <a:pt x="291820" y="-1225"/>
                  <a:pt x="344987" y="2627"/>
                  <a:pt x="391253" y="1138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Дуга 69"/>
          <p:cNvSpPr/>
          <p:nvPr/>
        </p:nvSpPr>
        <p:spPr>
          <a:xfrm flipH="1">
            <a:off x="5738040" y="3070080"/>
            <a:ext cx="522360" cy="470160"/>
          </a:xfrm>
          <a:custGeom>
            <a:avLst/>
            <a:gdLst/>
            <a:ahLst/>
            <a:rect l="l" t="t" r="r" b="b"/>
            <a:pathLst>
              <a:path stroke="0" w="522287" h="469900">
                <a:moveTo>
                  <a:pt x="455416" y="77943"/>
                </a:moveTo>
                <a:cubicBezTo>
                  <a:pt x="521287" y="143917"/>
                  <a:pt x="540255" y="237640"/>
                  <a:pt x="504460" y="320269"/>
                </a:cubicBezTo>
                <a:cubicBezTo>
                  <a:pt x="472049" y="395089"/>
                  <a:pt x="399410" y="449833"/>
                  <a:pt x="311855" y="465427"/>
                </a:cubicBezTo>
                <a:lnTo>
                  <a:pt x="261144" y="234950"/>
                </a:lnTo>
                <a:lnTo>
                  <a:pt x="455416" y="77943"/>
                </a:lnTo>
                <a:close/>
              </a:path>
              <a:path fill="none" w="522287" h="469900">
                <a:moveTo>
                  <a:pt x="455416" y="77943"/>
                </a:moveTo>
                <a:cubicBezTo>
                  <a:pt x="521287" y="143917"/>
                  <a:pt x="540255" y="237640"/>
                  <a:pt x="504460" y="320269"/>
                </a:cubicBezTo>
                <a:cubicBezTo>
                  <a:pt x="472049" y="395089"/>
                  <a:pt x="399410" y="449833"/>
                  <a:pt x="311855" y="46542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Дуга 70"/>
          <p:cNvSpPr/>
          <p:nvPr/>
        </p:nvSpPr>
        <p:spPr>
          <a:xfrm flipH="1">
            <a:off x="5828760" y="3060720"/>
            <a:ext cx="523800" cy="469800"/>
          </a:xfrm>
          <a:custGeom>
            <a:avLst/>
            <a:gdLst/>
            <a:ahLst/>
            <a:rect l="l" t="t" r="r" b="b"/>
            <a:pathLst>
              <a:path stroke="0" w="523875" h="469900">
                <a:moveTo>
                  <a:pt x="497527" y="132252"/>
                </a:moveTo>
                <a:cubicBezTo>
                  <a:pt x="557339" y="242643"/>
                  <a:pt x="512342" y="375729"/>
                  <a:pt x="394245" y="437725"/>
                </a:cubicBezTo>
                <a:lnTo>
                  <a:pt x="261938" y="234950"/>
                </a:lnTo>
                <a:lnTo>
                  <a:pt x="497527" y="132252"/>
                </a:lnTo>
                <a:close/>
              </a:path>
              <a:path fill="none" w="523875" h="469900">
                <a:moveTo>
                  <a:pt x="497527" y="132252"/>
                </a:moveTo>
                <a:cubicBezTo>
                  <a:pt x="557339" y="242643"/>
                  <a:pt x="512342" y="375729"/>
                  <a:pt x="394245" y="4377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Дуга 71"/>
          <p:cNvSpPr/>
          <p:nvPr/>
        </p:nvSpPr>
        <p:spPr>
          <a:xfrm flipH="1">
            <a:off x="5628600" y="3079800"/>
            <a:ext cx="523800" cy="469800"/>
          </a:xfrm>
          <a:custGeom>
            <a:avLst/>
            <a:gdLst/>
            <a:ahLst/>
            <a:rect l="l" t="t" r="r" b="b"/>
            <a:pathLst>
              <a:path stroke="0" w="523875" h="469900">
                <a:moveTo>
                  <a:pt x="393220" y="31640"/>
                </a:moveTo>
                <a:cubicBezTo>
                  <a:pt x="504163" y="89277"/>
                  <a:pt x="552289" y="210475"/>
                  <a:pt x="506947" y="318042"/>
                </a:cubicBezTo>
                <a:cubicBezTo>
                  <a:pt x="465960" y="415277"/>
                  <a:pt x="358609" y="476795"/>
                  <a:pt x="243018" y="469287"/>
                </a:cubicBezTo>
                <a:lnTo>
                  <a:pt x="261938" y="234950"/>
                </a:lnTo>
                <a:lnTo>
                  <a:pt x="393220" y="31640"/>
                </a:lnTo>
                <a:close/>
              </a:path>
              <a:path fill="none" w="523875" h="469900">
                <a:moveTo>
                  <a:pt x="393220" y="31640"/>
                </a:moveTo>
                <a:cubicBezTo>
                  <a:pt x="504163" y="89277"/>
                  <a:pt x="552289" y="210475"/>
                  <a:pt x="506947" y="318042"/>
                </a:cubicBezTo>
                <a:cubicBezTo>
                  <a:pt x="465960" y="415277"/>
                  <a:pt x="358609" y="476795"/>
                  <a:pt x="243018" y="46928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Дуга 72"/>
          <p:cNvSpPr/>
          <p:nvPr/>
        </p:nvSpPr>
        <p:spPr>
          <a:xfrm flipH="1">
            <a:off x="3447360" y="3705120"/>
            <a:ext cx="523800" cy="470160"/>
          </a:xfrm>
          <a:custGeom>
            <a:avLst/>
            <a:gdLst/>
            <a:ahLst/>
            <a:rect l="l" t="t" r="r" b="b"/>
            <a:pathLst>
              <a:path stroke="0" w="523875" h="469900">
                <a:moveTo>
                  <a:pt x="192777" y="8338"/>
                </a:moveTo>
                <a:cubicBezTo>
                  <a:pt x="277941" y="-12573"/>
                  <a:pt x="369119" y="6408"/>
                  <a:pt x="435308" y="58829"/>
                </a:cubicBezTo>
                <a:cubicBezTo>
                  <a:pt x="513307" y="120603"/>
                  <a:pt x="543146" y="217931"/>
                  <a:pt x="511329" y="306792"/>
                </a:cubicBezTo>
                <a:cubicBezTo>
                  <a:pt x="482199" y="388151"/>
                  <a:pt x="406119" y="448908"/>
                  <a:pt x="312655" y="465454"/>
                </a:cubicBezTo>
                <a:lnTo>
                  <a:pt x="261938" y="234950"/>
                </a:lnTo>
                <a:lnTo>
                  <a:pt x="192777" y="8338"/>
                </a:lnTo>
                <a:close/>
              </a:path>
              <a:path fill="none" w="523875" h="469900">
                <a:moveTo>
                  <a:pt x="192777" y="8338"/>
                </a:moveTo>
                <a:cubicBezTo>
                  <a:pt x="277941" y="-12573"/>
                  <a:pt x="369119" y="6408"/>
                  <a:pt x="435308" y="58829"/>
                </a:cubicBezTo>
                <a:cubicBezTo>
                  <a:pt x="513307" y="120603"/>
                  <a:pt x="543146" y="217931"/>
                  <a:pt x="511329" y="306792"/>
                </a:cubicBezTo>
                <a:cubicBezTo>
                  <a:pt x="482199" y="388151"/>
                  <a:pt x="406119" y="448908"/>
                  <a:pt x="312655" y="46545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Дуга 73"/>
          <p:cNvSpPr/>
          <p:nvPr/>
        </p:nvSpPr>
        <p:spPr>
          <a:xfrm flipH="1">
            <a:off x="3574440" y="3738600"/>
            <a:ext cx="523800" cy="469800"/>
          </a:xfrm>
          <a:custGeom>
            <a:avLst/>
            <a:gdLst/>
            <a:ahLst/>
            <a:rect l="l" t="t" r="r" b="b"/>
            <a:pathLst>
              <a:path stroke="0" w="523875" h="469900">
                <a:moveTo>
                  <a:pt x="338942" y="10382"/>
                </a:moveTo>
                <a:cubicBezTo>
                  <a:pt x="430565" y="35659"/>
                  <a:pt x="499477" y="103810"/>
                  <a:pt x="518606" y="188063"/>
                </a:cubicBezTo>
                <a:cubicBezTo>
                  <a:pt x="538889" y="277395"/>
                  <a:pt x="499728" y="369188"/>
                  <a:pt x="418139" y="423553"/>
                </a:cubicBezTo>
                <a:lnTo>
                  <a:pt x="261938" y="234950"/>
                </a:lnTo>
                <a:lnTo>
                  <a:pt x="338942" y="10382"/>
                </a:lnTo>
                <a:close/>
              </a:path>
              <a:path fill="none" w="523875" h="469900">
                <a:moveTo>
                  <a:pt x="338942" y="10382"/>
                </a:moveTo>
                <a:cubicBezTo>
                  <a:pt x="430565" y="35659"/>
                  <a:pt x="499477" y="103810"/>
                  <a:pt x="518606" y="188063"/>
                </a:cubicBezTo>
                <a:cubicBezTo>
                  <a:pt x="538889" y="277395"/>
                  <a:pt x="499728" y="369188"/>
                  <a:pt x="418139" y="42355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Дуга 74"/>
          <p:cNvSpPr/>
          <p:nvPr/>
        </p:nvSpPr>
        <p:spPr>
          <a:xfrm flipH="1">
            <a:off x="3695040" y="3782880"/>
            <a:ext cx="523800" cy="470160"/>
          </a:xfrm>
          <a:custGeom>
            <a:avLst/>
            <a:gdLst/>
            <a:ahLst/>
            <a:rect l="l" t="t" r="r" b="b"/>
            <a:pathLst>
              <a:path stroke="0" w="523875" h="469900">
                <a:moveTo>
                  <a:pt x="431142" y="55598"/>
                </a:moveTo>
                <a:cubicBezTo>
                  <a:pt x="545376" y="142305"/>
                  <a:pt x="555547" y="297085"/>
                  <a:pt x="453461" y="395230"/>
                </a:cubicBezTo>
                <a:lnTo>
                  <a:pt x="261938" y="234950"/>
                </a:lnTo>
                <a:lnTo>
                  <a:pt x="431142" y="55598"/>
                </a:lnTo>
                <a:close/>
              </a:path>
              <a:path fill="none" w="523875" h="469900">
                <a:moveTo>
                  <a:pt x="431142" y="55598"/>
                </a:moveTo>
                <a:cubicBezTo>
                  <a:pt x="545376" y="142305"/>
                  <a:pt x="555547" y="297085"/>
                  <a:pt x="453461" y="39523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6985080" cy="20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ПЕРВЫЙ ПРИЗНАК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777744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Если две стороны и угол между ними одного треугольника равны соответственно двум сторонам и углу между ними другого треугольника, то такие треугольники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4392720" cy="1125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 Black"/>
              </a:rPr>
              <a:t>ТЕО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828960" y="852480"/>
            <a:ext cx="485928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Дано: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BC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                   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C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B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Georgia"/>
              </a:rPr>
              <a:t>Доказать: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BC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-2556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0"/>
          <p:cNvSpPr/>
          <p:nvPr/>
        </p:nvSpPr>
        <p:spPr>
          <a:xfrm>
            <a:off x="468360" y="1042920"/>
            <a:ext cx="122400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19040" y="2949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449360" y="29098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900000" y="6015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828720" y="190656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1079640" y="2841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985680" y="28591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7"/>
          <p:cNvSpPr/>
          <p:nvPr/>
        </p:nvSpPr>
        <p:spPr>
          <a:xfrm>
            <a:off x="558720" y="274464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2232000" y="1046160"/>
            <a:ext cx="122400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052720" y="2917800"/>
            <a:ext cx="64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3168720" y="293220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2560680" y="60660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489040" y="220500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2868480" y="28242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795760" y="28116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25"/>
          <p:cNvSpPr/>
          <p:nvPr/>
        </p:nvSpPr>
        <p:spPr>
          <a:xfrm>
            <a:off x="2374920" y="2698920"/>
            <a:ext cx="144360" cy="2156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369720" y="3220920"/>
            <a:ext cx="8620200" cy="33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Georgia"/>
              </a:rPr>
              <a:t>Доказательство: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то 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наложить на 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что вершина А совместится с вершин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тороны АВ и АС наложатся соответственно на луч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скольку АВ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то сторона АВ совместится со стороно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астности, совместятся точки В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скольку АС 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торона АС совместится со сторон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частности, совместятся точки С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совместятся стороны ВС и 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38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ЕШЕНИЕ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56000" y="4076640"/>
            <a:ext cx="6418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известно о треугольниках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KT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EPF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908000" y="1484280"/>
            <a:ext cx="151164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6207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05928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82920" y="119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2363760" y="234792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2690640" y="32418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617920" y="32418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3"/>
          <p:cNvSpPr/>
          <p:nvPr/>
        </p:nvSpPr>
        <p:spPr>
          <a:xfrm>
            <a:off x="1979640" y="313992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637080" y="1484280"/>
            <a:ext cx="1582560" cy="1871640"/>
          </a:xfrm>
          <a:prstGeom prst="triangle">
            <a:avLst>
              <a:gd name="adj" fmla="val 7380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3564000" y="328464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4930920" y="328464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435600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4124160" y="234792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4483080" y="32418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4410000" y="32418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21"/>
          <p:cNvSpPr/>
          <p:nvPr/>
        </p:nvSpPr>
        <p:spPr>
          <a:xfrm>
            <a:off x="3708360" y="313992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22"/>
          <p:cNvSpPr txBox="1"/>
          <p:nvPr/>
        </p:nvSpPr>
        <p:spPr>
          <a:xfrm>
            <a:off x="6948360" y="260280"/>
            <a:ext cx="1973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38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ЕШЕНИЕ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56000" y="3499920"/>
            <a:ext cx="6418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известно о треугольниках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O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DCO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его не хватает для того чтобы сделать вывод о равенстве треуголь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 rot="7291800">
            <a:off x="1075680" y="1947600"/>
            <a:ext cx="2340000" cy="1406520"/>
          </a:xfrm>
          <a:prstGeom prst="triangle">
            <a:avLst>
              <a:gd name="adj" fmla="val 82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684360" y="27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763640" y="10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2771640" y="1699920"/>
            <a:ext cx="144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4284720" y="1628640"/>
            <a:ext cx="142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243320" y="168444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132000" y="220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4500720" y="29242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724360" y="10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H="1">
            <a:off x="3779640" y="251784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2268360" y="256536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195640" y="25653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21"/>
          <p:cNvSpPr txBox="1"/>
          <p:nvPr/>
        </p:nvSpPr>
        <p:spPr>
          <a:xfrm>
            <a:off x="6948360" y="260280"/>
            <a:ext cx="1973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AutoShape 24"/>
          <p:cNvSpPr/>
          <p:nvPr/>
        </p:nvSpPr>
        <p:spPr>
          <a:xfrm rot="18161400">
            <a:off x="3328920" y="1047600"/>
            <a:ext cx="2340000" cy="1406520"/>
          </a:xfrm>
          <a:prstGeom prst="triangle">
            <a:avLst>
              <a:gd name="adj" fmla="val 82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3 </a:t>
            </a: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(№94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066920" y="836640"/>
            <a:ext cx="4833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u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B = B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4920" y="7081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289240" y="29224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1619280" y="206208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74920" y="9097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843280" y="1936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2266920" y="11095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466560" y="988920"/>
            <a:ext cx="2268720" cy="10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66560" y="982800"/>
            <a:ext cx="2089440" cy="19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66560" y="982800"/>
            <a:ext cx="2953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2556000" y="1988640"/>
            <a:ext cx="2156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"/>
          <p:cNvSpPr/>
          <p:nvPr/>
        </p:nvSpPr>
        <p:spPr>
          <a:xfrm flipH="1">
            <a:off x="2734920" y="1341360"/>
            <a:ext cx="684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27"/>
          <p:cNvSpPr/>
          <p:nvPr/>
        </p:nvSpPr>
        <p:spPr>
          <a:xfrm rot="3211800">
            <a:off x="754200" y="951840"/>
            <a:ext cx="432000" cy="265320"/>
          </a:xfrm>
          <a:custGeom>
            <a:avLst/>
            <a:gdLst>
              <a:gd name="textAreaLeft" fmla="*/ 0 w 432000"/>
              <a:gd name="textAreaRight" fmla="*/ 432360 w 432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28"/>
          <p:cNvSpPr/>
          <p:nvPr/>
        </p:nvSpPr>
        <p:spPr>
          <a:xfrm flipH="1" rot="11208600">
            <a:off x="615600" y="1268280"/>
            <a:ext cx="431640" cy="13824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2484360" y="3573360"/>
            <a:ext cx="48243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Доказа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0" y="4221000"/>
            <a:ext cx="9144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) Рассмотрим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 = BC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054080" y="1247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08160" y="982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3 </a:t>
            </a: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(№94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066920" y="836640"/>
            <a:ext cx="4833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u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B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4920" y="806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996920" y="2962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619280" y="206208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274920" y="9097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2843280" y="1946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2266920" y="11095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466560" y="988920"/>
            <a:ext cx="2305080" cy="10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466560" y="982800"/>
            <a:ext cx="2089440" cy="198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466560" y="982800"/>
            <a:ext cx="2953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 flipV="1">
            <a:off x="2556000" y="2062080"/>
            <a:ext cx="215640" cy="90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5"/>
          <p:cNvSpPr/>
          <p:nvPr/>
        </p:nvSpPr>
        <p:spPr>
          <a:xfrm flipH="1">
            <a:off x="2771640" y="1341360"/>
            <a:ext cx="648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6"/>
          <p:cNvSpPr/>
          <p:nvPr/>
        </p:nvSpPr>
        <p:spPr>
          <a:xfrm rot="973200">
            <a:off x="1547280" y="1504440"/>
            <a:ext cx="432000" cy="1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2" h="114">
                <a:moveTo>
                  <a:pt x="0" y="53"/>
                </a:moveTo>
                <a:cubicBezTo>
                  <a:pt x="56" y="26"/>
                  <a:pt x="113" y="0"/>
                  <a:pt x="136" y="8"/>
                </a:cubicBezTo>
                <a:cubicBezTo>
                  <a:pt x="159" y="16"/>
                  <a:pt x="121" y="84"/>
                  <a:pt x="136" y="99"/>
                </a:cubicBezTo>
                <a:cubicBezTo>
                  <a:pt x="151" y="114"/>
                  <a:pt x="204" y="107"/>
                  <a:pt x="227" y="99"/>
                </a:cubicBezTo>
                <a:cubicBezTo>
                  <a:pt x="250" y="91"/>
                  <a:pt x="265" y="61"/>
                  <a:pt x="272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7"/>
          <p:cNvSpPr/>
          <p:nvPr/>
        </p:nvSpPr>
        <p:spPr>
          <a:xfrm rot="3211800">
            <a:off x="754200" y="951840"/>
            <a:ext cx="432000" cy="265320"/>
          </a:xfrm>
          <a:custGeom>
            <a:avLst/>
            <a:gdLst>
              <a:gd name="textAreaLeft" fmla="*/ 0 w 432000"/>
              <a:gd name="textAreaRight" fmla="*/ 432360 w 432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18"/>
          <p:cNvSpPr/>
          <p:nvPr/>
        </p:nvSpPr>
        <p:spPr>
          <a:xfrm flipH="1" rot="11208600">
            <a:off x="615600" y="1268280"/>
            <a:ext cx="431640" cy="13824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2484360" y="3573360"/>
            <a:ext cx="48243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Доказа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4000" y="4292640"/>
            <a:ext cx="813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BD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б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2) Значит,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D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BD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двум сторонам и углу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055520" y="12654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04920" y="9889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</a:t>
            </a: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№4 </a:t>
            </a: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(№95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</a:t>
            </a: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66920" y="836640"/>
            <a:ext cx="4833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D = B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C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0" y="27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39640" y="6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 flipV="1">
            <a:off x="1700280" y="26604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708360" y="7650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2843280" y="270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266920" y="998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Freeform 16"/>
          <p:cNvSpPr/>
          <p:nvPr/>
        </p:nvSpPr>
        <p:spPr>
          <a:xfrm rot="18927600">
            <a:off x="1763280" y="1916280"/>
            <a:ext cx="432000" cy="180720"/>
          </a:xfrm>
          <a:custGeom>
            <a:avLst/>
            <a:gdLst>
              <a:gd name="textAreaLeft" fmla="*/ 0 w 432000"/>
              <a:gd name="textAreaRight" fmla="*/ 432360 w 4320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72" h="114">
                <a:moveTo>
                  <a:pt x="0" y="53"/>
                </a:moveTo>
                <a:cubicBezTo>
                  <a:pt x="56" y="26"/>
                  <a:pt x="113" y="0"/>
                  <a:pt x="136" y="8"/>
                </a:cubicBezTo>
                <a:cubicBezTo>
                  <a:pt x="159" y="16"/>
                  <a:pt x="121" y="84"/>
                  <a:pt x="136" y="99"/>
                </a:cubicBezTo>
                <a:cubicBezTo>
                  <a:pt x="151" y="114"/>
                  <a:pt x="204" y="107"/>
                  <a:pt x="227" y="99"/>
                </a:cubicBezTo>
                <a:cubicBezTo>
                  <a:pt x="250" y="91"/>
                  <a:pt x="265" y="61"/>
                  <a:pt x="272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7"/>
          <p:cNvSpPr/>
          <p:nvPr/>
        </p:nvSpPr>
        <p:spPr>
          <a:xfrm rot="10800000">
            <a:off x="3276360" y="1052640"/>
            <a:ext cx="431640" cy="264960"/>
          </a:xfrm>
          <a:custGeom>
            <a:avLst/>
            <a:gdLst>
              <a:gd name="textAreaLeft" fmla="*/ 0 w 431640"/>
              <a:gd name="textAreaRight" fmla="*/ 432000 w 431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c 18"/>
          <p:cNvSpPr/>
          <p:nvPr/>
        </p:nvSpPr>
        <p:spPr>
          <a:xfrm flipH="1" rot="8280000">
            <a:off x="538560" y="2723760"/>
            <a:ext cx="432000" cy="138240"/>
          </a:xfrm>
          <a:custGeom>
            <a:avLst/>
            <a:gdLst>
              <a:gd name="textAreaLeft" fmla="*/ 360 w 432000"/>
              <a:gd name="textAreaRight" fmla="*/ 432720 w 4320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9"/>
          <p:cNvSpPr/>
          <p:nvPr/>
        </p:nvSpPr>
        <p:spPr>
          <a:xfrm>
            <a:off x="2484360" y="3573360"/>
            <a:ext cx="48243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Доказа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395280" y="1125360"/>
            <a:ext cx="3313080" cy="1657440"/>
          </a:xfrm>
          <a:prstGeom prst="parallelogram">
            <a:avLst>
              <a:gd name="adj" fmla="val 499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2"/>
          <p:cNvSpPr/>
          <p:nvPr/>
        </p:nvSpPr>
        <p:spPr>
          <a:xfrm flipV="1">
            <a:off x="395280" y="1125360"/>
            <a:ext cx="338472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468360" y="4221000"/>
            <a:ext cx="81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) Рассмотрим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BC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D = BC -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 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C – общая.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843280" y="1046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961920" y="23385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036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4 </a:t>
            </a: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(№95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</a:t>
            </a: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6920" y="836640"/>
            <a:ext cx="4833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ВС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C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0" y="27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539640" y="6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700280" y="26604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708360" y="7650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843280" y="270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2266920" y="998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Freeform 11"/>
          <p:cNvSpPr/>
          <p:nvPr/>
        </p:nvSpPr>
        <p:spPr>
          <a:xfrm rot="18927600">
            <a:off x="1763280" y="1916280"/>
            <a:ext cx="432000" cy="180720"/>
          </a:xfrm>
          <a:custGeom>
            <a:avLst/>
            <a:gdLst>
              <a:gd name="textAreaLeft" fmla="*/ 0 w 432000"/>
              <a:gd name="textAreaRight" fmla="*/ 432360 w 4320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72" h="114">
                <a:moveTo>
                  <a:pt x="0" y="53"/>
                </a:moveTo>
                <a:cubicBezTo>
                  <a:pt x="56" y="26"/>
                  <a:pt x="113" y="0"/>
                  <a:pt x="136" y="8"/>
                </a:cubicBezTo>
                <a:cubicBezTo>
                  <a:pt x="159" y="16"/>
                  <a:pt x="121" y="84"/>
                  <a:pt x="136" y="99"/>
                </a:cubicBezTo>
                <a:cubicBezTo>
                  <a:pt x="151" y="114"/>
                  <a:pt x="204" y="107"/>
                  <a:pt x="227" y="99"/>
                </a:cubicBezTo>
                <a:cubicBezTo>
                  <a:pt x="250" y="91"/>
                  <a:pt x="265" y="61"/>
                  <a:pt x="272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12"/>
          <p:cNvSpPr/>
          <p:nvPr/>
        </p:nvSpPr>
        <p:spPr>
          <a:xfrm rot="10800000">
            <a:off x="3276360" y="1052640"/>
            <a:ext cx="431640" cy="264960"/>
          </a:xfrm>
          <a:custGeom>
            <a:avLst/>
            <a:gdLst>
              <a:gd name="textAreaLeft" fmla="*/ 0 w 431640"/>
              <a:gd name="textAreaRight" fmla="*/ 432000 w 431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13"/>
          <p:cNvSpPr/>
          <p:nvPr/>
        </p:nvSpPr>
        <p:spPr>
          <a:xfrm flipH="1" rot="8280000">
            <a:off x="538560" y="2723760"/>
            <a:ext cx="432000" cy="138240"/>
          </a:xfrm>
          <a:custGeom>
            <a:avLst/>
            <a:gdLst>
              <a:gd name="textAreaLeft" fmla="*/ 360 w 432000"/>
              <a:gd name="textAreaRight" fmla="*/ 432720 w 4320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2484360" y="3573360"/>
            <a:ext cx="48243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Доказа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95280" y="1125360"/>
            <a:ext cx="3313080" cy="1657440"/>
          </a:xfrm>
          <a:prstGeom prst="parallelogram">
            <a:avLst>
              <a:gd name="adj" fmla="val 499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 flipV="1">
            <a:off x="395280" y="1125360"/>
            <a:ext cx="338472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324000" y="4437000"/>
            <a:ext cx="813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2) Значит,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C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DA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двум сторонам и углу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838600" y="105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961920" y="23385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285880" y="856800"/>
            <a:ext cx="3576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K = P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AP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PA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 = 12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Найти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14240" y="2214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214720" y="6429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"/>
          <p:cNvSpPr/>
          <p:nvPr/>
        </p:nvSpPr>
        <p:spPr>
          <a:xfrm flipH="1" flipV="1">
            <a:off x="3571560" y="2643120"/>
            <a:ext cx="142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143240" y="13572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428920" y="3071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1500120" y="142884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Freeform 16"/>
          <p:cNvSpPr/>
          <p:nvPr/>
        </p:nvSpPr>
        <p:spPr>
          <a:xfrm rot="18927600">
            <a:off x="2430360" y="2026800"/>
            <a:ext cx="432000" cy="1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2" h="114">
                <a:moveTo>
                  <a:pt x="0" y="53"/>
                </a:moveTo>
                <a:cubicBezTo>
                  <a:pt x="56" y="26"/>
                  <a:pt x="113" y="0"/>
                  <a:pt x="136" y="8"/>
                </a:cubicBezTo>
                <a:cubicBezTo>
                  <a:pt x="159" y="16"/>
                  <a:pt x="121" y="84"/>
                  <a:pt x="136" y="99"/>
                </a:cubicBezTo>
                <a:cubicBezTo>
                  <a:pt x="151" y="114"/>
                  <a:pt x="204" y="107"/>
                  <a:pt x="227" y="99"/>
                </a:cubicBezTo>
                <a:cubicBezTo>
                  <a:pt x="250" y="91"/>
                  <a:pt x="265" y="61"/>
                  <a:pt x="272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17"/>
          <p:cNvSpPr/>
          <p:nvPr/>
        </p:nvSpPr>
        <p:spPr>
          <a:xfrm rot="10800000">
            <a:off x="3857400" y="2000160"/>
            <a:ext cx="431640" cy="408240"/>
          </a:xfrm>
          <a:custGeom>
            <a:avLst/>
            <a:gdLst>
              <a:gd name="textAreaLeft" fmla="*/ 0 w 431640"/>
              <a:gd name="textAreaRight" fmla="*/ 432000 w 43164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18"/>
          <p:cNvSpPr/>
          <p:nvPr/>
        </p:nvSpPr>
        <p:spPr>
          <a:xfrm flipH="1" rot="8280000">
            <a:off x="814320" y="1969560"/>
            <a:ext cx="432000" cy="2509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3000240" y="3429000"/>
            <a:ext cx="4824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Реш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1"/>
          <p:cNvSpPr/>
          <p:nvPr/>
        </p:nvSpPr>
        <p:spPr>
          <a:xfrm rot="1510800">
            <a:off x="942840" y="1268280"/>
            <a:ext cx="3313080" cy="1657440"/>
          </a:xfrm>
          <a:prstGeom prst="parallelogram">
            <a:avLst>
              <a:gd name="adj" fmla="val 499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 flipV="1">
            <a:off x="785880" y="2071440"/>
            <a:ext cx="3643200" cy="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500040" y="4071960"/>
            <a:ext cx="81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) Рассмотрим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AP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P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K = MP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AP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PA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P – общая.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9"/>
          <p:cNvGrpSpPr/>
          <p:nvPr/>
        </p:nvGrpSpPr>
        <p:grpSpPr>
          <a:xfrm>
            <a:off x="2095560" y="3011400"/>
            <a:ext cx="3643200" cy="2402280"/>
            <a:chOff x="2095560" y="3011400"/>
            <a:chExt cx="3643200" cy="2402280"/>
          </a:xfrm>
        </p:grpSpPr>
        <p:sp>
          <p:nvSpPr>
            <p:cNvPr id="135" name="Равнобедренный треугольник 5"/>
            <p:cNvSpPr/>
            <p:nvPr/>
          </p:nvSpPr>
          <p:spPr>
            <a:xfrm>
              <a:off x="2523960" y="3535200"/>
              <a:ext cx="2714760" cy="1785960"/>
            </a:xfrm>
            <a:prstGeom prst="triangle">
              <a:avLst>
                <a:gd name="adj" fmla="val 372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6"/>
            <p:cNvSpPr/>
            <p:nvPr/>
          </p:nvSpPr>
          <p:spPr>
            <a:xfrm>
              <a:off x="2095560" y="48931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7"/>
            <p:cNvSpPr/>
            <p:nvPr/>
          </p:nvSpPr>
          <p:spPr>
            <a:xfrm>
              <a:off x="5238720" y="489312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8"/>
            <p:cNvSpPr/>
            <p:nvPr/>
          </p:nvSpPr>
          <p:spPr>
            <a:xfrm>
              <a:off x="3292200" y="30114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ая соединительная линия 2"/>
          <p:cNvSpPr/>
          <p:nvPr/>
        </p:nvSpPr>
        <p:spPr>
          <a:xfrm>
            <a:off x="1974960" y="1752480"/>
            <a:ext cx="439740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4"/>
          <p:cNvSpPr/>
          <p:nvPr/>
        </p:nvSpPr>
        <p:spPr>
          <a:xfrm>
            <a:off x="2408400" y="1706400"/>
            <a:ext cx="44280" cy="46080"/>
          </a:xfrm>
          <a:prstGeom prst="flowChartConnector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узел 7"/>
          <p:cNvSpPr/>
          <p:nvPr/>
        </p:nvSpPr>
        <p:spPr>
          <a:xfrm>
            <a:off x="5364000" y="1708200"/>
            <a:ext cx="46080" cy="46080"/>
          </a:xfrm>
          <a:prstGeom prst="flowChartConnector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узел 8"/>
          <p:cNvSpPr/>
          <p:nvPr/>
        </p:nvSpPr>
        <p:spPr>
          <a:xfrm>
            <a:off x="4006800" y="1728720"/>
            <a:ext cx="46080" cy="46080"/>
          </a:xfrm>
          <a:prstGeom prst="flowChartConnector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230560" y="1228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3816360" y="1228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132520" y="1225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285880" y="856800"/>
            <a:ext cx="3576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AK = P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AP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PA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 = 12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Найти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14240" y="2214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2214720" y="6429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 flipH="1" flipV="1">
            <a:off x="3571560" y="2643120"/>
            <a:ext cx="142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143240" y="13572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428920" y="3071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1500120" y="142884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Freeform 16"/>
          <p:cNvSpPr/>
          <p:nvPr/>
        </p:nvSpPr>
        <p:spPr>
          <a:xfrm rot="18927600">
            <a:off x="2430360" y="2026800"/>
            <a:ext cx="432000" cy="1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2" h="114">
                <a:moveTo>
                  <a:pt x="0" y="53"/>
                </a:moveTo>
                <a:cubicBezTo>
                  <a:pt x="56" y="26"/>
                  <a:pt x="113" y="0"/>
                  <a:pt x="136" y="8"/>
                </a:cubicBezTo>
                <a:cubicBezTo>
                  <a:pt x="159" y="16"/>
                  <a:pt x="121" y="84"/>
                  <a:pt x="136" y="99"/>
                </a:cubicBezTo>
                <a:cubicBezTo>
                  <a:pt x="151" y="114"/>
                  <a:pt x="204" y="107"/>
                  <a:pt x="227" y="99"/>
                </a:cubicBezTo>
                <a:cubicBezTo>
                  <a:pt x="250" y="91"/>
                  <a:pt x="265" y="61"/>
                  <a:pt x="272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7"/>
          <p:cNvSpPr/>
          <p:nvPr/>
        </p:nvSpPr>
        <p:spPr>
          <a:xfrm rot="10800000">
            <a:off x="3857400" y="2000160"/>
            <a:ext cx="431640" cy="408240"/>
          </a:xfrm>
          <a:custGeom>
            <a:avLst/>
            <a:gdLst>
              <a:gd name="textAreaLeft" fmla="*/ 0 w 431640"/>
              <a:gd name="textAreaRight" fmla="*/ 432000 w 43164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8"/>
          <p:cNvSpPr/>
          <p:nvPr/>
        </p:nvSpPr>
        <p:spPr>
          <a:xfrm flipH="1" rot="8280000">
            <a:off x="814320" y="1969560"/>
            <a:ext cx="432000" cy="2509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/>
          <p:cNvSpPr/>
          <p:nvPr/>
        </p:nvSpPr>
        <p:spPr>
          <a:xfrm rot="1510800">
            <a:off x="942840" y="1268280"/>
            <a:ext cx="3313080" cy="1657440"/>
          </a:xfrm>
          <a:prstGeom prst="parallelogram">
            <a:avLst>
              <a:gd name="adj" fmla="val 499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 flipV="1">
            <a:off x="785880" y="2071440"/>
            <a:ext cx="3643200" cy="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214200" y="4000680"/>
            <a:ext cx="8715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2) Значит,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AP =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PA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двум сторонам и углу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з равенства треугольников следует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= 12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= 12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4000680" y="3357720"/>
            <a:ext cx="482436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Реш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Группа 21"/>
          <p:cNvGrpSpPr/>
          <p:nvPr/>
        </p:nvGrpSpPr>
        <p:grpSpPr>
          <a:xfrm>
            <a:off x="2653920" y="1286280"/>
            <a:ext cx="2699280" cy="2471400"/>
            <a:chOff x="2653920" y="1286280"/>
            <a:chExt cx="2699280" cy="2471400"/>
          </a:xfrm>
        </p:grpSpPr>
        <p:sp>
          <p:nvSpPr>
            <p:cNvPr id="391" name="Равнобедренный треугольник 17"/>
            <p:cNvSpPr/>
            <p:nvPr/>
          </p:nvSpPr>
          <p:spPr>
            <a:xfrm flipH="1" rot="3031200">
              <a:off x="3967560" y="1337040"/>
              <a:ext cx="912600" cy="1654200"/>
            </a:xfrm>
            <a:prstGeom prst="triangle">
              <a:avLst>
                <a:gd name="adj" fmla="val 10000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Равнобедренный треугольник 20"/>
            <p:cNvSpPr/>
            <p:nvPr/>
          </p:nvSpPr>
          <p:spPr>
            <a:xfrm flipH="1" rot="13831200">
              <a:off x="2931480" y="2464200"/>
              <a:ext cx="912600" cy="1150560"/>
            </a:xfrm>
            <a:prstGeom prst="triangle">
              <a:avLst>
                <a:gd name="adj" fmla="val 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2"/>
          <p:cNvGrpSpPr/>
          <p:nvPr/>
        </p:nvGrpSpPr>
        <p:grpSpPr>
          <a:xfrm>
            <a:off x="-360" y="1288440"/>
            <a:ext cx="2724480" cy="2460960"/>
            <a:chOff x="-360" y="1288440"/>
            <a:chExt cx="2724480" cy="2460960"/>
          </a:xfrm>
        </p:grpSpPr>
        <p:sp>
          <p:nvSpPr>
            <p:cNvPr id="394" name="Равнобедренный треугольник 23"/>
            <p:cNvSpPr/>
            <p:nvPr/>
          </p:nvSpPr>
          <p:spPr>
            <a:xfrm rot="18553800">
              <a:off x="466200" y="1344600"/>
              <a:ext cx="926280" cy="1644480"/>
            </a:xfrm>
            <a:prstGeom prst="triangle">
              <a:avLst>
                <a:gd name="adj" fmla="val 10000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Равнобедренный треугольник 24"/>
            <p:cNvSpPr/>
            <p:nvPr/>
          </p:nvSpPr>
          <p:spPr>
            <a:xfrm rot="7753800">
              <a:off x="1524960" y="2456640"/>
              <a:ext cx="926280" cy="1144080"/>
            </a:xfrm>
            <a:prstGeom prst="triangle">
              <a:avLst>
                <a:gd name="adj" fmla="val 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86240" y="785520"/>
            <a:ext cx="4143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AM = C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B = BC; MB = 7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NB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казать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B = N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928800" y="3000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500200" y="3000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 flipV="1">
            <a:off x="3500280" y="2928600"/>
            <a:ext cx="4608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214880" y="9288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642960" y="857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1714680" y="2928960"/>
            <a:ext cx="457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Arc 17"/>
          <p:cNvSpPr/>
          <p:nvPr/>
        </p:nvSpPr>
        <p:spPr>
          <a:xfrm rot="16008600">
            <a:off x="3707280" y="2896200"/>
            <a:ext cx="771840" cy="430200"/>
          </a:xfrm>
          <a:custGeom>
            <a:avLst/>
            <a:gdLst>
              <a:gd name="textAreaLeft" fmla="*/ 0 w 771840"/>
              <a:gd name="textAreaRight" fmla="*/ 772200 w 77184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18"/>
          <p:cNvSpPr/>
          <p:nvPr/>
        </p:nvSpPr>
        <p:spPr>
          <a:xfrm flipH="1" rot="6280800">
            <a:off x="836280" y="2950560"/>
            <a:ext cx="846000" cy="462240"/>
          </a:xfrm>
          <a:custGeom>
            <a:avLst/>
            <a:gdLst>
              <a:gd name="textAreaLeft" fmla="*/ 360 w 846000"/>
              <a:gd name="textAreaRight" fmla="*/ 846720 w 84600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4143240" y="3429000"/>
            <a:ext cx="23241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Реш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500040" y="4071960"/>
            <a:ext cx="6572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) Рассмотрим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MB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N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M = CN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 = BC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929040" y="2928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 flipH="1" flipV="1">
            <a:off x="4357440" y="2142720"/>
            <a:ext cx="16812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841320" y="2142720"/>
            <a:ext cx="1684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30"/>
          <p:cNvSpPr/>
          <p:nvPr/>
        </p:nvSpPr>
        <p:spPr>
          <a:xfrm>
            <a:off x="586800" y="1285200"/>
            <a:ext cx="664920" cy="174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31"/>
          <p:cNvSpPr/>
          <p:nvPr/>
        </p:nvSpPr>
        <p:spPr>
          <a:xfrm>
            <a:off x="586800" y="1285920"/>
            <a:ext cx="212868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32"/>
          <p:cNvSpPr/>
          <p:nvPr/>
        </p:nvSpPr>
        <p:spPr>
          <a:xfrm flipV="1">
            <a:off x="2716200" y="1285920"/>
            <a:ext cx="207000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3"/>
          <p:cNvSpPr/>
          <p:nvPr/>
        </p:nvSpPr>
        <p:spPr>
          <a:xfrm>
            <a:off x="142920" y="3022560"/>
            <a:ext cx="5000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34"/>
          <p:cNvSpPr/>
          <p:nvPr/>
        </p:nvSpPr>
        <p:spPr>
          <a:xfrm flipH="1">
            <a:off x="4119120" y="1285920"/>
            <a:ext cx="655560" cy="17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641760" y="24098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260360" y="2424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 flipH="1" flipV="1">
            <a:off x="909360" y="2235240"/>
            <a:ext cx="1681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 flipH="1" flipV="1">
            <a:off x="4363920" y="2068560"/>
            <a:ext cx="1684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Группа 21"/>
          <p:cNvGrpSpPr/>
          <p:nvPr/>
        </p:nvGrpSpPr>
        <p:grpSpPr>
          <a:xfrm>
            <a:off x="2653920" y="1286280"/>
            <a:ext cx="2699280" cy="2471400"/>
            <a:chOff x="2653920" y="1286280"/>
            <a:chExt cx="2699280" cy="2471400"/>
          </a:xfrm>
        </p:grpSpPr>
        <p:sp>
          <p:nvSpPr>
            <p:cNvPr id="422" name="Равнобедренный треугольник 17"/>
            <p:cNvSpPr/>
            <p:nvPr/>
          </p:nvSpPr>
          <p:spPr>
            <a:xfrm flipH="1" rot="3031200">
              <a:off x="3967560" y="1337040"/>
              <a:ext cx="912600" cy="1654200"/>
            </a:xfrm>
            <a:prstGeom prst="triangle">
              <a:avLst>
                <a:gd name="adj" fmla="val 10000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Равнобедренный треугольник 20"/>
            <p:cNvSpPr/>
            <p:nvPr/>
          </p:nvSpPr>
          <p:spPr>
            <a:xfrm flipH="1" rot="13831200">
              <a:off x="2931480" y="2464200"/>
              <a:ext cx="912600" cy="1150560"/>
            </a:xfrm>
            <a:prstGeom prst="triangle">
              <a:avLst>
                <a:gd name="adj" fmla="val 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Группа 22"/>
          <p:cNvGrpSpPr/>
          <p:nvPr/>
        </p:nvGrpSpPr>
        <p:grpSpPr>
          <a:xfrm>
            <a:off x="-360" y="1288440"/>
            <a:ext cx="2724480" cy="2460960"/>
            <a:chOff x="-360" y="1288440"/>
            <a:chExt cx="2724480" cy="2460960"/>
          </a:xfrm>
        </p:grpSpPr>
        <p:sp>
          <p:nvSpPr>
            <p:cNvPr id="425" name="Равнобедренный треугольник 23"/>
            <p:cNvSpPr/>
            <p:nvPr/>
          </p:nvSpPr>
          <p:spPr>
            <a:xfrm rot="18553800">
              <a:off x="466200" y="1344600"/>
              <a:ext cx="926280" cy="1644480"/>
            </a:xfrm>
            <a:prstGeom prst="triangle">
              <a:avLst>
                <a:gd name="adj" fmla="val 10000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Равнобедренный треугольник 24"/>
            <p:cNvSpPr/>
            <p:nvPr/>
          </p:nvSpPr>
          <p:spPr>
            <a:xfrm rot="7753800">
              <a:off x="1524960" y="2456640"/>
              <a:ext cx="926280" cy="1144080"/>
            </a:xfrm>
            <a:prstGeom prst="triangle">
              <a:avLst>
                <a:gd name="adj" fmla="val 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ЗАДАЧА №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286240" y="785520"/>
            <a:ext cx="4143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AM = C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B = BC; MB = 7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NB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казать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B = N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28800" y="3000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2500200" y="3000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 flipV="1">
            <a:off x="3500280" y="2928600"/>
            <a:ext cx="4608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4214880" y="9288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642960" y="857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1714680" y="2928960"/>
            <a:ext cx="457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10"/>
          <p:cNvSpPr txBox="1"/>
          <p:nvPr/>
        </p:nvSpPr>
        <p:spPr>
          <a:xfrm>
            <a:off x="6084720" y="260280"/>
            <a:ext cx="283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ьмен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Arc 17"/>
          <p:cNvSpPr/>
          <p:nvPr/>
        </p:nvSpPr>
        <p:spPr>
          <a:xfrm rot="16008600">
            <a:off x="3707280" y="2896200"/>
            <a:ext cx="771840" cy="430200"/>
          </a:xfrm>
          <a:custGeom>
            <a:avLst/>
            <a:gdLst>
              <a:gd name="textAreaLeft" fmla="*/ 0 w 771840"/>
              <a:gd name="textAreaRight" fmla="*/ 772200 w 77184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fill="none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</a:path>
              <a:path stroke="0" w="21384" h="15894">
                <a:moveTo>
                  <a:pt x="14626" y="-1"/>
                </a:moveTo>
                <a:cubicBezTo>
                  <a:pt x="18293" y="3374"/>
                  <a:pt x="20680" y="7912"/>
                  <a:pt x="21383" y="12846"/>
                </a:cubicBezTo>
                <a:lnTo>
                  <a:pt x="0" y="15894"/>
                </a:lnTo>
                <a:lnTo>
                  <a:pt x="1462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8"/>
          <p:cNvSpPr/>
          <p:nvPr/>
        </p:nvSpPr>
        <p:spPr>
          <a:xfrm flipH="1" rot="6280800">
            <a:off x="836280" y="2950560"/>
            <a:ext cx="846000" cy="462240"/>
          </a:xfrm>
          <a:custGeom>
            <a:avLst/>
            <a:gdLst>
              <a:gd name="textAreaLeft" fmla="*/ 360 w 846000"/>
              <a:gd name="textAreaRight" fmla="*/ 846720 w 84600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fill="none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</a:path>
              <a:path stroke="0" w="21600" h="13867">
                <a:moveTo>
                  <a:pt x="16560" y="0"/>
                </a:moveTo>
                <a:cubicBezTo>
                  <a:pt x="19816" y="3887"/>
                  <a:pt x="21600" y="8796"/>
                  <a:pt x="21600" y="13867"/>
                </a:cubicBezTo>
                <a:lnTo>
                  <a:pt x="0" y="13867"/>
                </a:lnTo>
                <a:lnTo>
                  <a:pt x="1656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4143240" y="3429000"/>
            <a:ext cx="23241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Georgia"/>
              </a:rPr>
              <a:t>Реш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500040" y="4071960"/>
            <a:ext cx="6572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1) Рассмотрим 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MB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N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M = CN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B = BC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;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1 =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 услов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3929040" y="2928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"/>
          <p:cNvSpPr/>
          <p:nvPr/>
        </p:nvSpPr>
        <p:spPr>
          <a:xfrm flipH="1" flipV="1">
            <a:off x="4357440" y="2142720"/>
            <a:ext cx="16812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"/>
          <p:cNvSpPr/>
          <p:nvPr/>
        </p:nvSpPr>
        <p:spPr>
          <a:xfrm flipH="1" flipV="1">
            <a:off x="841320" y="2142720"/>
            <a:ext cx="1684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30"/>
          <p:cNvSpPr/>
          <p:nvPr/>
        </p:nvSpPr>
        <p:spPr>
          <a:xfrm>
            <a:off x="586800" y="1285200"/>
            <a:ext cx="664920" cy="174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31"/>
          <p:cNvSpPr/>
          <p:nvPr/>
        </p:nvSpPr>
        <p:spPr>
          <a:xfrm>
            <a:off x="586800" y="1285920"/>
            <a:ext cx="212868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32"/>
          <p:cNvSpPr/>
          <p:nvPr/>
        </p:nvSpPr>
        <p:spPr>
          <a:xfrm flipV="1">
            <a:off x="2716200" y="1285920"/>
            <a:ext cx="207000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33"/>
          <p:cNvSpPr/>
          <p:nvPr/>
        </p:nvSpPr>
        <p:spPr>
          <a:xfrm>
            <a:off x="142920" y="3022560"/>
            <a:ext cx="5000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34"/>
          <p:cNvSpPr/>
          <p:nvPr/>
        </p:nvSpPr>
        <p:spPr>
          <a:xfrm flipH="1">
            <a:off x="4119120" y="1285920"/>
            <a:ext cx="655560" cy="17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570120" y="23446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239840" y="23194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H="1" flipV="1">
            <a:off x="909360" y="2235240"/>
            <a:ext cx="1681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"/>
          <p:cNvSpPr/>
          <p:nvPr/>
        </p:nvSpPr>
        <p:spPr>
          <a:xfrm flipH="1" flipV="1">
            <a:off x="4363920" y="2068560"/>
            <a:ext cx="1684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Прямоугольник 10" descr=""/>
          <p:cNvPicPr/>
          <p:nvPr/>
        </p:nvPicPr>
        <p:blipFill>
          <a:blip r:embed="rId1"/>
          <a:stretch/>
        </p:blipFill>
        <p:spPr>
          <a:xfrm>
            <a:off x="328680" y="1463760"/>
            <a:ext cx="84135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256000" cy="718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№</a:t>
            </a: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619280" y="981000"/>
            <a:ext cx="5616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Закончить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2"/>
          <p:cNvSpPr/>
          <p:nvPr/>
        </p:nvSpPr>
        <p:spPr>
          <a:xfrm>
            <a:off x="880920" y="1526760"/>
            <a:ext cx="562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= 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P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о первому признаку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)  AB = KP, AC = KS и  ____=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б)  BC = PS,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и ___=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 =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S, ___=___и___=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Группа 10"/>
          <p:cNvGrpSpPr/>
          <p:nvPr/>
        </p:nvGrpSpPr>
        <p:grpSpPr>
          <a:xfrm>
            <a:off x="3192480" y="4192560"/>
            <a:ext cx="3216240" cy="2010600"/>
            <a:chOff x="3192480" y="4192560"/>
            <a:chExt cx="3216240" cy="2010600"/>
          </a:xfrm>
        </p:grpSpPr>
        <p:sp>
          <p:nvSpPr>
            <p:cNvPr id="459" name="Равнобедренный треугольник 11"/>
            <p:cNvSpPr/>
            <p:nvPr/>
          </p:nvSpPr>
          <p:spPr>
            <a:xfrm>
              <a:off x="3477960" y="4406760"/>
              <a:ext cx="2859120" cy="714240"/>
            </a:xfrm>
            <a:prstGeom prst="triangle">
              <a:avLst>
                <a:gd name="adj" fmla="val 176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Box 2"/>
            <p:cNvSpPr/>
            <p:nvPr/>
          </p:nvSpPr>
          <p:spPr>
            <a:xfrm>
              <a:off x="3192480" y="476352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3"/>
            <p:cNvSpPr/>
            <p:nvPr/>
          </p:nvSpPr>
          <p:spPr>
            <a:xfrm>
              <a:off x="3692520" y="51922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4"/>
            <p:cNvSpPr/>
            <p:nvPr/>
          </p:nvSpPr>
          <p:spPr>
            <a:xfrm>
              <a:off x="6051600" y="56919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5"/>
            <p:cNvSpPr/>
            <p:nvPr/>
          </p:nvSpPr>
          <p:spPr>
            <a:xfrm>
              <a:off x="3192480" y="58348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6"/>
            <p:cNvSpPr/>
            <p:nvPr/>
          </p:nvSpPr>
          <p:spPr>
            <a:xfrm>
              <a:off x="5908680" y="46209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7"/>
            <p:cNvSpPr/>
            <p:nvPr/>
          </p:nvSpPr>
          <p:spPr>
            <a:xfrm>
              <a:off x="3621240" y="41925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Равнобедренный треугольник 18"/>
            <p:cNvSpPr/>
            <p:nvPr/>
          </p:nvSpPr>
          <p:spPr>
            <a:xfrm>
              <a:off x="3549600" y="5406840"/>
              <a:ext cx="2859120" cy="712800"/>
            </a:xfrm>
            <a:prstGeom prst="triangle">
              <a:avLst>
                <a:gd name="adj" fmla="val 176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"/>
          <p:cNvSpPr/>
          <p:nvPr/>
        </p:nvSpPr>
        <p:spPr>
          <a:xfrm>
            <a:off x="22860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256000" cy="718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№</a:t>
            </a: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619280" y="981000"/>
            <a:ext cx="5616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Закончить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22860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1386000" y="1640880"/>
            <a:ext cx="62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= 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о первому признаку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)  AB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AC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 ___=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б)  BC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и ___=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 =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___=___, ___=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Группа 20"/>
          <p:cNvGrpSpPr/>
          <p:nvPr/>
        </p:nvGrpSpPr>
        <p:grpSpPr>
          <a:xfrm>
            <a:off x="2919240" y="4303800"/>
            <a:ext cx="2571840" cy="1423080"/>
            <a:chOff x="2919240" y="4303800"/>
            <a:chExt cx="2571840" cy="1423080"/>
          </a:xfrm>
        </p:grpSpPr>
        <p:sp>
          <p:nvSpPr>
            <p:cNvPr id="475" name="Равнобедренный треугольник 21"/>
            <p:cNvSpPr/>
            <p:nvPr/>
          </p:nvSpPr>
          <p:spPr>
            <a:xfrm>
              <a:off x="3204720" y="4375080"/>
              <a:ext cx="714240" cy="1284120"/>
            </a:xfrm>
            <a:prstGeom prst="triangle">
              <a:avLst>
                <a:gd name="adj" fmla="val 176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2"/>
            <p:cNvSpPr/>
            <p:nvPr/>
          </p:nvSpPr>
          <p:spPr>
            <a:xfrm>
              <a:off x="2919240" y="5358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3"/>
            <p:cNvSpPr/>
            <p:nvPr/>
          </p:nvSpPr>
          <p:spPr>
            <a:xfrm>
              <a:off x="4332240" y="43239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4"/>
            <p:cNvSpPr/>
            <p:nvPr/>
          </p:nvSpPr>
          <p:spPr>
            <a:xfrm>
              <a:off x="5133960" y="53031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"/>
            <p:cNvSpPr/>
            <p:nvPr/>
          </p:nvSpPr>
          <p:spPr>
            <a:xfrm>
              <a:off x="4249800" y="531432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6"/>
            <p:cNvSpPr/>
            <p:nvPr/>
          </p:nvSpPr>
          <p:spPr>
            <a:xfrm>
              <a:off x="3830040" y="534744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7"/>
            <p:cNvSpPr/>
            <p:nvPr/>
          </p:nvSpPr>
          <p:spPr>
            <a:xfrm>
              <a:off x="3347640" y="43038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Равнобедренный треугольник 28"/>
            <p:cNvSpPr/>
            <p:nvPr/>
          </p:nvSpPr>
          <p:spPr>
            <a:xfrm>
              <a:off x="4491000" y="4375080"/>
              <a:ext cx="714240" cy="1284120"/>
            </a:xfrm>
            <a:prstGeom prst="triangle">
              <a:avLst>
                <a:gd name="adj" fmla="val 176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268360" y="1773000"/>
            <a:ext cx="4824720" cy="28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П14,15 вопросы 1-4  Теорему и доказательство 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№</a:t>
            </a: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9</a:t>
            </a: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5</a:t>
            </a: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,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0" y="6524640"/>
            <a:ext cx="9540720" cy="333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9"/>
          <p:cNvGrpSpPr/>
          <p:nvPr/>
        </p:nvGrpSpPr>
        <p:grpSpPr>
          <a:xfrm>
            <a:off x="774720" y="1700280"/>
            <a:ext cx="3643200" cy="2337120"/>
            <a:chOff x="774720" y="1700280"/>
            <a:chExt cx="3643200" cy="2337120"/>
          </a:xfrm>
        </p:grpSpPr>
        <p:sp>
          <p:nvSpPr>
            <p:cNvPr id="147" name="Равнобедренный треугольник 5"/>
            <p:cNvSpPr/>
            <p:nvPr/>
          </p:nvSpPr>
          <p:spPr>
            <a:xfrm>
              <a:off x="1203120" y="2158920"/>
              <a:ext cx="2714760" cy="1785960"/>
            </a:xfrm>
            <a:prstGeom prst="triangle">
              <a:avLst>
                <a:gd name="adj" fmla="val 372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6"/>
            <p:cNvSpPr/>
            <p:nvPr/>
          </p:nvSpPr>
          <p:spPr>
            <a:xfrm>
              <a:off x="774720" y="35168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7"/>
            <p:cNvSpPr/>
            <p:nvPr/>
          </p:nvSpPr>
          <p:spPr>
            <a:xfrm>
              <a:off x="3917880" y="35168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8"/>
            <p:cNvSpPr/>
            <p:nvPr/>
          </p:nvSpPr>
          <p:spPr>
            <a:xfrm>
              <a:off x="2328480" y="170028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542880" y="382680"/>
            <a:ext cx="777240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ТРЕУГОЛЬ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и его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178160" y="1749600"/>
            <a:ext cx="4281480" cy="24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– верш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АВ, ВС, АС –сторо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 –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25480" y="4119480"/>
            <a:ext cx="5500800" cy="18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P</a:t>
            </a:r>
            <a:r>
              <a:rPr b="0" i="1" lang="en-US" sz="2700" spc="-1" strike="noStrike" baseline="-25000">
                <a:solidFill>
                  <a:srgbClr val="990033"/>
                </a:solidFill>
                <a:latin typeface="Georgia"/>
              </a:rPr>
              <a:t>∆ABC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= AB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+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В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C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+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А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Периметр треугольника равен сумме длин всех его стор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468360" y="476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Назовите углы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DEK,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прилежащие к стороне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EK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9"/>
          <p:cNvGrpSpPr/>
          <p:nvPr/>
        </p:nvGrpSpPr>
        <p:grpSpPr>
          <a:xfrm>
            <a:off x="2286000" y="2643120"/>
            <a:ext cx="4429080" cy="2092680"/>
            <a:chOff x="2286000" y="2643120"/>
            <a:chExt cx="4429080" cy="2092680"/>
          </a:xfrm>
        </p:grpSpPr>
        <p:sp>
          <p:nvSpPr>
            <p:cNvPr id="156" name="Равнобедренный треугольник 5"/>
            <p:cNvSpPr/>
            <p:nvPr/>
          </p:nvSpPr>
          <p:spPr>
            <a:xfrm>
              <a:off x="2714400" y="2857320"/>
              <a:ext cx="3500640" cy="1785960"/>
            </a:xfrm>
            <a:prstGeom prst="triangle">
              <a:avLst>
                <a:gd name="adj" fmla="val 751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"/>
            <p:cNvSpPr/>
            <p:nvPr/>
          </p:nvSpPr>
          <p:spPr>
            <a:xfrm>
              <a:off x="2286000" y="42152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7"/>
            <p:cNvSpPr/>
            <p:nvPr/>
          </p:nvSpPr>
          <p:spPr>
            <a:xfrm>
              <a:off x="6215040" y="42152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8"/>
            <p:cNvSpPr/>
            <p:nvPr/>
          </p:nvSpPr>
          <p:spPr>
            <a:xfrm>
              <a:off x="5429160" y="26431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468360" y="476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Назовите углы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MNP,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прилежащие к стороне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MN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авнобедренный треугольник 5"/>
          <p:cNvSpPr/>
          <p:nvPr/>
        </p:nvSpPr>
        <p:spPr>
          <a:xfrm rot="20262600">
            <a:off x="2919240" y="2174400"/>
            <a:ext cx="3216600" cy="2092320"/>
          </a:xfrm>
          <a:prstGeom prst="triangle">
            <a:avLst>
              <a:gd name="adj" fmla="val 116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271476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6143760" y="3714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2857680" y="2214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468360" y="476280"/>
            <a:ext cx="82296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Назовите угол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DEK,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 заключенный между сторонами 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 DE 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и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 DK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9"/>
          <p:cNvGrpSpPr/>
          <p:nvPr/>
        </p:nvGrpSpPr>
        <p:grpSpPr>
          <a:xfrm>
            <a:off x="2286000" y="2643120"/>
            <a:ext cx="4429080" cy="2092680"/>
            <a:chOff x="2286000" y="2643120"/>
            <a:chExt cx="4429080" cy="2092680"/>
          </a:xfrm>
        </p:grpSpPr>
        <p:sp>
          <p:nvSpPr>
            <p:cNvPr id="167" name="Равнобедренный треугольник 5"/>
            <p:cNvSpPr/>
            <p:nvPr/>
          </p:nvSpPr>
          <p:spPr>
            <a:xfrm>
              <a:off x="2714400" y="2857320"/>
              <a:ext cx="3500640" cy="1785960"/>
            </a:xfrm>
            <a:prstGeom prst="triangle">
              <a:avLst>
                <a:gd name="adj" fmla="val 751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6"/>
            <p:cNvSpPr/>
            <p:nvPr/>
          </p:nvSpPr>
          <p:spPr>
            <a:xfrm>
              <a:off x="2286000" y="42152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7"/>
            <p:cNvSpPr/>
            <p:nvPr/>
          </p:nvSpPr>
          <p:spPr>
            <a:xfrm>
              <a:off x="6215040" y="42152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8"/>
            <p:cNvSpPr/>
            <p:nvPr/>
          </p:nvSpPr>
          <p:spPr>
            <a:xfrm>
              <a:off x="5429160" y="26431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468360" y="476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Назовите угол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MNP,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заключенный между сторонами Р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N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 и Р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5"/>
          <p:cNvSpPr/>
          <p:nvPr/>
        </p:nvSpPr>
        <p:spPr>
          <a:xfrm rot="20262600">
            <a:off x="2919240" y="2174400"/>
            <a:ext cx="3216600" cy="2092320"/>
          </a:xfrm>
          <a:prstGeom prst="triangle">
            <a:avLst>
              <a:gd name="adj" fmla="val 116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271476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143760" y="3714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857680" y="2214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468360" y="476280"/>
            <a:ext cx="82296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Между какими сторонами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DEK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 заключен угол К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9"/>
          <p:cNvGrpSpPr/>
          <p:nvPr/>
        </p:nvGrpSpPr>
        <p:grpSpPr>
          <a:xfrm>
            <a:off x="2286000" y="2643120"/>
            <a:ext cx="4429080" cy="2092680"/>
            <a:chOff x="2286000" y="2643120"/>
            <a:chExt cx="4429080" cy="2092680"/>
          </a:xfrm>
        </p:grpSpPr>
        <p:sp>
          <p:nvSpPr>
            <p:cNvPr id="178" name="Равнобедренный треугольник 5"/>
            <p:cNvSpPr/>
            <p:nvPr/>
          </p:nvSpPr>
          <p:spPr>
            <a:xfrm>
              <a:off x="2714400" y="2857320"/>
              <a:ext cx="3500640" cy="1785960"/>
            </a:xfrm>
            <a:prstGeom prst="triangle">
              <a:avLst>
                <a:gd name="adj" fmla="val 751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2286000" y="42152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6215040" y="42152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5429160" y="26431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468360" y="476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Между какими сторонами треугольника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MNP, </a:t>
            </a:r>
            <a:r>
              <a:rPr b="0" i="1" lang="ru-RU" sz="2700" spc="-1" strike="noStrike">
                <a:solidFill>
                  <a:srgbClr val="990033"/>
                </a:solidFill>
                <a:latin typeface="Georgia"/>
              </a:rPr>
              <a:t>заключен угол </a:t>
            </a:r>
            <a:r>
              <a:rPr b="0" i="1" lang="en-US" sz="2700" spc="-1" strike="noStrike">
                <a:solidFill>
                  <a:srgbClr val="990033"/>
                </a:solidFill>
                <a:latin typeface="Georgia"/>
              </a:rPr>
              <a:t>N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Равнобедренный треугольник 5"/>
          <p:cNvSpPr/>
          <p:nvPr/>
        </p:nvSpPr>
        <p:spPr>
          <a:xfrm rot="20262600">
            <a:off x="2919240" y="2174400"/>
            <a:ext cx="3216600" cy="2092320"/>
          </a:xfrm>
          <a:prstGeom prst="triangle">
            <a:avLst>
              <a:gd name="adj" fmla="val 116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71476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143760" y="3714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857680" y="2214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5:37:46Z</dcterms:created>
  <dc:creator>Mama</dc:creator>
  <dc:description/>
  <dc:language>en-US</dc:language>
  <cp:lastModifiedBy>Светлана</cp:lastModifiedBy>
  <dcterms:modified xsi:type="dcterms:W3CDTF">2013-10-07T14:25:06Z</dcterms:modified>
  <cp:revision>57</cp:revision>
  <dc:subject/>
  <dc:title>ПЕРВЫЙ ПРИЗНАК РАВЕНСТВА ТРЕУГОЛЬНИКОВ</dc:title>
</cp:coreProperties>
</file>