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55D-7D94-4AAC-8B5A-A80F7CE6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27B-4F6E-41C4-A04E-26CA5A8B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9AD-76AA-463F-80D8-66705EAA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00E-7E9C-4EDC-956E-2F78A098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7509-EF9A-4367-A357-B3A8DEC2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4C16-397E-460A-A164-4361DC4D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FEE9-072C-4DEF-BB45-2C547C53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7B4D-A66C-4E28-BD69-B7AE0464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91DE-79D9-4953-9BF4-5DDA3DA0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D4C3-5997-446D-8513-5667F419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FA9E-E93F-4903-9625-BDA41C3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4B2-5BF6-4F26-938B-633E9689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244F-2B3A-4E17-88E1-8FDA47DC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FCD9-1E2F-4F80-B4EB-6DC1054B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E071-4E9B-414D-8E21-1E7D239D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1B29-DEFB-4DE3-A3AD-37B25C8A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8845-0122-4898-855E-F719319C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A42-1065-4329-8AC3-A28D5AD9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CEA-6660-41AF-ACB3-A9B63F16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2E8-B3C3-4F24-BD32-005CE9B1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3C9-5F83-4382-9199-77B496FF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D7A-76EA-4910-B42E-97D05B99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FB2-7687-47D3-9DAF-70236401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BE4-AF7E-4396-823C-FBA2F0E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4CDB-82ED-43F4-BAF9-99624702532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1412-9729-45F2-A855-92683B079E4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p=1&amp;text=&#1087;&#1088;&#1086;%20&#1089;&#1086;&#1083;&#1100;&amp;img_url=http%3A%2F%2Fmonk.com.ua%2Fimages%2Farticles%2Fiz-chego-poluchaetsja-sol-7-foto_5.jpg&amp;pos=49&amp;rpt=simage&amp;lr=213&amp;nojs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psearch&amp;p=1&amp;text=&#1087;&#1088;&#1086;%20&#1089;&#1086;&#1083;&#1100;&amp;img_url=http%3A%2F%2Fimages01.olx.com.ua%2Fui%2F5%2F83%2F64%2F1272884022_91437964_3----1272884022.jpg&amp;pos=35&amp;rpt=simage&amp;lr=213&amp;nojs=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8;&#1086;%20&#1089;&#1086;&#1083;&#1100;&amp;img_url=http%3A%2F%2Frim.org.ua%2Fwp-content%2Fuploads%2F2012%2F10%2Fbatarejki-razmerom-s-krupicy-soli_1.jpg&amp;pos=10&amp;rpt=simage&amp;lr=213&amp;noj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99"/>
                </a:solidFill>
                <a:latin typeface="Arial Black"/>
              </a:rPr>
              <a:t>…</a:t>
            </a:r>
            <a:r>
              <a:rPr b="0" lang="en-US" sz="8000" spc="-1" strike="noStrike">
                <a:solidFill>
                  <a:srgbClr val="ff3399"/>
                </a:solidFill>
                <a:latin typeface="Arial Black"/>
              </a:rPr>
              <a:t>Вот это да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Про соль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Как добывают соль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начала.                 Потом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637000"/>
            <a:ext cx="3311640" cy="3457440"/>
          </a:xfrm>
          <a:prstGeom prst="rect">
            <a:avLst/>
          </a:prstGeom>
          <a:ln w="0">
            <a:noFill/>
          </a:ln>
        </p:spPr>
      </p:pic>
      <p:pic>
        <p:nvPicPr>
          <p:cNvPr id="355" name="i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2708280"/>
            <a:ext cx="3024000" cy="3384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440" y="-4867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80" y="1170360"/>
            <a:ext cx="27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42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568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0" y="711396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9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Добыча соли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 Black"/>
              </a:rPr>
              <a:t>Во Вьетнаме соль добываю очень интересным способом.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Arial Black"/>
              </a:rPr>
              <a:t>В специальные ямы наливают морскую воду, затем вьетнамская жара делает свое дело, вода испаряется оставляя соль.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Arial Black"/>
              </a:rPr>
              <a:t>После этого соль собирают в небольшие кучи и отвозят на тачках на завод, где она проходит очистку.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Советы с соль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•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еред отъездом близкого человека поставьте на стол солонку с солью, чтобы дорога была гладкой и не приключилось ничего пло хого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473720"/>
            <a:ext cx="3492360" cy="2384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440" y="-4867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80" y="1170360"/>
            <a:ext cx="27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42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724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400" y="711396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9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99"/>
                </a:solidFill>
                <a:latin typeface="Arial Black"/>
              </a:rPr>
              <a:t>Соль.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оль – не просто приправа, делающая блюда более вкусными. Это одно из самых распространенных природных соединений. Можно без преувеличения сказать, что соль – основа жизни. Она необходима человеку, как вода и воздух. Наш организм не способен самостоятельно вырабатывать ее – вот почему раньше, когда соль не производилась в промышленных масштабах, ее ценили на вес золота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i" descr=""/>
          <p:cNvPicPr/>
          <p:nvPr/>
        </p:nvPicPr>
        <p:blipFill>
          <a:blip r:embed="rId1"/>
          <a:stretch/>
        </p:blipFill>
        <p:spPr>
          <a:xfrm>
            <a:off x="6588000" y="5168880"/>
            <a:ext cx="2556000" cy="16891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440" y="-10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80" y="1656360"/>
            <a:ext cx="27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7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617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00" y="759996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9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68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68" fill="hold"/>
                                        <p:tgtEl>
                                          <p:spTgt spid="3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68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5:43:49Z</dcterms:created>
  <dc:creator>dmin</dc:creator>
  <dc:description/>
  <dc:language>en-US</dc:language>
  <cp:lastModifiedBy>dmin</cp:lastModifiedBy>
  <dcterms:modified xsi:type="dcterms:W3CDTF">2013-10-06T16:40:38Z</dcterms:modified>
  <cp:revision>2</cp:revision>
  <dc:subject/>
  <dc:title>…Вот это да!</dc:title>
</cp:coreProperties>
</file>