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CAC-A5D9-419C-9EEC-24BD1720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F94-7BAF-4D09-AEE5-22169667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60D-6CDF-4E3F-8DDB-C5E128CE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E2C-D5B5-46E8-BB87-E85D2496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B21E-6DD0-4BCD-8E54-08A62BDB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2F31-36D8-4097-8A31-E71BF9D0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70CA-ADCE-4E0E-AD74-6B43EFAE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9AEC-BAF8-4D0A-8083-315C6493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58A2-84B2-4A6F-B9D0-D6106C12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A7FE-6B97-4528-A0A8-7DDC4268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9014-D370-4630-9492-61B1209E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D19-325F-48D5-99B6-6B79B989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D103-0198-4B3D-B1A9-4B84715A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E86A-3AC6-40C5-B51F-3556F941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79AC-19D0-4A73-A93A-034758E7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AF72-41DE-483F-B28D-67921A45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D3FF-35BE-4EFB-B901-016632CC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7AC-9B71-45E0-82FE-C23761B2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5BA-561B-4923-B023-9139E5DA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3AD-E267-4783-B044-AF80454D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4DCC-2F38-48BB-8CA9-85A96A62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89B-607D-491B-8FDD-1D03FFBE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9A6-F2F5-4353-B5C8-F086031F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A89-26B2-437D-9316-839F308F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210bc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CF07-3DCE-414B-B6F0-45EC0C9A505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EDFB-533F-4266-BBE9-A24DD70FE38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210bc7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8.xml"/><Relationship Id="rId3" Type="http://schemas.openxmlformats.org/officeDocument/2006/relationships/slide" Target="slide38.xml"/><Relationship Id="rId4" Type="http://schemas.openxmlformats.org/officeDocument/2006/relationships/image" Target="../media/image6.png"/><Relationship Id="rId5" Type="http://schemas.openxmlformats.org/officeDocument/2006/relationships/slide" Target="slide39.xml"/><Relationship Id="rId6" Type="http://schemas.openxmlformats.org/officeDocument/2006/relationships/slide" Target="slide39.xml"/><Relationship Id="rId7" Type="http://schemas.openxmlformats.org/officeDocument/2006/relationships/slide" Target="slide39.xml"/><Relationship Id="rId8" Type="http://schemas.openxmlformats.org/officeDocument/2006/relationships/slide" Target="slide39.xml"/><Relationship Id="rId9" Type="http://schemas.openxmlformats.org/officeDocument/2006/relationships/image" Target="../media/image7.png"/><Relationship Id="rId10" Type="http://schemas.openxmlformats.org/officeDocument/2006/relationships/slide" Target="slide41.xml"/><Relationship Id="rId11" Type="http://schemas.openxmlformats.org/officeDocument/2006/relationships/slide" Target="slide41.xml"/><Relationship Id="rId12" Type="http://schemas.openxmlformats.org/officeDocument/2006/relationships/slide" Target="slide41.xml"/><Relationship Id="rId13" Type="http://schemas.openxmlformats.org/officeDocument/2006/relationships/image" Target="../media/image8.png"/><Relationship Id="rId14" Type="http://schemas.openxmlformats.org/officeDocument/2006/relationships/slide" Target="slide42.xml"/><Relationship Id="rId15" Type="http://schemas.openxmlformats.org/officeDocument/2006/relationships/slide" Target="slide42.xml"/><Relationship Id="rId16" Type="http://schemas.openxmlformats.org/officeDocument/2006/relationships/slide" Target="slide42.xml"/><Relationship Id="rId17" Type="http://schemas.openxmlformats.org/officeDocument/2006/relationships/image" Target="../media/image9.png"/><Relationship Id="rId18" Type="http://schemas.openxmlformats.org/officeDocument/2006/relationships/slide" Target="slide43.xml"/><Relationship Id="rId19" Type="http://schemas.openxmlformats.org/officeDocument/2006/relationships/slide" Target="slide43.xml"/><Relationship Id="rId20" Type="http://schemas.openxmlformats.org/officeDocument/2006/relationships/image" Target="../media/image10.png"/><Relationship Id="rId21" Type="http://schemas.openxmlformats.org/officeDocument/2006/relationships/slide" Target="slide40.xml"/><Relationship Id="rId22" Type="http://schemas.openxmlformats.org/officeDocument/2006/relationships/slide" Target="slide40.xml"/><Relationship Id="rId23" Type="http://schemas.openxmlformats.org/officeDocument/2006/relationships/slide" Target="slide40.xml"/><Relationship Id="rId2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9476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Garamond"/>
              </a:rPr>
              <a:t>Технология </a:t>
            </a:r>
            <a:br>
              <a:rPr sz="5400"/>
            </a:br>
            <a:r>
              <a:rPr b="1" lang="en-US" sz="5400" spc="-1" strike="noStrike">
                <a:solidFill>
                  <a:srgbClr val="a50021"/>
                </a:solidFill>
                <a:latin typeface="Garamond"/>
              </a:rPr>
              <a:t>проектного обучения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580920" y="502920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Garamond"/>
              </a:rPr>
              <a:t>Типология  учебных проектов (Е.С. Полат)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447920"/>
            <a:ext cx="2438280" cy="121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По доминиру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в проекте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1447920"/>
            <a:ext cx="2590560" cy="1218960"/>
          </a:xfrm>
          <a:prstGeom prst="rect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По предме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содерж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области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Garamond"/>
                <a:hlinkClick r:id="rId8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505320"/>
            <a:ext cx="1752480" cy="914400"/>
          </a:xfrm>
          <a:prstGeom prst="rect">
            <a:avLst/>
          </a:prstGeom>
          <a:blipFill rotWithShape="0">
            <a:blip r:embed="rId9"/>
            <a:srcRect/>
            <a:stretch/>
          </a:blip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По характ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 контактов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3505320"/>
            <a:ext cx="2209680" cy="838080"/>
          </a:xfrm>
          <a:prstGeom prst="rect">
            <a:avLst/>
          </a:prstGeom>
          <a:blipFill rotWithShape="0">
            <a:blip r:embed="rId13"/>
            <a:srcRect/>
            <a:stretch/>
          </a:blip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По количеств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участников проекта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1447920"/>
            <a:ext cx="2514600" cy="1218960"/>
          </a:xfrm>
          <a:prstGeom prst="rect">
            <a:avLst/>
          </a:prstGeom>
          <a:blipFill rotWithShape="0">
            <a:blip r:embed="rId17"/>
            <a:srcRect/>
            <a:stretch/>
          </a:blip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18" action="ppaction://hlinksldjump"/>
              </a:rPr>
              <a:t>По продолжи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19" action="ppaction://hlinksldjump"/>
              </a:rPr>
              <a:t>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5105520"/>
            <a:ext cx="2361960" cy="914400"/>
          </a:xfrm>
          <a:prstGeom prst="rect">
            <a:avLst/>
          </a:prstGeom>
          <a:blipFill rotWithShape="0">
            <a:blip r:embed="rId20"/>
            <a:srcRect/>
            <a:stretch/>
          </a:blip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21" action="ppaction://hlinksldjump"/>
              </a:rPr>
              <a:t>По характе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22" action="ppaction://hlinksldjump"/>
              </a:rPr>
              <a:t>координации проекта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23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762120"/>
            <a:ext cx="0" cy="2666880"/>
          </a:xfrm>
          <a:prstGeom prst="line">
            <a:avLst/>
          </a:prstGeom>
          <a:ln w="284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762120"/>
            <a:ext cx="0" cy="2666880"/>
          </a:xfrm>
          <a:prstGeom prst="line">
            <a:avLst/>
          </a:prstGeom>
          <a:ln w="284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765000"/>
            <a:ext cx="0" cy="685800"/>
          </a:xfrm>
          <a:prstGeom prst="line">
            <a:avLst/>
          </a:prstGeom>
          <a:ln w="284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762120"/>
            <a:ext cx="0" cy="685800"/>
          </a:xfrm>
          <a:prstGeom prst="line">
            <a:avLst/>
          </a:prstGeom>
          <a:ln w="284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762120"/>
            <a:ext cx="0" cy="243828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572000" y="3200400"/>
            <a:ext cx="1295280" cy="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200400"/>
            <a:ext cx="0" cy="1828800"/>
          </a:xfrm>
          <a:prstGeom prst="line">
            <a:avLst/>
          </a:prstGeom>
          <a:ln w="284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765000"/>
            <a:ext cx="5904000" cy="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62606"/>
                </a:solidFill>
                <a:latin typeface="Garamond"/>
              </a:rPr>
              <a:t>Структурные компоненты научного аппарата проекта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27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210bc7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Тем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210bc7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210bc7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Объект и предме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210bc7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210bc7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210bc7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210bc7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Методи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210bc7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Оборудование и материал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210bc7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хема опыта (эксперимента и/или наблюдени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210bc7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татистическая обработка опытных данны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210bc7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Наглядное представление опытных данны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210bc7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ыводы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10bc7"/>
                </a:solidFill>
                <a:latin typeface="Garamond"/>
              </a:rPr>
              <a:t>Примерное содержание проекта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оретические аспекты исследуемой проблемы(обзор литературы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есто, материал и методика исслед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зультаты исслед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воды и предло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лож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Рекомендуемые параметры внешней оценк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начимость проблемы, адекватность изучаемой тематик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целесообразность используемых методов исследова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тепень активности каждого участни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ллективность в работе, взаимовыручка и поддерж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оказательность предлагаемых решений,  четкость вывод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эстетика оформления результатов проек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мение отвечать на вопросы оппонентов, и т.д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</a:rPr>
              <a:t>Учителя оценивают работу групп. Оценочные листы. Параметры внешней оценки разрабатываются на основе  выполнения\невыполения в ходе  проекта методических задач. Поэтому они разрабатываются индивидуально к каждому проекту учителями-координаторами</a:t>
            </a:r>
            <a:r>
              <a:rPr b="0" lang="ru-RU" sz="21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При оценивании и обсуждении проекта можно предложить рассмотреть такие вопрос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сколько удачным оказался проект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зменился ли я (он, она) в процессе работ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нтересно ли мне (ему, ей) было работать над этой проблемой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нтересно ли мне (ему, ей) было работать с этими людьм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Хотелось бы продолжить работу в том же составе группы над другим проектом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Хотелось бы изменить процесс работы над проектом? Почему?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Паспорт исследовательского проект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8281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вание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ный руководитель про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специальность, звание, ученая степе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сульт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п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овательная облас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обществознание, естествознание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бный пред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ы используемые над проек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а представл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идеофильм, буклет, реферат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овательное учре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варь исслед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86600" y="5105520"/>
            <a:ext cx="2057400" cy="1752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ановка      цели:       выявление      проблемы,      противоречия, формулировка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суждение возможных вариантов исследования, выбор спосо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образование и актуализация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думывание хода деятельности, распределение обязан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следование: решение отдельных задач, компоновка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общение результатов и выводы. Корре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зентация про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нализ успехов и ошиб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Этапы  работы над проектом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Garamond"/>
              </a:rPr>
              <a:t>Предварительная подготовка учителя:  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ределить тему прое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думать ключевые понятия 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ределить график выполнения этапов и оценку каждого этап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дставить возможные итоговые работ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работать критерии оценки итоговой работы творческой групп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думать организацию работы в группах и принципы образования груп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Урок №1 (вводный) 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а уроке сообщатся изучаемая тема, и предлагается учащимся назвать основные вопросы по этой тем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итель обобщает перечень вопросов, формулируя 5-6 те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лассу предлагается объединиться в творческие группы и выбрать тем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ласс знакомят с этапами проекта, оценкой каждого этап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Задание на дом: определить конечный результат работы группы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Если это сайт, презентация, публикация - обговорить структуру;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Если реальная модель, как она может быть представлена ( рисунок, описание модел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едлагается объединиться по творческим группам, определить руководителя группы, "набросать" перечень основополагающих вопросов по своей теме и определить ответственных за поиск нужной информации. Обсудить итоговую работ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Урок №2 и следующие…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 второму уроку должны быть подготовлены книги, необходимые материалы для рабо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ель работает последовательно с каждой группой, совету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ждая группа работает по своему план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28600"/>
            <a:ext cx="8382240" cy="1447920"/>
          </a:xfrm>
          <a:custGeom>
            <a:avLst/>
            <a:gdLst>
              <a:gd name="textAreaLeft" fmla="*/ 1063440 w 8382240"/>
              <a:gd name="textAreaRight" fmla="*/ 7318800 w 8382240"/>
              <a:gd name="textAreaTop" fmla="*/ 18072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66" y="0"/>
                </a:lnTo>
                <a:arcTo wR="675" hR="675" stAng="16200000" swAng="5400000"/>
                <a:lnTo>
                  <a:pt x="5441" y="2700"/>
                </a:lnTo>
                <a:lnTo>
                  <a:pt x="16159" y="2700"/>
                </a:lnTo>
                <a:lnTo>
                  <a:pt x="16159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859" y="18900"/>
                </a:lnTo>
                <a:lnTo>
                  <a:pt x="18859" y="20925"/>
                </a:lnTo>
                <a:arcTo wR="675" hR="675" stAng="0" swAng="5400000"/>
                <a:lnTo>
                  <a:pt x="3416" y="21600"/>
                </a:lnTo>
                <a:arcTo wR="675" hR="675" stAng="5400000" swAng="5400000"/>
                <a:lnTo>
                  <a:pt x="2741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41" y="675"/>
                </a:moveTo>
                <a:arcTo wR="675" hR="675" stAng="0" swAng="5400000"/>
                <a:lnTo>
                  <a:pt x="3416" y="1350"/>
                </a:lnTo>
                <a:arcTo wR="675" hR="675" stAng="16200000" swAng="-5400000"/>
                <a:arcTo wR="675" hR="675" stAng="10800000" swAng="-5400000"/>
                <a:lnTo>
                  <a:pt x="5441" y="2700"/>
                </a:lnTo>
              </a:path>
              <a:path fill="none" w="21600" h="21600">
                <a:moveTo>
                  <a:pt x="16159" y="675"/>
                </a:moveTo>
                <a:arcTo wR="675" hR="675" stAng="10800000" swAng="-5400000"/>
                <a:lnTo>
                  <a:pt x="18184" y="1350"/>
                </a:lnTo>
                <a:arcTo wR="675" hR="675" stAng="16200000" swAng="5400000"/>
                <a:arcTo wR="675" hR="675" stAng="0" swAng="5400000"/>
                <a:lnTo>
                  <a:pt x="16159" y="2700"/>
                </a:lnTo>
              </a:path>
              <a:path fill="none" w="21600" h="21600">
                <a:moveTo>
                  <a:pt x="2741" y="2025"/>
                </a:moveTo>
                <a:lnTo>
                  <a:pt x="2741" y="18900"/>
                </a:lnTo>
              </a:path>
              <a:path fill="none" w="21600" h="21600">
                <a:moveTo>
                  <a:pt x="18859" y="2025"/>
                </a:moveTo>
                <a:lnTo>
                  <a:pt x="18859" y="18900"/>
                </a:lnTo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Цель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проектного обуче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создать усло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при которых обучающие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828800"/>
            <a:ext cx="5638680" cy="76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Самостоятельно и охотно приобрет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недостающие знания  из разных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743200"/>
            <a:ext cx="5638680" cy="762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Учатся пользоваться приобретенными знан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для решения познавательных и практически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3657600"/>
            <a:ext cx="5639040" cy="762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Приобретают коммуникативные ум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работая в разных группах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4572000"/>
            <a:ext cx="5486400" cy="7621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Развивают у себя исследовательские у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5486400"/>
            <a:ext cx="5334120" cy="68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Развивают системное мыш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Последние уроки (итоговые) 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ще раз обговариваются критерии оценки итоговой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глашается последовательность выступлений груп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ле каждого выступления команды проводят анализ проделанной работы и высказывают пожелания в улучшен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Garamond"/>
              </a:rPr>
              <a:t>Критерии успеха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Ваша группа успешно выполнит проект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сли вы разработаете проект, с которым все согласны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сли ваш доклад будет четко сформулирован и представлен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сли ваши аргументы будут убедительны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0bc7"/>
                </a:solidFill>
                <a:latin typeface="Times New Roman"/>
              </a:rPr>
              <a:t>Принципы построения системы формирования 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304920" y="2971800"/>
            <a:ext cx="4038480" cy="2666880"/>
          </a:xfrm>
          <a:prstGeom prst="flowChartMultidocument">
            <a:avLst/>
          </a:prstGeom>
          <a:solidFill>
            <a:srgbClr val="66ccff"/>
          </a:solidFill>
          <a:ln w="3816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2" action="ppaction://hlinksldjump"/>
              </a:rPr>
              <a:t>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2819520"/>
            <a:ext cx="3962160" cy="2819160"/>
          </a:xfrm>
          <a:prstGeom prst="flowChartMultidocument">
            <a:avLst/>
          </a:prstGeom>
          <a:solidFill>
            <a:srgbClr val="66ccff"/>
          </a:solidFill>
          <a:ln w="3816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3" action="ppaction://hlinksldjump"/>
              </a:rPr>
              <a:t>Поэлемент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4" action="ppaction://hlinksldjump"/>
              </a:rPr>
              <a:t>форм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5" action="ppaction://hlinksldjump"/>
              </a:rPr>
              <a:t>проект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6" action="ppaction://hlinksldjump"/>
              </a:rPr>
              <a:t>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3263600">
            <a:off x="2393280" y="1282680"/>
            <a:ext cx="609480" cy="1803600"/>
          </a:xfrm>
          <a:prstGeom prst="upArrow">
            <a:avLst>
              <a:gd name="adj1" fmla="val 65019"/>
              <a:gd name="adj2" fmla="val 121000"/>
            </a:avLst>
          </a:prstGeom>
          <a:solidFill>
            <a:srgbClr val="66ccff"/>
          </a:solidFill>
          <a:ln w="3816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8748200">
            <a:off x="6075360" y="1285200"/>
            <a:ext cx="762120" cy="1743120"/>
          </a:xfrm>
          <a:prstGeom prst="downArrow">
            <a:avLst>
              <a:gd name="adj1" fmla="val 48148"/>
              <a:gd name="adj2" fmla="val 101113"/>
            </a:avLst>
          </a:prstGeom>
          <a:solidFill>
            <a:srgbClr val="66ccff"/>
          </a:solidFill>
          <a:ln w="3816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10bc7"/>
                </a:solidFill>
                <a:latin typeface="Times New Roman"/>
              </a:rPr>
              <a:t>Компетентности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формирование компетенций невозможно вне самостоятельной деятельности учащихся. Учебный проект позволяет сделать эту деятельность целенаправленной, содержательной и осмысленной. Для решения задачи формирования необходимых школьнику компетенций в рамках проектного обучения производится специальный подбор или разработка необходимых по содержанию и видам деятельности про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0556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10bc7"/>
                </a:solidFill>
                <a:latin typeface="Times New Roman"/>
              </a:rPr>
              <a:t>Поэлементное формирование проектной деятельности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овладение проектированием должно происходить не только при осуществлении целостного проекта, но и при включении в канву традиционного урока элементов проектной деятельности или какой-либо части проекта. Это обусловлено тем, что проведение проектной деятельности обучающихся требует значительных ресурсных затрат (времени, материалов, оборудования, информационных источников, консультантов и пр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457200" y="685800"/>
            <a:ext cx="8228880" cy="5445000"/>
            <a:chOff x="457200" y="685800"/>
            <a:chExt cx="8228880" cy="5445000"/>
          </a:xfrm>
        </p:grpSpPr>
        <p:cxnSp>
          <p:nvCxnSpPr>
            <p:cNvPr id="153" name="_s89092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319000" y="1806480"/>
              <a:ext cx="1425240" cy="2840760"/>
            </a:xfrm>
            <a:prstGeom prst="bentConnector3">
              <a:avLst>
                <a:gd name="adj1" fmla="val 800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_s89093"/>
            <p:cNvCxnSpPr>
              <a:stCxn id="157" idx="0"/>
              <a:endCxn id="155" idx="1"/>
            </p:cNvCxnSpPr>
            <p:nvPr/>
          </p:nvCxnSpPr>
          <p:spPr>
            <a:xfrm flipH="1" flipV="1" rot="5400000">
              <a:off x="3876480" y="3226320"/>
              <a:ext cx="1447200" cy="23760"/>
            </a:xfrm>
            <a:prstGeom prst="bentConnector3">
              <a:avLst>
                <a:gd name="adj1" fmla="val 78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_s89094"/>
            <p:cNvCxnSpPr>
              <a:stCxn id="159" idx="0"/>
              <a:endCxn id="155" idx="0"/>
            </p:cNvCxnSpPr>
            <p:nvPr/>
          </p:nvCxnSpPr>
          <p:spPr>
            <a:xfrm flipH="1" flipV="1" rot="5400000">
              <a:off x="2439000" y="1766520"/>
              <a:ext cx="1425240" cy="2921040"/>
            </a:xfrm>
            <a:prstGeom prst="bentConnector3">
              <a:avLst>
                <a:gd name="adj1" fmla="val 800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" name="_s89095"/>
            <p:cNvSpPr/>
            <p:nvPr/>
          </p:nvSpPr>
          <p:spPr>
            <a:xfrm>
              <a:off x="1371240" y="685800"/>
              <a:ext cx="6477480" cy="18291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210bc7"/>
                </a:gs>
                <a:gs pos="50000">
                  <a:srgbClr val="ccecff"/>
                </a:gs>
                <a:gs pos="100000">
                  <a:srgbClr val="210bc7"/>
                </a:gs>
              </a:gsLst>
              <a:lin ang="8100000"/>
            </a:gradFill>
            <a:ln w="3240">
              <a:solidFill>
                <a:srgbClr val="210b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Garamond"/>
                </a:rPr>
                <a:t>Уровни сложности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Garamond"/>
                </a:rPr>
                <a:t>задач проектного обуче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89096"/>
            <p:cNvSpPr/>
            <p:nvPr/>
          </p:nvSpPr>
          <p:spPr>
            <a:xfrm>
              <a:off x="457200" y="3939480"/>
              <a:ext cx="2468520" cy="2169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ccec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Garamond"/>
                </a:rPr>
                <a:t>Базовый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Garamond"/>
                </a:rPr>
                <a:t>уровен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89097"/>
            <p:cNvSpPr/>
            <p:nvPr/>
          </p:nvSpPr>
          <p:spPr>
            <a:xfrm>
              <a:off x="3351600" y="3961800"/>
              <a:ext cx="2471040" cy="2169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ccec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Garamond"/>
                </a:rPr>
                <a:t>Продвинутый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Garamond"/>
                </a:rPr>
                <a:t>уровен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89098"/>
            <p:cNvSpPr/>
            <p:nvPr/>
          </p:nvSpPr>
          <p:spPr>
            <a:xfrm>
              <a:off x="6217560" y="3939480"/>
              <a:ext cx="2468520" cy="2169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ccec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Garamond"/>
                </a:rPr>
                <a:t>Высший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n-US" sz="2900" spc="-1" strike="noStrike">
                  <a:solidFill>
                    <a:srgbClr val="000000"/>
                  </a:solidFill>
                  <a:latin typeface="Garamond"/>
                </a:rPr>
                <a:t>уровен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263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10bc7"/>
                </a:solidFill>
                <a:latin typeface="Times New Roman"/>
              </a:rPr>
              <a:t>Базовый уровень – 1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дагогические 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Формирование общеучебных умений и навыков необходимых для проектной деятель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Формирование элементов проектной деятель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ростые краткосрочные проекты индивидуальные и с простыми групповыми взаимодействия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рименение проектной деятельности в организации своего учения учащим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дагогические 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Формирование предметных умений как универсальных (общеучебны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оэлементное формирование проектной деятельности 2 уров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рупповые краткосрочные и среднесрочные проекты 2 уров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рименение проектирования в самообучении, самоорганизации групповой работы в школьной среде, жизненном самоопределе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10bc7"/>
                </a:solidFill>
                <a:latin typeface="Times New Roman"/>
              </a:rPr>
              <a:t>Продвинутый уровень – 2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едагогические 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Формирование готовности к самостоятельному переводу предметных умений в универсальны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Развитие элементов проектной деятельности 3 уров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Участие в сложных групповых проектах 3 уровня с оценкой социальной значимости проекта в целом и своего вкла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Самостоятельное проектирование решения личных проблем и зада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Высший уровень - 3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304920"/>
            <a:ext cx="8001000" cy="1295280"/>
          </a:xfrm>
          <a:custGeom>
            <a:avLst/>
            <a:gdLst>
              <a:gd name="textAreaLeft" fmla="*/ 1404720 w 8001000"/>
              <a:gd name="textAreaRight" fmla="*/ 6596280 w 8001000"/>
              <a:gd name="textAreaTop" fmla="*/ 16164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18" y="0"/>
                </a:lnTo>
                <a:arcTo wR="675" hR="675" stAng="16200000" swAng="5400000"/>
                <a:lnTo>
                  <a:pt x="6493" y="2700"/>
                </a:lnTo>
                <a:lnTo>
                  <a:pt x="15107" y="2700"/>
                </a:lnTo>
                <a:lnTo>
                  <a:pt x="15107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7807" y="18900"/>
                </a:lnTo>
                <a:lnTo>
                  <a:pt x="17807" y="20925"/>
                </a:lnTo>
                <a:arcTo wR="675" hR="675" stAng="0" swAng="5400000"/>
                <a:lnTo>
                  <a:pt x="4468" y="21600"/>
                </a:lnTo>
                <a:arcTo wR="675" hR="675" stAng="5400000" swAng="5400000"/>
                <a:lnTo>
                  <a:pt x="3793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493" y="675"/>
                </a:moveTo>
                <a:arcTo wR="675" hR="675" stAng="0" swAng="5400000"/>
                <a:lnTo>
                  <a:pt x="4468" y="1350"/>
                </a:lnTo>
                <a:arcTo wR="675" hR="675" stAng="16200000" swAng="-5400000"/>
                <a:arcTo wR="675" hR="675" stAng="10800000" swAng="-5400000"/>
                <a:lnTo>
                  <a:pt x="6493" y="2700"/>
                </a:lnTo>
              </a:path>
              <a:path fill="none" w="21600" h="21600">
                <a:moveTo>
                  <a:pt x="15107" y="675"/>
                </a:moveTo>
                <a:arcTo wR="675" hR="675" stAng="10800000" swAng="-5400000"/>
                <a:lnTo>
                  <a:pt x="17132" y="1350"/>
                </a:lnTo>
                <a:arcTo wR="675" hR="675" stAng="16200000" swAng="5400000"/>
                <a:arcTo wR="675" hR="675" stAng="0" swAng="5400000"/>
                <a:lnTo>
                  <a:pt x="15107" y="2700"/>
                </a:lnTo>
              </a:path>
              <a:path fill="none" w="21600" h="21600">
                <a:moveTo>
                  <a:pt x="3793" y="2025"/>
                </a:moveTo>
                <a:lnTo>
                  <a:pt x="3793" y="18900"/>
                </a:lnTo>
              </a:path>
              <a:path fill="none" w="21600" h="21600">
                <a:moveTo>
                  <a:pt x="17807" y="2025"/>
                </a:moveTo>
                <a:lnTo>
                  <a:pt x="17807" y="18900"/>
                </a:lnTo>
              </a:path>
            </a:pathLst>
          </a:custGeom>
          <a:solidFill>
            <a:srgbClr val="66ccff"/>
          </a:solidFill>
          <a:ln w="936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Элементы проект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3886200"/>
            <a:ext cx="3429000" cy="1447920"/>
          </a:xfrm>
          <a:prstGeom prst="horizontalScrol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Проектное умени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рефлексия и само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514600"/>
            <a:ext cx="3276720" cy="1371600"/>
          </a:xfrm>
          <a:prstGeom prst="horizontalScrol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Проектное умени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3809880"/>
            <a:ext cx="3200400" cy="1447920"/>
          </a:xfrm>
          <a:prstGeom prst="horizontalScrol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ектное умени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еполаг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590920"/>
            <a:ext cx="3276720" cy="1295280"/>
          </a:xfrm>
          <a:prstGeom prst="horizontalScrol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ектное умени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ле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6742800">
            <a:off x="1278360" y="207360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4627200">
            <a:off x="3580560" y="2896200"/>
            <a:ext cx="2973240" cy="380880"/>
          </a:xfrm>
          <a:custGeom>
            <a:avLst/>
            <a:gdLst>
              <a:gd name="textAreaLeft" fmla="*/ 464400 w 2973240"/>
              <a:gd name="textAreaRight" fmla="*/ 2601720 w 2973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6270000">
            <a:off x="2436840" y="2889000"/>
            <a:ext cx="2975040" cy="380880"/>
          </a:xfrm>
          <a:custGeom>
            <a:avLst/>
            <a:gdLst>
              <a:gd name="textAreaLeft" fmla="*/ 464760 w 2975040"/>
              <a:gd name="textAreaRight" fmla="*/ 2603160 w 29750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3245400">
            <a:off x="6688800" y="199764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7160" y="500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4362480" y="1162080"/>
            <a:ext cx="419040" cy="88394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21320 h 8839440"/>
              <a:gd name="textAreaBottom" fmla="*/ 8718120 h 883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75"/>
                  <a:pt x="10800" y="950"/>
                </a:cubicBezTo>
                <a:lnTo>
                  <a:pt x="10800" y="9850"/>
                </a:lnTo>
                <a:cubicBezTo>
                  <a:pt x="10800" y="10325"/>
                  <a:pt x="5400" y="10800"/>
                  <a:pt x="0" y="10800"/>
                </a:cubicBezTo>
                <a:cubicBezTo>
                  <a:pt x="5400" y="10800"/>
                  <a:pt x="10800" y="11275"/>
                  <a:pt x="10800" y="11750"/>
                </a:cubicBezTo>
                <a:lnTo>
                  <a:pt x="10800" y="20650"/>
                </a:lnTo>
                <a:cubicBezTo>
                  <a:pt x="10800" y="2112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210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867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Мысле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15364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aramond"/>
              </a:rPr>
              <a:t>Метод проектов</a:t>
            </a:r>
            <a:r>
              <a:rPr b="0" lang="en-US" sz="2900" spc="-1" strike="noStrike">
                <a:solidFill>
                  <a:srgbClr val="2e1700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2e1700"/>
                </a:solidFill>
                <a:latin typeface="Garamond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определенная совокупность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учебно-познавательных прием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которые позволяют решить ту или иную проблему в результате самостоятельных действий учащихся с обязательной презентацией этих результатов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3141360"/>
            <a:ext cx="87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Метод проектов как технологи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ключает в себя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совокуп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сследовательских, поисковых, проблемных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метод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творческих по самой своей с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Это технология организации образовательных ситуаций и сопровождения самостоятельной деятельности учащегося по разрешению пробл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Голуб Г.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0bc7"/>
                </a:solidFill>
                <a:latin typeface="Times New Roman"/>
              </a:rPr>
              <a:t>Проектное умение –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проблемат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улировать проблему после рассмотрения какой-либо ситуации, порождающей проблемы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делить и сформулировать проблему из множества проблем (поля проблем)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ссмотреть проблему под разными углами зрения, с разных позиций. Сформулировать пробле­му с определенной позиции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извести сужение проблемы путем ограничения пространства или времени в ситуации, породившей проблему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з нескольких рядоположенных проблем выбрать главную (по тем или иным признакам), выбрать самую актуальную, самую острую, самую доступную в решении. Обосновать выбор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оектное умение – целеполаг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Формулировать цель деятельности по заданному результату –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Формулировать цель деятельности по решению проблемы –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Выбирать главную цель из нескольких, установив их взаимосвязь. Обосновать выбор –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Провести уточнение цели с учетом имеющихся средств ее достижения –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Распределение общей групповой цели между членами группы -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Ранжировать цели - 3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по срокам достижения (перспективные, средне срочные, ближайшие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масштабам предполагаемых результатов (узкие, широкие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по принадлежности (личные, групповые, корпоративные, всеобщие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Сделать сужение и расширение цели -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роектное умение – план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Формулировать задачу, исходя из формулировки цели –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Планировать поэтапное достижение цели. Фор­мулировать задачи и предполагаемые результаты для каждого этапа –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Планировать распределение деятельности между членами группы и ставить задачу каждому из них по получению определенных результатов –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Составлять сетевое планирование со сложной структурой этапов, сроков и исполнителей, распределением задач и предполагаемых результатов. Выполнять графическое представление этого планирования -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86868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роектное умение - рефлексия и самоанали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Анализ результата по практической важности –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Анализ результата по соответствию цели –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Рефлексия поставленной задачи и личных воз­можностей ее решения –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Анализ результата по социальной значимости –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Анализ результата по степени решения проб­лемы –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Рефлексия результатов решения задачи –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10bc7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Анализ результата по оптимальности затрат -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990000" y="304920"/>
            <a:ext cx="7390800" cy="6273720"/>
            <a:chOff x="990000" y="304920"/>
            <a:chExt cx="7390800" cy="6273720"/>
          </a:xfrm>
        </p:grpSpPr>
        <p:cxnSp>
          <p:nvCxnSpPr>
            <p:cNvPr id="183" name="_s98308"/>
            <p:cNvCxnSpPr/>
            <p:nvPr/>
          </p:nvCxnSpPr>
          <p:spPr>
            <a:xfrm rot="10800000">
              <a:off x="3505320" y="990720"/>
              <a:ext cx="179280" cy="5310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_s98309"/>
            <p:cNvCxnSpPr/>
            <p:nvPr/>
          </p:nvCxnSpPr>
          <p:spPr>
            <a:xfrm rot="10800000">
              <a:off x="3505320" y="990720"/>
              <a:ext cx="179280" cy="3863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_s98310"/>
            <p:cNvCxnSpPr/>
            <p:nvPr/>
          </p:nvCxnSpPr>
          <p:spPr>
            <a:xfrm rot="10800000">
              <a:off x="3505320" y="1143360"/>
              <a:ext cx="179280" cy="2457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_s98311"/>
            <p:cNvCxnSpPr/>
            <p:nvPr/>
          </p:nvCxnSpPr>
          <p:spPr>
            <a:xfrm rot="10800000">
              <a:off x="3505320" y="1067760"/>
              <a:ext cx="179280" cy="1051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7" name="_s98312"/>
            <p:cNvSpPr/>
            <p:nvPr/>
          </p:nvSpPr>
          <p:spPr>
            <a:xfrm>
              <a:off x="990000" y="304920"/>
              <a:ext cx="6552360" cy="1141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210bc7"/>
                </a:gs>
                <a:gs pos="50000">
                  <a:srgbClr val="ccecff"/>
                </a:gs>
                <a:gs pos="100000">
                  <a:srgbClr val="210bc7"/>
                </a:gs>
              </a:gsLst>
              <a:lin ang="8100000"/>
            </a:gradFill>
            <a:ln w="3240">
              <a:solidFill>
                <a:srgbClr val="210b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Элементы проектн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деятельности  по видам деятель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8313"/>
            <p:cNvSpPr/>
            <p:nvPr/>
          </p:nvSpPr>
          <p:spPr>
            <a:xfrm>
              <a:off x="3733920" y="1699920"/>
              <a:ext cx="4115160" cy="707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ccec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Презентацио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8314"/>
            <p:cNvSpPr/>
            <p:nvPr/>
          </p:nvSpPr>
          <p:spPr>
            <a:xfrm>
              <a:off x="3733920" y="3105720"/>
              <a:ext cx="4342680" cy="707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ccec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Коммуникатив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8315"/>
            <p:cNvSpPr/>
            <p:nvPr/>
          </p:nvSpPr>
          <p:spPr>
            <a:xfrm>
              <a:off x="3657960" y="4511520"/>
              <a:ext cx="4419000" cy="707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ccec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Поисков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8316"/>
            <p:cNvSpPr/>
            <p:nvPr/>
          </p:nvSpPr>
          <p:spPr>
            <a:xfrm>
              <a:off x="3657960" y="5789880"/>
              <a:ext cx="4722840" cy="788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ccec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Проведение инструменталь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эксперимен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200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Элементы проектной деятельности по видам деятельности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991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Презентационные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построение устного доклада (сообщения) о проделанной работе, выбор способов и форм наглядной презентации (продукта) результатов деятельности, изготовление предметов наглядности, подготовка письменного отчета о проделанной работ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Коммуникативные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слушать и понимать других, выражать себя, находить компромисс, взаимодействовать внутри группы, находить консенсу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Поисковые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находить информацию по каталогам, проводить контекстный поиск, в гипертексте, в Интернет, формулирование ключевых сл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Информационные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структурирование информации, выделение главного, прием и передача информации, представление в различных формах, упорядоченное хранение и поис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Проведение инструментального эксперимента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организация рабочего места, подбор необходимого оборудования, подбор и приготовление материалов (реактивов), проведение собственно эксперимента, наблюдение хода эксперимента, измерение параметров, осмысление полученных результа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e1700"/>
                </a:solidFill>
                <a:latin typeface="Garamond"/>
              </a:rPr>
              <a:t>Одно из достоинств проектной деятельности — это </a:t>
            </a:r>
            <a:r>
              <a:rPr b="0" i="1" lang="en-US" sz="2500" spc="-1" strike="noStrike">
                <a:solidFill>
                  <a:srgbClr val="2e1700"/>
                </a:solidFill>
                <a:latin typeface="Garamond"/>
              </a:rPr>
              <a:t>создание в школе особой образовательной атмосферы, дающей детям возможность попробовать себя в различных направлениях учебной деятельности и развить свои универсальные умения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оектная деятельность позволя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высить мотивацию изучения предметов школьной 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ализовать комплексное восприятие учебных предме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нимать самостоятельные реш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верить в свои сил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Недостатки проектной деятельности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величение умственной нагруз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ребование более сложной системы оцени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вышение эмоциональной нагруз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уществование риска неудачного выполнения работы, непредсказуемость результ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рудность в организации работы в группе («явный лидер»/ «лоботряс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Garamond"/>
              </a:rPr>
              <a:t>По доминирующей в проекте деятельности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следовательс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исков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ворческ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лев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кладной (практико-ориентированный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знакомительно-ориентировоч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solidFill>
            <a:srgbClr val="210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Garamond"/>
              </a:rPr>
              <a:t>По предметно-содержательной области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оно проект (в рамках одной области знания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ежпредметный проек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7493"/>
                </a:moveTo>
                <a:lnTo>
                  <a:pt x="8518" y="7493"/>
                </a:lnTo>
                <a:lnTo>
                  <a:pt x="8518" y="12828"/>
                </a:lnTo>
                <a:cubicBezTo>
                  <a:pt x="8518" y="13751"/>
                  <a:pt x="9318" y="14482"/>
                  <a:pt x="10354" y="14482"/>
                </a:cubicBezTo>
                <a:lnTo>
                  <a:pt x="12017" y="14482"/>
                </a:lnTo>
                <a:cubicBezTo>
                  <a:pt x="13052" y="14482"/>
                  <a:pt x="13853" y="13751"/>
                  <a:pt x="13853" y="12828"/>
                </a:cubicBezTo>
                <a:lnTo>
                  <a:pt x="13853" y="7493"/>
                </a:lnTo>
                <a:lnTo>
                  <a:pt x="12017" y="7493"/>
                </a:lnTo>
                <a:lnTo>
                  <a:pt x="15524" y="3985"/>
                </a:lnTo>
                <a:lnTo>
                  <a:pt x="19197" y="7493"/>
                </a:lnTo>
                <a:lnTo>
                  <a:pt x="17361" y="7493"/>
                </a:lnTo>
                <a:lnTo>
                  <a:pt x="17361" y="12828"/>
                </a:lnTo>
                <a:cubicBezTo>
                  <a:pt x="17361" y="15596"/>
                  <a:pt x="14784" y="18155"/>
                  <a:pt x="12017" y="18155"/>
                </a:cubicBezTo>
                <a:lnTo>
                  <a:pt x="10354" y="18155"/>
                </a:lnTo>
                <a:cubicBezTo>
                  <a:pt x="7586" y="18155"/>
                  <a:pt x="5010" y="15596"/>
                  <a:pt x="5010" y="12828"/>
                </a:cubicBezTo>
                <a:close/>
              </a:path>
            </a:pathLst>
          </a:custGeom>
          <a:solidFill>
            <a:srgbClr val="210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овместная учебно-познавательная, творческая или игровая деятельность учащи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имеет общую цель, согласованные методы, способы деятельност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направлена на достижение общего результата 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Проектная деятельность учащихся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Garamond"/>
              </a:rPr>
              <a:t>По характеру координации проекта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непосредственный (жесткий, гибкий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скрытый (неявный, имитирующий участника проекта, характерно для телекоммуникационных проектов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1" y="7493"/>
                </a:moveTo>
                <a:lnTo>
                  <a:pt x="9649" y="7493"/>
                </a:lnTo>
                <a:lnTo>
                  <a:pt x="9649" y="12828"/>
                </a:lnTo>
                <a:cubicBezTo>
                  <a:pt x="9649" y="13751"/>
                  <a:pt x="10450" y="14482"/>
                  <a:pt x="11485" y="14482"/>
                </a:cubicBezTo>
                <a:lnTo>
                  <a:pt x="13148" y="14482"/>
                </a:lnTo>
                <a:cubicBezTo>
                  <a:pt x="14184" y="14482"/>
                  <a:pt x="14984" y="13751"/>
                  <a:pt x="14984" y="12828"/>
                </a:cubicBezTo>
                <a:lnTo>
                  <a:pt x="14984" y="7493"/>
                </a:lnTo>
                <a:lnTo>
                  <a:pt x="13148" y="7493"/>
                </a:lnTo>
                <a:lnTo>
                  <a:pt x="16655" y="3985"/>
                </a:lnTo>
                <a:lnTo>
                  <a:pt x="20328" y="7493"/>
                </a:lnTo>
                <a:lnTo>
                  <a:pt x="18492" y="7493"/>
                </a:lnTo>
                <a:lnTo>
                  <a:pt x="18492" y="12828"/>
                </a:lnTo>
                <a:cubicBezTo>
                  <a:pt x="18492" y="15596"/>
                  <a:pt x="15916" y="18155"/>
                  <a:pt x="13148" y="18155"/>
                </a:cubicBezTo>
                <a:lnTo>
                  <a:pt x="11485" y="18155"/>
                </a:lnTo>
                <a:cubicBezTo>
                  <a:pt x="8718" y="18155"/>
                  <a:pt x="6141" y="15596"/>
                  <a:pt x="6141" y="12828"/>
                </a:cubicBezTo>
                <a:close/>
              </a:path>
            </a:pathLst>
          </a:custGeom>
          <a:solidFill>
            <a:srgbClr val="210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Garamond"/>
              </a:rPr>
              <a:t>По характеру контактов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Школьны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Городск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Региональны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7493"/>
                </a:moveTo>
                <a:lnTo>
                  <a:pt x="8289" y="7493"/>
                </a:lnTo>
                <a:lnTo>
                  <a:pt x="8289" y="12828"/>
                </a:lnTo>
                <a:cubicBezTo>
                  <a:pt x="8289" y="13751"/>
                  <a:pt x="9090" y="14482"/>
                  <a:pt x="10126" y="14482"/>
                </a:cubicBezTo>
                <a:lnTo>
                  <a:pt x="11788" y="14482"/>
                </a:lnTo>
                <a:cubicBezTo>
                  <a:pt x="12824" y="14482"/>
                  <a:pt x="13624" y="13751"/>
                  <a:pt x="13624" y="12828"/>
                </a:cubicBezTo>
                <a:lnTo>
                  <a:pt x="13624" y="7493"/>
                </a:lnTo>
                <a:lnTo>
                  <a:pt x="11788" y="7493"/>
                </a:lnTo>
                <a:lnTo>
                  <a:pt x="15296" y="3985"/>
                </a:lnTo>
                <a:lnTo>
                  <a:pt x="18968" y="7493"/>
                </a:lnTo>
                <a:lnTo>
                  <a:pt x="17132" y="7493"/>
                </a:lnTo>
                <a:lnTo>
                  <a:pt x="17132" y="12828"/>
                </a:lnTo>
                <a:cubicBezTo>
                  <a:pt x="17132" y="15596"/>
                  <a:pt x="14556" y="18155"/>
                  <a:pt x="11788" y="18155"/>
                </a:cubicBezTo>
                <a:lnTo>
                  <a:pt x="10126" y="18155"/>
                </a:lnTo>
                <a:cubicBezTo>
                  <a:pt x="7358" y="18155"/>
                  <a:pt x="4781" y="15596"/>
                  <a:pt x="4781" y="12828"/>
                </a:cubicBezTo>
                <a:close/>
              </a:path>
            </a:pathLst>
          </a:custGeom>
          <a:solidFill>
            <a:srgbClr val="210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Garamond"/>
              </a:rPr>
              <a:t>Количество участников проекта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р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руппово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1068480" cy="1676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038480" y="4470480"/>
            <a:ext cx="2751120" cy="2387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58800" cy="167652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4" action="ppaction://hlinksldjump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7493"/>
                </a:moveTo>
                <a:lnTo>
                  <a:pt x="11354" y="7493"/>
                </a:lnTo>
                <a:lnTo>
                  <a:pt x="11354" y="12828"/>
                </a:lnTo>
                <a:cubicBezTo>
                  <a:pt x="11354" y="13751"/>
                  <a:pt x="12155" y="14482"/>
                  <a:pt x="13190" y="14482"/>
                </a:cubicBezTo>
                <a:lnTo>
                  <a:pt x="14853" y="14482"/>
                </a:lnTo>
                <a:cubicBezTo>
                  <a:pt x="15888" y="14482"/>
                  <a:pt x="16689" y="13751"/>
                  <a:pt x="16689" y="12828"/>
                </a:cubicBezTo>
                <a:lnTo>
                  <a:pt x="16689" y="7493"/>
                </a:lnTo>
                <a:lnTo>
                  <a:pt x="14853" y="7493"/>
                </a:lnTo>
                <a:lnTo>
                  <a:pt x="18360" y="3985"/>
                </a:lnTo>
                <a:lnTo>
                  <a:pt x="22033" y="7493"/>
                </a:lnTo>
                <a:lnTo>
                  <a:pt x="20197" y="7493"/>
                </a:lnTo>
                <a:lnTo>
                  <a:pt x="20197" y="12828"/>
                </a:lnTo>
                <a:cubicBezTo>
                  <a:pt x="20197" y="15596"/>
                  <a:pt x="17620" y="18155"/>
                  <a:pt x="14853" y="18155"/>
                </a:cubicBezTo>
                <a:lnTo>
                  <a:pt x="13190" y="18155"/>
                </a:lnTo>
                <a:cubicBezTo>
                  <a:pt x="10422" y="18155"/>
                  <a:pt x="7846" y="15596"/>
                  <a:pt x="7846" y="12828"/>
                </a:cubicBezTo>
                <a:close/>
              </a:path>
            </a:pathLst>
          </a:custGeom>
          <a:solidFill>
            <a:srgbClr val="210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Garamond"/>
              </a:rPr>
              <a:t>По продолжительности проекта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раткосрочны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Среднесрочны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Долгосрочны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7493"/>
                </a:moveTo>
                <a:lnTo>
                  <a:pt x="8518" y="7493"/>
                </a:lnTo>
                <a:lnTo>
                  <a:pt x="8518" y="12828"/>
                </a:lnTo>
                <a:cubicBezTo>
                  <a:pt x="8518" y="13751"/>
                  <a:pt x="9318" y="14482"/>
                  <a:pt x="10354" y="14482"/>
                </a:cubicBezTo>
                <a:lnTo>
                  <a:pt x="12017" y="14482"/>
                </a:lnTo>
                <a:cubicBezTo>
                  <a:pt x="13052" y="14482"/>
                  <a:pt x="13853" y="13751"/>
                  <a:pt x="13853" y="12828"/>
                </a:cubicBezTo>
                <a:lnTo>
                  <a:pt x="13853" y="7493"/>
                </a:lnTo>
                <a:lnTo>
                  <a:pt x="12017" y="7493"/>
                </a:lnTo>
                <a:lnTo>
                  <a:pt x="15524" y="3985"/>
                </a:lnTo>
                <a:lnTo>
                  <a:pt x="19197" y="7493"/>
                </a:lnTo>
                <a:lnTo>
                  <a:pt x="17361" y="7493"/>
                </a:lnTo>
                <a:lnTo>
                  <a:pt x="17361" y="12828"/>
                </a:lnTo>
                <a:cubicBezTo>
                  <a:pt x="17361" y="15596"/>
                  <a:pt x="14784" y="18155"/>
                  <a:pt x="12017" y="18155"/>
                </a:cubicBezTo>
                <a:lnTo>
                  <a:pt x="10354" y="18155"/>
                </a:lnTo>
                <a:cubicBezTo>
                  <a:pt x="7586" y="18155"/>
                  <a:pt x="5010" y="15596"/>
                  <a:pt x="5010" y="12828"/>
                </a:cubicBezTo>
                <a:close/>
              </a:path>
            </a:pathLst>
          </a:custGeom>
          <a:solidFill>
            <a:srgbClr val="210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588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. Выявить вредные вещества, содержащие в выхлопных газах автомоби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. Рассчитать концентрацию вредных веществ во вдыхаемом воздухе, опираясь на количество вредных веществ, выбрасываемых одним, «усреднённым» автомобилем, и среднюю интенсивность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. Установить влияние на органы дыхания человека вредных веществ, содержащихся в выхлопных газах автомоби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. Выявить связь заболеваемости органов дыхания от количества содержащихся в воздухе вредных вещест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solidFill>
            <a:srgbClr val="210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Задачи проекта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37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 ходе специально проведенного исследования установлено, что веществами, содержащимися, в автомобильных выхлопах и оказывающими негативное влияние на здоровье человека, являются оксиды азота, углекислый газ, углеводороды, оксиды серы и частицы са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Установлено количество проезжающих по магистрали автомобилей за один час и рассчитано общее количество вредных веществ, выбрасываемых автомобилями за один 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пределено соотношение вредных веществ в выхлопных газах автомобилей, проезжающих за один час по автомагист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ыявлена положительная корреляция между интенсивностью автомобильного движения, количеством вредных веществ в атмосферном воздухе вблизи автомагистрали, и количеством жителей в домах вблизи автомагистрали, страдающих заболеваниями органов дых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7493"/>
                </a:moveTo>
                <a:lnTo>
                  <a:pt x="10360" y="7493"/>
                </a:lnTo>
                <a:lnTo>
                  <a:pt x="10360" y="12828"/>
                </a:lnTo>
                <a:cubicBezTo>
                  <a:pt x="10360" y="13751"/>
                  <a:pt x="11161" y="14482"/>
                  <a:pt x="12197" y="14482"/>
                </a:cubicBezTo>
                <a:lnTo>
                  <a:pt x="13859" y="14482"/>
                </a:lnTo>
                <a:cubicBezTo>
                  <a:pt x="14895" y="14482"/>
                  <a:pt x="15695" y="13751"/>
                  <a:pt x="15695" y="12828"/>
                </a:cubicBezTo>
                <a:lnTo>
                  <a:pt x="15695" y="7493"/>
                </a:lnTo>
                <a:lnTo>
                  <a:pt x="13859" y="7493"/>
                </a:lnTo>
                <a:lnTo>
                  <a:pt x="17367" y="3985"/>
                </a:lnTo>
                <a:lnTo>
                  <a:pt x="21039" y="7493"/>
                </a:lnTo>
                <a:lnTo>
                  <a:pt x="19203" y="7493"/>
                </a:lnTo>
                <a:lnTo>
                  <a:pt x="19203" y="12828"/>
                </a:lnTo>
                <a:cubicBezTo>
                  <a:pt x="19203" y="15596"/>
                  <a:pt x="16627" y="18155"/>
                  <a:pt x="13859" y="18155"/>
                </a:cubicBezTo>
                <a:lnTo>
                  <a:pt x="12197" y="18155"/>
                </a:lnTo>
                <a:cubicBezTo>
                  <a:pt x="9429" y="18155"/>
                  <a:pt x="6852" y="15596"/>
                  <a:pt x="6852" y="12828"/>
                </a:cubicBezTo>
                <a:close/>
              </a:path>
            </a:pathLst>
          </a:custGeom>
          <a:solidFill>
            <a:srgbClr val="210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Игра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самая свободная, естественная форма погружения человека в реальную (или воображаемую) действительность с целью ее изучения, проявления собственного «Я» , творчества, активности, самостоятельности, самореализ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Т.И. Шам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7493"/>
                </a:moveTo>
                <a:lnTo>
                  <a:pt x="8518" y="7493"/>
                </a:lnTo>
                <a:lnTo>
                  <a:pt x="8518" y="12828"/>
                </a:lnTo>
                <a:cubicBezTo>
                  <a:pt x="8518" y="13751"/>
                  <a:pt x="9318" y="14482"/>
                  <a:pt x="10354" y="14482"/>
                </a:cubicBezTo>
                <a:lnTo>
                  <a:pt x="12017" y="14482"/>
                </a:lnTo>
                <a:cubicBezTo>
                  <a:pt x="13052" y="14482"/>
                  <a:pt x="13853" y="13751"/>
                  <a:pt x="13853" y="12828"/>
                </a:cubicBezTo>
                <a:lnTo>
                  <a:pt x="13853" y="7493"/>
                </a:lnTo>
                <a:lnTo>
                  <a:pt x="12017" y="7493"/>
                </a:lnTo>
                <a:lnTo>
                  <a:pt x="15524" y="3985"/>
                </a:lnTo>
                <a:lnTo>
                  <a:pt x="19197" y="7493"/>
                </a:lnTo>
                <a:lnTo>
                  <a:pt x="17361" y="7493"/>
                </a:lnTo>
                <a:lnTo>
                  <a:pt x="17361" y="12828"/>
                </a:lnTo>
                <a:cubicBezTo>
                  <a:pt x="17361" y="15596"/>
                  <a:pt x="14784" y="18155"/>
                  <a:pt x="12017" y="18155"/>
                </a:cubicBezTo>
                <a:lnTo>
                  <a:pt x="10354" y="18155"/>
                </a:lnTo>
                <a:cubicBezTo>
                  <a:pt x="7586" y="18155"/>
                  <a:pt x="5010" y="15596"/>
                  <a:pt x="5010" y="12828"/>
                </a:cubicBezTo>
                <a:close/>
              </a:path>
            </a:pathLst>
          </a:custGeom>
          <a:solidFill>
            <a:srgbClr val="210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62606"/>
                </a:solidFill>
                <a:latin typeface="Garamond"/>
              </a:rPr>
              <a:t>Тема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438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то свёрнутое (сокращённое) описание изучаемого свойства объекта или я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олжна быть краткой и выразитель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3399"/>
                </a:solidFill>
                <a:latin typeface="Arial"/>
              </a:rPr>
              <a:t>Пример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«Зависимость заболеваемости органов дыхания от концентрации вредных веществ в воздухе»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8299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62606"/>
                </a:solidFill>
                <a:latin typeface="Garamond"/>
              </a:rPr>
              <a:t>Актуальность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43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ажный элемент любого исследования, показывающий важность, значимость (социальную и/или личную) изучения объекта или явления для фундаментальной науки или для решения вполне конкретных пробле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ля обоснования значимости исследования используются ссылки на работы или высказывания известных в обществе людей - учёных, политических деятелей, педагогов и д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837072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62606"/>
                </a:solidFill>
                <a:latin typeface="Georgia"/>
              </a:rPr>
              <a:t>Объект</a:t>
            </a:r>
            <a:r>
              <a:rPr b="1" lang="en-US" sz="3400" spc="-1" strike="noStrike">
                <a:solidFill>
                  <a:srgbClr val="c62606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область исследования</a:t>
            </a: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3400"/>
            </a:br>
            <a:r>
              <a:rPr b="0" i="1" lang="en-US" sz="2900" spc="-1" strike="noStrike">
                <a:solidFill>
                  <a:srgbClr val="333399"/>
                </a:solidFill>
                <a:latin typeface="Georgia"/>
              </a:rPr>
              <a:t>Пример</a:t>
            </a:r>
            <a:r>
              <a:rPr b="0" lang="en-US" sz="2900" spc="-1" strike="noStrike">
                <a:solidFill>
                  <a:srgbClr val="333399"/>
                </a:solidFill>
                <a:latin typeface="Georgia"/>
              </a:rPr>
              <a:t> - «органы дыхания</a:t>
            </a:r>
            <a:r>
              <a:rPr b="0" lang="en-US" sz="2900" spc="-1" strike="noStrike">
                <a:solidFill>
                  <a:srgbClr val="333399"/>
                </a:solidFill>
                <a:latin typeface="Garamond"/>
              </a:rPr>
              <a:t>»</a:t>
            </a: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57328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62606"/>
                </a:solidFill>
                <a:latin typeface="Georgia"/>
              </a:rPr>
              <a:t>Предмет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изучаемое свойство объек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Georgia"/>
              </a:rPr>
              <a:t>Пример</a:t>
            </a:r>
            <a:r>
              <a:rPr b="0" lang="en-US" sz="3000" spc="-1" strike="noStrike">
                <a:solidFill>
                  <a:srgbClr val="333399"/>
                </a:solidFill>
                <a:latin typeface="Georgia"/>
              </a:rPr>
              <a:t> - «реакция органов дыхания на содержащиеся в воздухе вредные вещества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Условие проектной деятельности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Наличие заранее выработанных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едставлений о конечном продукте деятельности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этапов проектирования (выработка концепции, определение целей и задач проекта, доступных и оптимальных ресурсов деятельности, создание плана реализации проекта) и реализа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Цель исследования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15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свёрнутое описание планируемого результата изучения объекта (явления) и обобщённое описание направленной на объект деятельности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получение новой информации об объекте, изменение свойств объекта, передача информации об объекте заинтересованной общественност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333399"/>
                </a:solidFill>
                <a:latin typeface="Arial"/>
              </a:rPr>
              <a:t>Пример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«Выявить зависимость уровня заболеваемости дыхательных путей от количества вредных веществ, содержащихся в воздухе и предложить систему мер, направленных на снижение уровня заболеваемости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84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ff"/>
                </a:solidFill>
                <a:uFillTx/>
                <a:latin typeface="Garamond"/>
                <a:hlinkClick r:id="rId1" action="ppaction://hlinksldjump"/>
              </a:rPr>
              <a:t>Задачи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Garamond"/>
              </a:rPr>
              <a:t> исследования</a:t>
            </a: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 — </a:t>
            </a: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это краткое описание действий, которые необходимо выполнить для достижения намеченного в цели результата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Формулировку цели и задач лучше начинать с глагола в повелительном наклонении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изучить», «раскрыть», «проанализировать», «выявить», «обосновать», «разработать», «апробировать», «показать», «определить», «охарактеризовать», «провести анализ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и и задачи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должны быть сформулированы чётко, лаконично, конкретно и понятно.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Число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 зависит от содержания моделируемого исследования и, как правило,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не превышает пя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74872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Garamond"/>
              </a:rPr>
              <a:t>Гипотеза -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редположение о причинно-следственной связи между изучаемым в исследовании свойств  объекта и определёнными факторами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сред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748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 гипотезе раскрывает возможный характер связи (отношения) между объектом и фактором сред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Гипотеза определяет подход к изучению объекта и проверяется опытным путём в ходе исследовани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Гипотеза выражается формулой, включающей две части: </a:t>
            </a:r>
            <a:r>
              <a:rPr b="0" lang="en-US" sz="2300" spc="-1" strike="noStrike">
                <a:solidFill>
                  <a:srgbClr val="cc0000"/>
                </a:solidFill>
                <a:latin typeface="Times New Roman"/>
              </a:rPr>
              <a:t>«Если </a:t>
            </a:r>
            <a:r>
              <a:rPr b="0" i="1" lang="en-US" sz="2300" spc="-1" strike="noStrike">
                <a:solidFill>
                  <a:srgbClr val="cc0000"/>
                </a:solidFill>
                <a:latin typeface="Times New Roman"/>
              </a:rPr>
              <a:t>[далее следует описание фактора и/или состояния объекта], </a:t>
            </a:r>
            <a:r>
              <a:rPr b="0" lang="en-US" sz="2300" spc="-1" strike="noStrike">
                <a:solidFill>
                  <a:srgbClr val="cc0000"/>
                </a:solidFill>
                <a:latin typeface="Times New Roman"/>
              </a:rPr>
              <a:t>то </a:t>
            </a:r>
            <a:r>
              <a:rPr b="0" i="1" lang="en-US" sz="2300" spc="-1" strike="noStrike">
                <a:solidFill>
                  <a:srgbClr val="cc0000"/>
                </a:solidFill>
                <a:latin typeface="Times New Roman"/>
              </a:rPr>
              <a:t>[далее следует описание характера связи между объектом и фактором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ff"/>
                </a:solidFill>
                <a:latin typeface="Times New Roman"/>
              </a:rPr>
              <a:t>Пример</a:t>
            </a:r>
            <a:r>
              <a:rPr b="0" i="1" lang="en-US" sz="23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«Если концентрация вредных веществ, источником которых являются выхлопные газы, в атмосферном воздухе увеличится, то количество и степень тяжести заболеваний органов дыхания возрастёт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Методика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4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№   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название метода      какое свойство и как изучается  получаемые данные (размерность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 Расчет: сколько автомобилей проезжает за один день, количество вредных веществ, поступающих в атмосферу на данном участке автомагистрали за определенный промежуток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92720" y="162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32720" y="21337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Оборудование и материалы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№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звание     назначение (для чего)      способ применения (ка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Прим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1. колбы, мининасос для взятия проб воздуха(с помощью мининасоса закачать воздух в колбы для анализ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028000" y="198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80000" y="24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00000" y="907560"/>
            <a:ext cx="7786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Схема опыта (эксперимента и/или наблюде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Статистическая обработка опыт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Наглядное представление опыт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ff"/>
                </a:solidFill>
                <a:uFillTx/>
                <a:latin typeface="Garamond"/>
                <a:hlinkClick r:id="rId1" action="ppaction://hlinksldjump"/>
              </a:rPr>
              <a:t>Выводы</a:t>
            </a:r>
            <a:r>
              <a:rPr b="1" lang="en-US" sz="3800" spc="-1" strike="noStrike">
                <a:solidFill>
                  <a:srgbClr val="210bc7"/>
                </a:solidFill>
                <a:latin typeface="Garamond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в сжатом виде описывают основные результаты исследования.</a:t>
            </a: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4438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личество выводов должно примерно соответствовать количеству задач исследования и показывать результаты их выполн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ыводы должны быть краткими, чёткими, лаконичными, конкретными и соответствовать гипотезе, цели и задачам исследов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Чтобы постичь, прожить, приобщиться к раскрытию, конструированию необходимы особые формы обучения. 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3212640"/>
            <a:ext cx="792468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0000"/>
                </a:solidFill>
                <a:latin typeface="Arial"/>
              </a:rPr>
              <a:t>Ведущий среди них являетс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имитационная иг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210bc7"/>
                </a:solidFill>
                <a:latin typeface="Arial"/>
              </a:rPr>
              <a:t>В игре ребенок чувствует себя в безопасности, комфортно, ощущает психологическую свободу, необходимую для его развит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Проек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ный план сооружения, какого-нибудь механизма, устройства; предварительный текст какого-то документа; замысел, план. (Толковый словарь СИ. Ожегова с. 62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Проект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робно разработанный план действий по преобразованию, действительности, разрешению насущных проблем, всесторонне обоснованный и надлежащим образом оформленный (Халюта З.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Проек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пециально организованный учителем  и самостоятельно выполняемый учащимся комплекс действий по разрешению значимой для него (учащегося) проблемы (Голуб Г.Б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Что важно в понимании учебного проекта?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результате выполнения проекта обучающие должны получить реальный продук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ект должен быть привязан к учебной тем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ект должен проходить в тоже время, когда дети проходят соответствующую ему учебную т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ект предполагает поисковую, самостоятельную деятельность школьник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10b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ект должен быть досконально продуман учител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aramond"/>
              </a:rPr>
              <a:t>Виды проектов (С. Хейнс)</a:t>
            </a: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формационный и исследовательский прое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зорный прое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дукционный прое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екты-инсценировки или организационные проек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6:46:42Z</dcterms:created>
  <dc:creator>1</dc:creator>
  <dc:description/>
  <dc:language>en-US</dc:language>
  <cp:lastModifiedBy>111</cp:lastModifiedBy>
  <dcterms:modified xsi:type="dcterms:W3CDTF">2013-10-11T15:12:32Z</dcterms:modified>
  <cp:revision>17</cp:revision>
  <dc:subject/>
  <dc:title>Реализация технологии проектного обучения  с использованием компьютерных технологий</dc:title>
</cp:coreProperties>
</file>