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A10-E6BB-47E9-BF52-21F81B37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C68-A6A5-4DCE-92A3-1BC81808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B61-19C0-485E-BEDA-E825BDD2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9EF-D124-49BC-8A33-3E726044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1CE-0DB9-4117-A11E-1F4E5E5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823-D559-4649-B26B-B83DAC2E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237-5F43-4409-9282-7AB24006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885-8269-4E48-9375-1E1B65C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5B9-7F0C-4C80-B8D4-32DA695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313-9A0F-48E8-A6E8-A63CE13F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BDB-3D43-4B17-BB08-11A7C3F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329-E6A2-418D-B932-6466B83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C9C0-DBEC-42DD-9E43-D732B6EC2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ИСТОРИЯ ПОЯВЛЕНИЯ первой газ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итается, что история русской журналистики начинается с 16 декабря 1702 года, когда вышел первый номер газеты "Ведомости". За день до этого император издал указ "Ведомостям быть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2579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"Рассуждения об обязанностях журналистов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есь работал Ломоносов, и написал гениальную статью "Рассуждения об обязанностях журналистов", ставшую морально-этическим кодексом. Это - первая статья о том, каким должен быть журнал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от основные требования Ломоносова, предъявляемые журналисту: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Компетент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Скром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Уважающий мнения друг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Знающий фразу "Стыдно воровать чужие мысли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гра-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е участник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разбиться на творческие группы (обычно по 3- 4 челове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Придумать название своей газ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Определить должности каждого участника (директор, главный редактор, художественный редактор, корреспондент, независимый источник информации, фотокорреспонден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ть вымышленных корреспондентов ведущих какую-либо рубрику (Например Василиса Одуванчикова ведёт рубрику “Во саду ли, в огороде…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ть внимание на текущие мировые события; не забывать про актуальные темы; создавать рубрики, в которых читатели получают конкретные ответы на свои вопросы; оформлять фотосессии модных течений по любому направлению (спорт,творчество, одежда и т.д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Успех школьной газеты зависит именно от связи с аудиторией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ак, у вас появилась идея –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здать школьную газ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Тут главное - тщательно продумать концепцию издания. А это значит, что в вашей газете должны быть свежие идеи – новые способы подачи старых тем и новые темы, поданные со вкусом. Задайте себе следующие вопросы: Что нужно освещать в газете? Как это следует делать? Каким образом газета сможет ответить на запросы своих читател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Успех школьной газеты зависит именно от связи с аудитори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, наконец, одна маленькая хитрость – никогда не стесняйтесь украсть хорошую идею. Но при этом помните: практика копирования других школьных газет для хорошего издания неприемлема. Найдите свои специфические формы информационной работы. Газета должна быть поставщиком интересной информации, со свежим, оригинальным, неожиданным взглядом на 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ак сделать интересную газет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тупая к созданию газеты, учтите характерную особенность школьного издания – его теснейшую связь с читателями. Газета является самым близким для учащегося изданием. Ребята должны воспринимать газету как свою, родную, в которую всегда можно обратиться со своими проблемами, напи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тобы газета производила на читателя приятное впечатление,     у нее должно бы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ригинальное и свежее содерж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режде всего, у вас должно быть, что сказать ценного и нов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амостоятельные взгля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чень важны убеждения газеты, ее позиция по тому или иному вопро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влекательный гол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Голос газеты - это тон, заданный общим стилем ее матери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О чем писать ребята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зять тему для материалов? Темы вокруг нас. Но часто ребята не представляют, о чем можно написать в газету. А написать можно практически обо всем. О том, например, как ребята учатся, как занимаются спортом, о любимом кружке, о своем друге. А разве мало вопросов волнует ребят. Пишите об э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О чем писать ребята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о они обсуждают, всегда ли правы взрослые, откуда в людях жестокость, как бороться с несправедливостью, кого можно считать настоящим другом. Разве это не может стать темой для заметки? Ребятам хочется получить ответ не от взрослых, а именно от своих сверстников, сравнить собственный взгляд на проблему с мнением одноклассников. Хочется научиться размышлять, спорить, доказ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мер состоял из разного числа страниц — от 2 до 22, чем определялась и его цена. Формат был установлен в восьмую долю листа (примерно в половинную ширину школьной тетради), но отдельные номера печатались и в формате листа. С № 3 за 1711 г. первая полоса (страница) газеты получает гравюру, на которой изображены вид Петербурга с Невой и Петропавловской креп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О чем писать ребята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е главное – постарайтесь сделать газету интересной: заинтригуйте читателя материалами об интересных событиях, обсуждением на страницах газеты сложных проблем молодежной жизни, привлекайте к дискуссии читателей, печатайте школьную рекламу, истории с продолжением, фоторепортаж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Ведомости" постоянно меняли свое название: "Ведомости московские", "Ведомости московского государства", "Ведомости российские", "Вести", "Реляция", "Подлинное доношение", "Ведомости о военных и иных делах, достойных знания и памяти, случившихся в Московском государстве и во иных окрестных странах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газета выходила в Москве, а с 1711 года стала выпускаться 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кт-Петербурге. Объем "Ведомостей" был регулярным – 22 страницы. Тираж газеты испытывал большие колебания – от нескольких десятков до нескольких тысяч экземпля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ета делалась для очень состоятельных людей, и стоила от двух до восьми денег (деньга – русская монета, равная половине копейки тех времен). К примеру, наборщик получал тогда от трех до четырех денег, работая на тяжелейшей работе. Первая русская газета пропагандировала точку зрения в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о время "Ведомости" писали о Северной войне и культурной политике Петра. Тогда и возникли начала цензуры. Первыми журналистами были, во-первых, сам Петр, а также его чиновники. Первым редактором “Ведомостей” был директор Печатного двора в Москве Федор Поликарпов, литературно образованный человек, писавший стих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ссказ об истории Российской журналис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дор Поликарпов готовил материалы газеты, обрабатывал переводы из иностранной печати, которые поставляли чиновники Посольского приказа, добывал известия из других ведомств и канцелярий, следил за расположением заметок в номере и вел коррект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 чём писали газеты прошлого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м номера явились известия из Гамбурга, Лондона, Вены, Берлина, Рима, Парижа и других европейских городов, а также придворная хроника - сообщения о поздравлениях государя с новым годом, о производстве в чинах и награжд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 новой газеты было несколько источников информ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Зарубежные газ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Путешествующие чинов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Вскрытие писем крупных диплом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Слухи и сплет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3:26:48Z</dcterms:created>
  <dc:creator>Петракевич Екатерина</dc:creator>
  <dc:description/>
  <dc:language>en-US</dc:language>
  <cp:lastModifiedBy>Петракевич Екатерина</cp:lastModifiedBy>
  <dcterms:modified xsi:type="dcterms:W3CDTF">2010-10-14T07:27:23Z</dcterms:modified>
  <cp:revision>4</cp:revision>
  <dc:subject/>
  <dc:title>Рассказ об истории Российской журналистики.</dc:title>
</cp:coreProperties>
</file>