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9FB-3134-4757-AC81-C7E93718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FAE-0522-4ADB-9645-79845130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624EB-B994-4E11-9927-439D9E9B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19B99-75B2-4706-BAD0-81A9469A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0DDBC-95F5-49C4-B616-D4974ADA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398AE-60D2-489D-89BC-4DD4B3D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7D614-0161-4999-A95C-5C4EB55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500FF-4888-4765-8741-C6419601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AB5CE-F197-4FA1-BCDE-DC4FD344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DF9C8-CF4B-42ED-A7CC-ECA7043F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27664-1A85-4D53-B885-0766437C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D5B-0AF9-4F58-9BD3-8AD549D8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0B6-801A-4383-A763-E502F0BE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2543-CC27-4D19-B03B-DC0A65C8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BF7A-A0A5-41E3-9873-AFF1EF54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DE7E-8327-497E-9C7F-86E9D05F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1325-88EE-46D1-A000-77F9450E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6076-27F9-4066-AA83-BD1E0582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7B70-4DE8-4F9A-9CE2-46C6B8BD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7F98-D2C9-421F-9D1A-8B0BA527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246-0281-44CC-A6AE-49325D0A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80C7-85F1-4CE2-990E-D6E72EC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86A9-FA82-4F5A-B838-D97FA3F3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92D4-22E1-44E5-96B1-F4B9D6CB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C896-6EF2-4035-A79C-743C86D0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96AB-CD9E-4B01-B7AB-E0D88DF2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7871-FFDA-434D-BD4E-D5C95AF6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F6EC-1572-40FB-86D2-3244A32C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57B49-B038-42CD-8BBF-A9CF4EF5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EDC8-55E3-4AAE-8E27-AA68D954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D1C1-4715-4511-9AE2-2F132B49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F01-847D-4516-B1CE-5299B751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8646-40C2-4DED-89C3-9476CC52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661E-13C4-46F2-9879-EA471831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635E-D280-4BEE-B4F2-D510B1F4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57991-5D8E-4348-BD7A-377F434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AEBC-BE71-45EE-93E2-A94D98E4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FBAE-F712-4313-A666-55862844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8B18B-B513-40A8-9100-B4E39B6E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076E-534D-4B0E-976D-FC1C84A8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6297A-7273-4122-8689-BB3BA845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6730-EB10-444B-AEDE-850810F6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025-6498-42C4-A80B-5FA0BCFD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62C0B-24F3-4985-9FAA-4A47E963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C3AC-D4E1-4D81-9C65-4581AB89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91FE7-C5A9-4423-BBCC-FDB672B2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52B16-9E00-483D-85EA-8E0EBDC2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9540-813C-4578-B3DE-F49B5E92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39373-24E7-4767-AFA2-2CD3E4C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7DCBC-EADB-44EB-BFCD-230DEF78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96228-0026-45D1-BC6A-929FBA8F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C3B4-C815-4072-BD2B-48000B9D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0A388-EB2A-49DD-B7AD-2D6A94BE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322-425E-4924-ADB8-197223B7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8E62B-6FD2-4B70-83AB-148ED676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618B-E8C2-4E75-9DCD-9ABDDFD7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64EF0-2C53-4036-A9F2-0A2BDB9F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3B6F2-F2A5-4E5F-8C1F-1AB7F46B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FF104-410F-4842-89B3-0BA2BF34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B4CB8-BA1C-4770-A7D5-DFC8221D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6DEBF-68DD-4FC4-924B-E8029BC7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BF25A-7C24-4932-9200-280535A7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905F8-C1E4-458B-A3C1-C678C0D1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658D-0E89-441C-9451-6ED42241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8AA-715D-43FA-8EAF-52D4FDB8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B8FEF-2C55-42EB-A7C1-D61961B1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026BF-C739-4766-91C9-A1C2A1DB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A87C4-025F-4B0A-A6F1-150E9AC8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E6BE0-82D2-451C-9C91-74EB1F0D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D1D9B-0398-4142-9D7D-EB6AB64A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B4712-F54D-4D0A-AB66-F3082310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B5F3C-A09B-4C5C-9EFB-9E36E483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272D0-FA62-4FF3-B513-007A2496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6317D-D9B6-4F63-9B49-E355A406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6643D-0360-4F3C-9E2D-A0CEE4DA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109-A90A-4D2C-819A-11FF57A5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5C3DE-0FBF-4B21-98B3-D6E49BB8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BA0B5-3F75-4C41-A5F1-2C4F535F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9BAC7-7D94-47AD-B055-77C35AD1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30E50-1094-49F3-B5F9-2AC797F9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24BC3-09EC-4C24-9728-4870BA86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FBB83-9824-40A7-9AA1-D05C4900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B5D36-A97E-46B8-950F-C598CFDF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B604B-838C-423B-8412-EAC3C9E6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0B3B8-F312-4F84-ACBE-70B5A2A6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663A1-7BE7-4A9D-B72E-F4FD0BEF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2D1-3447-40F2-9ADA-5F9F1D6F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FDBDA-F9A9-4857-B055-4C60FE77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4AF48-8D8E-4084-96E2-60E7B636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5417F-2764-40CE-9B58-2993376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96763-233D-4164-90CC-65DB8E46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96BB0-9647-4E56-8A03-BA5E6FD9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85540-29D2-456A-BBEE-8B2C461A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837DC-C0D1-418E-A79C-64DF26AC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3A15D-2855-4B13-8647-F5F1F273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94230-996B-4179-847C-1E206796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8CBA4-E7D6-443A-A75A-9D1FBFC1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FCC-B16A-4176-96F5-6A1A8A65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C818E-03CC-4407-A9F4-E48ABBE1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56761-36AC-43F0-BCA2-B3F1970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932AA-3A42-41B4-A084-C0A8CFBB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95937-EB47-4FAD-953E-A330B952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D4722-47EC-460B-A558-1331051A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7FBE8-540E-447B-BD1F-8D9FF489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1977B-4ED5-4BA8-928F-8F93F54F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72DFA-06FF-4FF3-9A2F-26E9490F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3AE58-BCFF-4CDC-98A1-3B9D3F9C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D3E7E-48FB-44FD-A8B7-5C6FEA9C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EF59-63EF-4882-90C8-B6DFE4AC355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D7A0-FB54-44CD-86DE-8BBBB559093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A84E-CB0C-486D-9A59-9A3096CE69B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26B3-D1F5-4C03-9D83-A754DB4586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5A81-C0AD-46AD-8701-7D3D254757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C42B-4DA5-47C1-92FC-86874F755B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8380-D6F7-4A6A-82D2-33CDCA352C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071B-F3FB-4A6F-B951-AD2D3F754D0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9163-E894-439C-8E49-C5AB8BC7B3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93560" y="1249200"/>
            <a:ext cx="7961400" cy="1560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734920" y="3645000"/>
            <a:ext cx="58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Класс: 1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714240" y="4071960"/>
          <a:ext cx="6143760" cy="1682640"/>
        </p:xfrm>
        <a:graphic>
          <a:graphicData uri="http://schemas.openxmlformats.org/drawingml/2006/table">
            <a:tbl>
              <a:tblPr/>
              <a:tblGrid>
                <a:gridCol w="2928960"/>
                <a:gridCol w="3214800"/>
              </a:tblGrid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ирами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ирам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оверхности пирами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периметра основания к удвоенной выс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2" name="Рисунок 16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3571920" cy="32148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9" descr=""/>
          <p:cNvPicPr/>
          <p:nvPr/>
        </p:nvPicPr>
        <p:blipFill>
          <a:blip r:embed="rId2"/>
          <a:stretch/>
        </p:blipFill>
        <p:spPr>
          <a:xfrm>
            <a:off x="5072040" y="1000080"/>
            <a:ext cx="3214800" cy="27147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3"/>
          <p:cNvSpPr/>
          <p:nvPr/>
        </p:nvSpPr>
        <p:spPr>
          <a:xfrm>
            <a:off x="0" y="-301680"/>
            <a:ext cx="4716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Хеоп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357120" y="5789520"/>
            <a:ext cx="59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 – квадрат, боковые ребра равн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 стороны основания  пирамиды  -  230,38  м.  Высота  пирамиды  (ОМ) -  146,6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3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3786120" cy="300060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4" descr=""/>
          <p:cNvPicPr/>
          <p:nvPr/>
        </p:nvPicPr>
        <p:blipFill>
          <a:blip r:embed="rId2"/>
          <a:stretch/>
        </p:blipFill>
        <p:spPr>
          <a:xfrm>
            <a:off x="4429080" y="78588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887280" y="1555560"/>
            <a:ext cx="136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3371760"/>
            <a:ext cx="9144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– квадраты, боковые ребра равн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стороны нижнего основания пирамиды -  200 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стороны верхнего основания пирамиды – 76,5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 пирамиды - 64,5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сиканская пирамида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Марина</cp:lastModifiedBy>
  <dcterms:modified xsi:type="dcterms:W3CDTF">2013-10-13T07:04:41Z</dcterms:modified>
  <cp:revision>4</cp:revision>
  <dc:subject/>
  <dc:title>Слайд 1</dc:title>
</cp:coreProperties>
</file>