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EB3-39BC-41A2-9232-684B1214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D8F-2D18-426C-B109-28CE3BD4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451-7F70-4C7E-9484-D6A0E0B0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7F7-DC1E-4AF7-8E47-48904222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0537B-15C5-4ACA-AC60-6D73C7D3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80775-ECE6-4484-AFB0-7B72EB42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8C794-EB3A-4DF6-AD5D-ACD7EBFA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DADA-620D-4F38-A2DF-7BF25D95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0B272-AFA3-40C6-9996-2940A09D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9668A-AF6C-4E11-9AC4-9043B95C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0EFD-EBCB-477F-8E89-6FC5377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E3B-99D8-4B1F-A590-D72DA57D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932D1-00FF-4F2E-97E8-451F958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621CE-8E3B-4233-9619-55E6CCD8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1C919-E743-45AF-808B-E07F91D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30506-82C9-4D76-875B-27202C0D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43734-726E-424B-8220-2BFB7832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81A-2342-4F24-B8B2-21DA8DDD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93F-7A1E-41E7-8399-521FDD35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B7C-F803-4273-9515-20EE90F2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F0B-CB8A-4727-A296-150A5D05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232-767A-4A43-B8D6-F289F19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5F0-1FDA-43FD-BF1C-E49B2D3E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2CE-9282-4AB7-A20A-AE86F06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375-B974-4AE9-82F1-EC99BE12E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C5C-A53C-49F1-9F48-5218C2823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одительское собрание - тренин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088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ути разрешения конфликтов в шко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251720" y="6465960"/>
            <a:ext cx="74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Ковылкинская СОШ №3» Учитель истории Шпак О.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 шаг «А теперь сделаем выбор!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весив все «за» и «против», выберите лучшие варианты решения проблемы. Возможно, что у вашей группы он будет только один. В карточке вашей группы напротив выбранных вами вариантов напишите их положительные и отрицательные стороны. Проанализируйте свои записи и выберите оптимальный вариан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 шаг «любопытно как это осуществить на практике?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ишите возможный  коллективный план действий по разрешению вашей проблемы по пунктам или изобразите его в виде схе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пусть идут, летят го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 веком век счи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распри, споры меж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йдут следы сме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душе останется любов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родной земле, к родному кра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не прольется больше кров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а, что лед, пускай раст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«Сколько человеческого счастья разбилось в дребезги только потому, что кто-то кому-то не сказал: «Извини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И.Д. Виль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проблемной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ановка цели родительского собр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енинг «Пути разрешения конфликтов в школ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фликт – это любое несогласие, любое противоречие, любое столкновение различных мнений и взгля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тратегия решения проблем «ИДЕАЛ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– Identify a proble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– Debate a proble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 – Essential solutions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– Activi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cal conclusion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жорж Брэмсфор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лгоритм решения проблем «ИДЕАЛ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– Интересно в чем пробле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 – Давайте найдем как можно больше способов решения пробл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 – Есть ли какие – либо хорошие реш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– А теперь сделаем выбор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 – любопытно как это осуществить на практи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-шаг « Интересно в чем проблема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формулировать проблемы, которые приводят, по – вашему мнению, к частым конфликтам в школе и запишите их каждый участник в свою индивидуальную «Карточку решения проблем» (на это задание отводится 2-3мин., затем озвучиваются проблемы групп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 -шаг « Давайте найдем как можно больше способов решения проблем!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рать одну проблему, из предложенных  над которой будет работать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-й шаг « Есть ли какие – либо хорошие решения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Мозговой штурм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ому участнику групп записать все пришедшие в голову варианты ее решения, включая самые безумные в свои карточ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7:57:02Z</dcterms:created>
  <dc:creator>ЮЛИЙКА</dc:creator>
  <dc:description/>
  <dc:language>en-US</dc:language>
  <cp:lastModifiedBy>ЮЛИЙКА</cp:lastModifiedBy>
  <dcterms:modified xsi:type="dcterms:W3CDTF">2012-03-23T18:44:59Z</dcterms:modified>
  <cp:revision>2</cp:revision>
  <dc:subject/>
  <dc:title>Родительское собрание - тренинг</dc:title>
</cp:coreProperties>
</file>