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5A07-67DF-44EA-81E6-395BE6A4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4833-C761-44EC-8154-8EEC2B7F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C257-DA72-49CF-8175-49D5D629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E5E-F55E-47B9-A8CB-D70A99A0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2070-229E-42F3-A422-AE4E8610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D4E3-D4E2-4CE3-85D3-42038026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DFC6-9013-4C99-A193-C688448A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6149-7B3B-4BC8-95AD-C56442CA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1081-6119-49F4-B612-41033E7E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BD81-A79D-4601-811F-22325929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FAB6-2E38-472E-A78D-F5E663C4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4E3C-8410-4B98-AC5F-8F503609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AD00-B5DF-41CE-9109-91F22EF2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57F0-40EC-42BE-97CA-E6AC6613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05D5-48B1-4898-9058-6F4756A1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C9FA-6AEE-4E09-9EEF-243E1AF8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078B-EBE0-4292-8EC3-9B948D50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4029-3F67-4A6E-A587-622F6154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4EB-60E7-4558-BE86-065A3742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5BB0-350D-4F8E-A509-DD8C86B4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163F-2190-4B2F-8ED4-B315F395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96B-590F-49CD-849B-594DDDEE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D34D-63E1-4C04-B4B8-89181EB5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E512-4853-4FA3-9A15-90EE328D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741D-5692-4472-81D1-2E788ABD04F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F8C4-B2C8-468F-8CF8-5F91578F51F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аплин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ергей Игоревич</a:t>
            </a:r>
            <a:endParaRPr b="0" lang="en-US" sz="48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rcRect l="16868" t="14200" r="21700" b="24813"/>
          <a:stretch/>
        </p:blipFill>
        <p:spPr>
          <a:xfrm>
            <a:off x="2771640" y="1628640"/>
            <a:ext cx="36720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rcRect l="1363" t="976" r="3991" b="0"/>
          <a:stretch/>
        </p:blipFill>
        <p:spPr>
          <a:xfrm>
            <a:off x="2284560" y="0"/>
            <a:ext cx="459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rcRect l="2039" t="0" r="7492" b="2867"/>
          <a:stretch/>
        </p:blipFill>
        <p:spPr>
          <a:xfrm>
            <a:off x="2484360" y="0"/>
            <a:ext cx="417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rcRect l="0" t="0" r="52150" b="13410"/>
          <a:stretch/>
        </p:blipFill>
        <p:spPr>
          <a:xfrm>
            <a:off x="2195640" y="0"/>
            <a:ext cx="461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rcRect l="1676" t="0" r="3903" b="4753"/>
          <a:stretch/>
        </p:blipFill>
        <p:spPr>
          <a:xfrm>
            <a:off x="1908000" y="0"/>
            <a:ext cx="505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rcRect l="12124" t="7561" r="12393" b="6144"/>
          <a:stretch/>
        </p:blipFill>
        <p:spPr>
          <a:xfrm>
            <a:off x="2052720" y="0"/>
            <a:ext cx="48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rcRect l="6444" t="13490" r="10172" b="14448"/>
          <a:stretch/>
        </p:blipFill>
        <p:spPr>
          <a:xfrm>
            <a:off x="2987640" y="0"/>
            <a:ext cx="6156360" cy="43498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rcRect l="8309" t="11083" r="12055" b="14722"/>
          <a:stretch/>
        </p:blipFill>
        <p:spPr>
          <a:xfrm>
            <a:off x="2411280" y="3805200"/>
            <a:ext cx="4321440" cy="30528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rcRect l="18149" t="10060" r="19997" b="14324"/>
          <a:stretch/>
        </p:blipFill>
        <p:spPr>
          <a:xfrm>
            <a:off x="-19080" y="2060640"/>
            <a:ext cx="294480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4:36:19Z</dcterms:created>
  <dc:creator>User</dc:creator>
  <dc:description/>
  <dc:language>en-US</dc:language>
  <cp:lastModifiedBy>User</cp:lastModifiedBy>
  <dcterms:modified xsi:type="dcterms:W3CDTF">2012-12-05T20:05:07Z</dcterms:modified>
  <cp:revision>3</cp:revision>
  <dc:subject/>
  <dc:title>Саплин  Сергей Игоревич</dc:title>
</cp:coreProperties>
</file>