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C9E-BA3F-4C49-BE60-FF67ED9F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893A-2E12-45B9-943D-3BC1CCF4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513-8A03-486E-8760-F1F0A26F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115-5D0D-4735-AFCB-C402772C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8A0-0783-4A35-A8CF-0817014F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8B6-63E3-47C9-9139-9CB0A257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C00-20FA-4730-A322-C93EE80C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1B8-AE43-4FE4-ADCC-8BEAD9DC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83D4-EB51-40FE-B1F6-0A02755E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67A-F41A-4DED-8A5C-B3059E74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2C0-71A3-4B40-BE98-D7A0AB69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6671-BD45-48E0-ADF4-C6337D87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96B4-2585-40B4-A3EB-BAFAB2570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6.gi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692280"/>
            <a:ext cx="691200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3399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здание презентации</a:t>
            </a:r>
            <a:endParaRPr b="0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3399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48000" y="2865600"/>
            <a:ext cx="2735280" cy="2503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84720" y="407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720720" cy="605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71640" y="189000"/>
            <a:ext cx="225360" cy="6296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8640720" cy="209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547640" y="333360"/>
            <a:ext cx="626436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99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бор разметки слайда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99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403280" y="3068640"/>
            <a:ext cx="6337440" cy="360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03280" y="1700280"/>
            <a:ext cx="741672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меню «Формат» выбрать команду «Разметка слай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оле задач (с правой стороны) выбрать разметку слайда «Пустой Слайд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можно выбрать любую разметк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771640" y="1989000"/>
            <a:ext cx="936720" cy="1295280"/>
            <a:chOff x="2771640" y="1989000"/>
            <a:chExt cx="936720" cy="1295280"/>
          </a:xfrm>
        </p:grpSpPr>
        <p:sp>
          <p:nvSpPr>
            <p:cNvPr id="51" name=""/>
            <p:cNvSpPr/>
            <p:nvPr/>
          </p:nvSpPr>
          <p:spPr>
            <a:xfrm flipH="1">
              <a:off x="2771640" y="1989000"/>
              <a:ext cx="648000" cy="12952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16360" y="1989000"/>
              <a:ext cx="7920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419640" y="1989000"/>
            <a:ext cx="4825440" cy="1800000"/>
            <a:chOff x="3419640" y="1989000"/>
            <a:chExt cx="4825440" cy="1800000"/>
          </a:xfrm>
        </p:grpSpPr>
        <p:sp>
          <p:nvSpPr>
            <p:cNvPr id="54" name=""/>
            <p:cNvSpPr/>
            <p:nvPr/>
          </p:nvSpPr>
          <p:spPr>
            <a:xfrm flipH="1">
              <a:off x="3419640" y="1989000"/>
              <a:ext cx="3508560" cy="1800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70840" y="1989000"/>
              <a:ext cx="19742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979640" y="2708280"/>
            <a:ext cx="5329080" cy="2233080"/>
            <a:chOff x="1979640" y="2708280"/>
            <a:chExt cx="5329080" cy="2233080"/>
          </a:xfrm>
        </p:grpSpPr>
        <p:sp>
          <p:nvSpPr>
            <p:cNvPr id="57" name=""/>
            <p:cNvSpPr/>
            <p:nvPr/>
          </p:nvSpPr>
          <p:spPr>
            <a:xfrm>
              <a:off x="1979640" y="2708280"/>
              <a:ext cx="15127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71640" y="2708280"/>
              <a:ext cx="4537080" cy="2233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760"/>
                            </p:stCondLst>
                            <p:childTnLst>
                              <p:par>
                                <p:cTn id="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20"/>
                            </p:stCondLst>
                            <p:childTnLst>
                              <p:par>
                                <p:cTn id="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720720" cy="605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71640" y="189000"/>
            <a:ext cx="225360" cy="6296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8640720" cy="209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547640" y="333360"/>
            <a:ext cx="626436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99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здание фона слайда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99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989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ервый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2708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торой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2781360"/>
            <a:ext cx="18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342900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Третий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720720" cy="605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71640" y="189000"/>
            <a:ext cx="225360" cy="6296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8640720" cy="209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547640" y="333360"/>
            <a:ext cx="626436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99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здание фона слайда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99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9079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Первый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3280" y="1557360"/>
            <a:ext cx="38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Формат/Фон/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в горизонтальном узком окошке нажимаем на </a:t>
            </a:r>
            <a:r>
              <a:rPr b="0" lang="en-US" sz="1800" spc="-1" strike="noStrike">
                <a:solidFill>
                  <a:srgbClr val="009999"/>
                </a:solidFill>
                <a:latin typeface="Webdings"/>
                <a:ea typeface="Webdings"/>
              </a:rPr>
              <a:t>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Способы заливки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/выбираем вкладку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Текстура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,/выбираем из предложенных вариантов текстуру, нажимаем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ОК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/ Если Вы хотите, чтобы все слайды презентации имели выбранный Вами фон, в диалоговом окне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Фон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щелкните мышью по кнопке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Применить ко всем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, иначе щелкните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Применить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Фон го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050920" y="1557360"/>
            <a:ext cx="3085560" cy="2598480"/>
            <a:chOff x="2050920" y="1557360"/>
            <a:chExt cx="3085560" cy="2598480"/>
          </a:xfrm>
        </p:grpSpPr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2050920" y="1557360"/>
              <a:ext cx="2613960" cy="19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5"/>
            <a:stretch/>
          </p:blipFill>
          <p:spPr>
            <a:xfrm>
              <a:off x="2165040" y="3157200"/>
              <a:ext cx="1685880" cy="9986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76" name=""/>
            <p:cNvSpPr/>
            <p:nvPr/>
          </p:nvSpPr>
          <p:spPr>
            <a:xfrm flipH="1">
              <a:off x="3193560" y="2357280"/>
              <a:ext cx="16002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3650760" y="2490480"/>
              <a:ext cx="1485720" cy="1485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771640" y="4437000"/>
            <a:ext cx="1452600" cy="1808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003640" y="2421000"/>
            <a:ext cx="2016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24720" y="6165720"/>
            <a:ext cx="720720" cy="505080"/>
          </a:xfrm>
          <a:custGeom>
            <a:avLst/>
            <a:gdLst>
              <a:gd name="textAreaLeft" fmla="*/ 32760 w 720720"/>
              <a:gd name="textAreaRight" fmla="*/ 688320 w 72072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30815" h="21600">
                <a:moveTo>
                  <a:pt x="0" y="0"/>
                </a:moveTo>
                <a:lnTo>
                  <a:pt x="30815" y="0"/>
                </a:lnTo>
                <a:lnTo>
                  <a:pt x="30815" y="21600"/>
                </a:lnTo>
                <a:lnTo>
                  <a:pt x="0" y="21600"/>
                </a:lnTo>
                <a:close/>
              </a:path>
              <a:path fill="lightenLess" w="30815" h="21600">
                <a:moveTo>
                  <a:pt x="0" y="0"/>
                </a:moveTo>
                <a:lnTo>
                  <a:pt x="30815" y="0"/>
                </a:lnTo>
                <a:lnTo>
                  <a:pt x="29415" y="1400"/>
                </a:lnTo>
                <a:lnTo>
                  <a:pt x="1400" y="1400"/>
                </a:lnTo>
                <a:close/>
              </a:path>
              <a:path fill="darken" w="30815" h="21600">
                <a:moveTo>
                  <a:pt x="30815" y="0"/>
                </a:moveTo>
                <a:lnTo>
                  <a:pt x="30815" y="21600"/>
                </a:lnTo>
                <a:lnTo>
                  <a:pt x="29415" y="20200"/>
                </a:lnTo>
                <a:lnTo>
                  <a:pt x="29415" y="1400"/>
                </a:lnTo>
                <a:close/>
              </a:path>
              <a:path fill="darkenLess" w="30815" h="21600">
                <a:moveTo>
                  <a:pt x="30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15" y="20200"/>
                </a:lnTo>
                <a:close/>
              </a:path>
              <a:path fill="lighten" w="30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15" h="21600">
                <a:moveTo>
                  <a:pt x="8401" y="10800"/>
                </a:moveTo>
                <a:lnTo>
                  <a:pt x="22414" y="3794"/>
                </a:lnTo>
                <a:lnTo>
                  <a:pt x="22414" y="17806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647640" cy="476280"/>
          </a:xfrm>
          <a:custGeom>
            <a:avLst/>
            <a:gdLst>
              <a:gd name="textAreaLeft" fmla="*/ 30600 w 647640"/>
              <a:gd name="textAreaRight" fmla="*/ 617040 w 647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6" y="3794"/>
                </a:moveTo>
                <a:lnTo>
                  <a:pt x="21689" y="10800"/>
                </a:lnTo>
                <a:lnTo>
                  <a:pt x="7676" y="17806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720720" cy="605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71640" y="189000"/>
            <a:ext cx="225360" cy="6296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8640720" cy="209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547640" y="333360"/>
            <a:ext cx="626436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99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здание фона слайда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99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9079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Второй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2781360"/>
            <a:ext cx="18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1844640"/>
            <a:ext cx="39607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Формат/Фон/Способы заливки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/ 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(появится диалоговое окно «Способы заливки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вкладка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Градиентная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В разделе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Цвета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 установите флажок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Два цвета,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выберите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Цвет 1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Цвет 2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В разделе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Тип штриховки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 установите флажок 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Из угла.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Выберите 4. Нажмите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В окне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Способы заливки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 нажмите клавишу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Приме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373720" y="1916280"/>
            <a:ext cx="3390840" cy="4176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>
            <a:off x="3995640" y="2349000"/>
            <a:ext cx="1513080" cy="3589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635280" y="2997000"/>
            <a:ext cx="4032360" cy="50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635280" y="3357360"/>
            <a:ext cx="4032360" cy="214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96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8388360" y="6381720"/>
            <a:ext cx="647640" cy="476280"/>
          </a:xfrm>
          <a:custGeom>
            <a:avLst/>
            <a:gdLst>
              <a:gd name="textAreaLeft" fmla="*/ 30600 w 647640"/>
              <a:gd name="textAreaRight" fmla="*/ 617040 w 647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6" y="3794"/>
                </a:moveTo>
                <a:lnTo>
                  <a:pt x="21689" y="10800"/>
                </a:lnTo>
                <a:lnTo>
                  <a:pt x="7676" y="17806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720720" cy="605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71640" y="189000"/>
            <a:ext cx="225360" cy="6296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8640720" cy="209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692360" y="260280"/>
            <a:ext cx="626436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99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здание фона слайда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99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781360"/>
            <a:ext cx="18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836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Третий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1484280"/>
            <a:ext cx="7416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В меню «Формат» выбрать команду «Оформление слай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В поле задач (с правой стороны) выбрать понравившийся шаблон оформ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В выбранном шаблоне вызвать список и в нем выбрать «применить к выделенным слайда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619280" y="3213000"/>
            <a:ext cx="6551640" cy="3314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16360" y="1773360"/>
            <a:ext cx="86364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916360" y="1773360"/>
            <a:ext cx="863640" cy="1655280"/>
            <a:chOff x="2916360" y="1773360"/>
            <a:chExt cx="863640" cy="1655280"/>
          </a:xfrm>
        </p:grpSpPr>
        <p:sp>
          <p:nvSpPr>
            <p:cNvPr id="105" name=""/>
            <p:cNvSpPr/>
            <p:nvPr/>
          </p:nvSpPr>
          <p:spPr>
            <a:xfrm flipH="1">
              <a:off x="2987640" y="1773360"/>
              <a:ext cx="720720" cy="16552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6360" y="1773360"/>
              <a:ext cx="8636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227640" y="1773360"/>
            <a:ext cx="23050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850920" y="1773360"/>
            <a:ext cx="3241800" cy="20160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708000" y="1773360"/>
            <a:ext cx="4824360" cy="2086920"/>
            <a:chOff x="3708000" y="1773360"/>
            <a:chExt cx="4824360" cy="2086920"/>
          </a:xfrm>
        </p:grpSpPr>
        <p:sp>
          <p:nvSpPr>
            <p:cNvPr id="110" name=""/>
            <p:cNvSpPr/>
            <p:nvPr/>
          </p:nvSpPr>
          <p:spPr>
            <a:xfrm>
              <a:off x="6157080" y="1773360"/>
              <a:ext cx="23752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708000" y="1773360"/>
              <a:ext cx="3340440" cy="20869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580000" y="2852640"/>
            <a:ext cx="72072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00720" y="2852640"/>
            <a:ext cx="1727280" cy="24480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8360" y="573408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10800"/>
                </a:moveTo>
                <a:lnTo>
                  <a:pt x="20865" y="3794"/>
                </a:lnTo>
                <a:lnTo>
                  <a:pt x="20865" y="17806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388360" y="6381720"/>
            <a:ext cx="647640" cy="476280"/>
          </a:xfrm>
          <a:custGeom>
            <a:avLst/>
            <a:gdLst>
              <a:gd name="textAreaLeft" fmla="*/ 30600 w 647640"/>
              <a:gd name="textAreaRight" fmla="*/ 617040 w 647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6" y="3794"/>
                </a:moveTo>
                <a:lnTo>
                  <a:pt x="21689" y="10800"/>
                </a:lnTo>
                <a:lnTo>
                  <a:pt x="7676" y="17806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720720" cy="605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71640" y="189000"/>
            <a:ext cx="225360" cy="629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8640720" cy="209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547640" y="189000"/>
            <a:ext cx="705672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99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здание красивых заголовков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99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2781360"/>
            <a:ext cx="18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9640" y="5392800"/>
            <a:ext cx="406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ы отобразить эту панель, наведите курсор на текст надписи и щелкните по левой кнопке, при этом появиться необходимая панел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1280" y="141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 помощью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бъекта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WordArt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на панели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исования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187280" y="1773360"/>
            <a:ext cx="3753000" cy="476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780000" y="1700280"/>
            <a:ext cx="1800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211280" y="1700280"/>
            <a:ext cx="865080" cy="288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5640" y="1916280"/>
            <a:ext cx="289080" cy="3603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211280" y="1700280"/>
            <a:ext cx="865080" cy="288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95640" y="1916280"/>
            <a:ext cx="289080" cy="3603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780000" y="1700280"/>
            <a:ext cx="1800000" cy="576360"/>
            <a:chOff x="3780000" y="1700280"/>
            <a:chExt cx="1800000" cy="576360"/>
          </a:xfrm>
        </p:grpSpPr>
        <p:sp>
          <p:nvSpPr>
            <p:cNvPr id="130" name=""/>
            <p:cNvSpPr/>
            <p:nvPr/>
          </p:nvSpPr>
          <p:spPr>
            <a:xfrm>
              <a:off x="3780000" y="1700280"/>
              <a:ext cx="18000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211280" y="1700280"/>
              <a:ext cx="865080" cy="288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95640" y="1916280"/>
              <a:ext cx="289080" cy="36036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258920" y="2276640"/>
            <a:ext cx="388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 появившемся окне выберите нужный стиль надписи и щелкните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К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 диалоговом окне «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зменение текста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WordArt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» введите текст, щелкните кнопку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К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414972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ереместите надпись в нужное место слайда и при необходимости измените его размеры, манипулируя маркерами выделения объекта. (Изменить текст, форму написания, цвет заливки можно с помощью  панели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WordArt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5076720" y="2133720"/>
            <a:ext cx="1943280" cy="1666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564000" y="2565360"/>
            <a:ext cx="1512720" cy="287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6948360" y="2997360"/>
            <a:ext cx="2057400" cy="1380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427640" y="3716280"/>
            <a:ext cx="2881080" cy="2174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508720" y="4797360"/>
            <a:ext cx="2297160" cy="36036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2411280" y="5157720"/>
            <a:ext cx="3097440" cy="1224000"/>
            <a:chOff x="2411280" y="5157720"/>
            <a:chExt cx="3097440" cy="1224000"/>
          </a:xfrm>
        </p:grpSpPr>
        <p:sp>
          <p:nvSpPr>
            <p:cNvPr id="141" name=""/>
            <p:cNvSpPr/>
            <p:nvPr/>
          </p:nvSpPr>
          <p:spPr>
            <a:xfrm>
              <a:off x="2411280" y="6381720"/>
              <a:ext cx="16560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140360" y="5157720"/>
              <a:ext cx="1368360" cy="1224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225360" cy="6296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8640720" cy="209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1403280" y="333360"/>
            <a:ext cx="741672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99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добавить текст в презентацию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99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781360"/>
            <a:ext cx="18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258920" y="1628640"/>
            <a:ext cx="73454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Для этог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На панели инструментов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Рисование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щелкните мышью по кнопке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Надпись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66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Переместите курсор на слайд (где должен стоять тек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66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Растяните рамку поля ввода текста. Курсор появится в левой части рамки тек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66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Введите тек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66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При необходимости выделите нужный фрагмент текста и измените его атрибуты с помощью панели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Форма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2484360" y="2349360"/>
            <a:ext cx="358920" cy="397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1763640" y="2852640"/>
            <a:ext cx="3753000" cy="32400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3492360" y="2637000"/>
            <a:ext cx="1150920" cy="647640"/>
            <a:chOff x="3492360" y="2637000"/>
            <a:chExt cx="1150920" cy="647640"/>
          </a:xfrm>
        </p:grpSpPr>
        <p:sp>
          <p:nvSpPr>
            <p:cNvPr id="152" name=""/>
            <p:cNvSpPr/>
            <p:nvPr/>
          </p:nvSpPr>
          <p:spPr>
            <a:xfrm>
              <a:off x="3492360" y="2637000"/>
              <a:ext cx="863640" cy="287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56000" y="2781360"/>
              <a:ext cx="287280" cy="50328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8:13:17Z</dcterms:created>
  <dc:creator>user</dc:creator>
  <dc:description/>
  <dc:language>en-US</dc:language>
  <cp:lastModifiedBy>user</cp:lastModifiedBy>
  <dcterms:modified xsi:type="dcterms:W3CDTF">2004-04-26T22:08:37Z</dcterms:modified>
  <cp:revision>5</cp:revision>
  <dc:subject/>
  <dc:title>Слайд 1</dc:title>
</cp:coreProperties>
</file>