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6.jpeg" ContentType="image/jpeg"/>
  <Override PartName="/ppt/media/image10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CCE2-0A6B-4826-A98F-EF1F7DE45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0DBB-EDFC-4E09-9392-BCC1DAB2F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5CCC-71B7-4D55-BFAD-0F1BBD499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FADA-AB9A-4CA2-8F7B-BE877EE27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6CE5-1395-47DE-895A-F7B56F595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2BC9-EA7C-458E-89FE-C3F3F244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504A-0E7D-4A22-83D1-E05B96355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A433-ACCD-4434-AA88-A3D9380D8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7126-E3BE-45D4-979F-789061C0A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1062-11C6-4BEA-B649-18F9BB89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DCA7-B9D5-4F37-81B7-EB992FE4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2523-B447-4E19-AE97-DD5C4562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93FE5-3B30-4CB5-8775-E1FF4E29371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два новых кольца Урана"/>
          <p:cNvPicPr/>
          <p:nvPr/>
        </p:nvPicPr>
        <p:blipFill>
          <a:blip r:embed="rId1"/>
          <a:stretch/>
        </p:blipFill>
        <p:spPr>
          <a:xfrm>
            <a:off x="0" y="-3960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85880"/>
            <a:ext cx="738648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3300"/>
                </a:solidFill>
                <a:latin typeface="Tahoma"/>
              </a:rPr>
              <a:t>Уран - самая  голубая планета солнечной системы.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3480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Презентацию подготовил: Апостолов  Макси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4 клас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7" descr="C:\Users\Apostolov\Documents\Максу\bg_1_gif.gif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99"/>
                </a:solidFill>
                <a:latin typeface="Tahoma"/>
              </a:rPr>
              <a:t>Соста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Уран состоит прежде всего из горной породы и различных льдов, количество водорода составляет только приблизительно 15 % и есть небольшое количество гелия (в отличие от Юпитера и Сатурна, основным составляющим которых является водород). По-видимому, Уран не имеет каменного ядра подобно Юпитеру и Сатурн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строение Урана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74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7" descr="C:\Users\Apostolov\Documents\Максу\bg_1_gif.gif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Tahoma"/>
              </a:rPr>
              <a:t>Атмосфер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5" name="Рисунок 22" descr="http://upload.wikimedia.org/wikipedia/commons/thumb/f/fa/Uranuscolour.png/300px-Uranuscolour.png"/>
          <p:cNvPicPr/>
          <p:nvPr/>
        </p:nvPicPr>
        <p:blipFill>
          <a:blip r:embed="rId2"/>
          <a:stretch/>
        </p:blipFill>
        <p:spPr>
          <a:xfrm>
            <a:off x="0" y="857160"/>
            <a:ext cx="9128160" cy="48373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2"/>
          <p:cNvSpPr/>
          <p:nvPr/>
        </p:nvSpPr>
        <p:spPr>
          <a:xfrm>
            <a:off x="214200" y="5643720"/>
            <a:ext cx="857268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Изображение в естественном цвете (слева) и в более дальних частях видимого спектра (справа), позволяющие различить облачные полосы и атмосферный «капюшон» (снимок Вояджера-2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7" descr="C:\Users\Apostolov\Documents\Максу\bg_1_gif.gif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57120" y="99972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тмосфера Урана состоит на 83% из водорода, на 15% из гелия и на 2% из мета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к и другие газовые планеты, у Урана есть полосы облаков, которые быстро перемещаются вокруг него. Но они чрезвычайно слабы и видимы только при очень высоком качестве изображения. Недавние наблюдения показывают большие и более явные полос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иний цвет Урана - результат поглощения красного света метаном в верхних слоях атмосфер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7" descr="C:\Users\Apostolov\Documents\Максу\bg_1_gif.gif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Уран с кольцами"/>
          <p:cNvPicPr/>
          <p:nvPr/>
        </p:nvPicPr>
        <p:blipFill>
          <a:blip r:embed="rId2"/>
          <a:stretch/>
        </p:blipFill>
        <p:spPr>
          <a:xfrm>
            <a:off x="214200" y="0"/>
            <a:ext cx="87156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Кольца Урана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C:\Users\Apostolov\Documents\Максу\bg_1_gif.gif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0" y="142560"/>
            <a:ext cx="914400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ahoma"/>
              </a:rPr>
              <a:t>Подобно другим газовым планетам, Уран имеет кольца. Кольцевая система была обнаружена в 1977-м году во время покрытия Ураном звезды. Наблюдалось, что звезда 5 раз ослабляла на краткий промежуток времени свой блеск перед покрытием и после него, что и навело на мысль о кольцах. Последующие наблюдения c Земли показали, что действительно есть кольца, девять более или менее ярко выраженных. Если перебирать их, удаляясь от планеты, они названы 6, 5, 4, Альфа, Бета, Эта, Гамма, Дельта и Эпсилон. Камеры "Вояджера" обнаружили несколько дополнительных колец, и также показали, что девять основных колец погружены в мелкую пыль. Подобно кольцам Юпитера, они очень неярки, но, как и кольца Сатурна, кольца Урана содержат много довольно больших частиц, размеры их колеблются от 10 метров в диаметре до мелкой пыли. Кольца Урана были открыты первыми после колец Сатурна. Это имело большое значение, так как стало возможным предположить, что кольца - общая характеристика планет, а не удел одного Сатурна. Это еще одно прямо-таки эпохальное значение Урана для астрономии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C:\Users\Apostolov\Documents\Максу\bg_1_gif.gif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ahoma"/>
              </a:rPr>
              <a:t>Наблюдения показали, что кольца Урана заметно отличаются от родственных им систем Юпитера и Сатурна. Неполные кольца с различным показателям прозрачности по длине каждого из колец сформировались, похоже, позже, чем сам Уран, возможно, после разрыва нескольких спутников приливными силами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ahoma"/>
              </a:rPr>
              <a:t>Отдельные частицы в кольцах обнаруживали низкую отражательную способность. Например, самое яркое кольцо, Эпсилон, серого цвета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ahoma"/>
              </a:rPr>
              <a:t>Ключом к разгадке структуры колец Урана может быть и открытие того, что два небольших спутника - Корделия и Офелия - находятся внутри кольца Эпсилон. Это объясняет неравномерное распределение частиц в кольце: спутники удерживают вещество вокруг себя. Так, используя эту теорию, предположено, что в этом кольце можно отыскать еще 16(!) спутников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C:\Users\Apostolov\Documents\Максу\8c981142cfb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90084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ahoma"/>
              </a:rPr>
              <a:t>Видимост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3548160"/>
            <a:ext cx="8229600" cy="33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Уран иногда видим невооруженным глазом в очень ясную ночь; довольно просто найти его с биноклем (если вы точно знаете, куда смотреть). В малый телескоп виден дис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7" descr="C:\Users\Apostolov\Documents\Максу\bg_1_gif.gif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2" descr="Вид Урана со стороны темного, северного, полушария"/>
          <p:cNvPicPr/>
          <p:nvPr/>
        </p:nvPicPr>
        <p:blipFill>
          <a:blip r:embed="rId2"/>
          <a:stretch/>
        </p:blipFill>
        <p:spPr>
          <a:xfrm>
            <a:off x="3357720" y="0"/>
            <a:ext cx="5786280" cy="69105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501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Небесная шекспириада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Прямоугольник 6"/>
          <p:cNvSpPr/>
          <p:nvPr/>
        </p:nvSpPr>
        <p:spPr>
          <a:xfrm>
            <a:off x="214200" y="1928880"/>
            <a:ext cx="35719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ран окружен системой спутников, орбиты большинства из которых почти совпадают с плоскостью экватора плане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7" descr="C:\Users\Apostolov\Documents\Максу\bg_1_gif.gif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85480" y="500040"/>
            <a:ext cx="871524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истеме Урана открыто 27 естественных спутников. Названия для них выбраны по именам персонажей произведений Уильяма Шекспира и Александра Поуп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се спутники можно разделить на три явно выраженных групп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Перва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это внутренние спутники: Корделия, Офелия, Бианка, Крессида, Дездемона, Джульетта, Порция, Розалинда, Купидон, Белинда, Пердита, Пак и Маб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Втора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относительно крупные спутники Урана: Миранда, Ариэль, Умбриэль, Титания и Оберон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В третью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руппу входят внешние спутники: Франциско, Калибан, Стефано, Тринкуло, Сикоракса, Маргарита, Просперо, Сетебос и Фердинанд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C:\Users\Apostolov\Documents\Максу\bg_1_gif.gif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7242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C:\Users\Apostolov\Documents\Максу\600px-Uranus,_Earth_size_comparison.jpg"/>
          <p:cNvPicPr/>
          <p:nvPr/>
        </p:nvPicPr>
        <p:blipFill>
          <a:blip r:embed="rId2"/>
          <a:stretch/>
        </p:blipFill>
        <p:spPr>
          <a:xfrm>
            <a:off x="785880" y="0"/>
            <a:ext cx="7215120" cy="72151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13840" y="785520"/>
            <a:ext cx="892980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ahoma"/>
              </a:rPr>
              <a:t>Когда о </a:t>
            </a:r>
            <a:r>
              <a:rPr b="1" i="1" lang="ru-RU" sz="4000" spc="-1" strike="noStrike" u="sng">
                <a:solidFill>
                  <a:srgbClr val="ffff00"/>
                </a:solidFill>
                <a:uFillTx/>
                <a:latin typeface="Tahoma"/>
              </a:rPr>
              <a:t>Земле</a:t>
            </a:r>
            <a:r>
              <a:rPr b="0" lang="ru-RU" sz="3600" spc="-1" strike="noStrike">
                <a:solidFill>
                  <a:srgbClr val="ffff00"/>
                </a:solidFill>
                <a:latin typeface="Tahoma"/>
              </a:rPr>
              <a:t> говорят, что она голубая, это ласковое преувеличение. По-настоящему голубой планетой оказался далекий </a:t>
            </a:r>
            <a:r>
              <a:rPr b="1" i="1" lang="ru-RU" sz="4000" spc="-1" strike="noStrike" u="sng">
                <a:solidFill>
                  <a:srgbClr val="ffff00"/>
                </a:solidFill>
                <a:uFillTx/>
                <a:latin typeface="Tahoma"/>
              </a:rPr>
              <a:t>Уран!</a:t>
            </a:r>
            <a:r>
              <a:rPr b="0" lang="ru-RU" sz="36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ahoma"/>
              </a:rPr>
              <a:t>Уран – старинное греческое божество Неба, самый ранний высший бог, который был отцом Крона (Сатурна), циклопов и титанов (предшественников Олимпийских богов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7" descr="C:\Users\Apostolov\Documents\Максу\bg_1_gif.gif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Крупные спутники Уран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7" name="Рисунок 30" descr="http://upload.wikimedia.org/wikipedia/ru/2/2b/800px-Uranian_moon_montage.jpg"/>
          <p:cNvPicPr/>
          <p:nvPr/>
        </p:nvPicPr>
        <p:blipFill>
          <a:blip r:embed="rId2"/>
          <a:srcRect l="1143" t="0" r="6614" b="0"/>
          <a:stretch/>
        </p:blipFill>
        <p:spPr>
          <a:xfrm>
            <a:off x="0" y="2571840"/>
            <a:ext cx="91440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C:\Users\Apostolov\Documents\Максу\foto0213.jpg"/>
          <p:cNvPicPr/>
          <p:nvPr/>
        </p:nvPicPr>
        <p:blipFill>
          <a:blip r:embed="rId1"/>
          <a:srcRect l="3123" t="3123" r="0" b="3123"/>
          <a:stretch/>
        </p:blipFill>
        <p:spPr>
          <a:xfrm>
            <a:off x="1136520" y="6480"/>
            <a:ext cx="707868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7" descr="C:\Users\Apostolov\Documents\Максу\bg_1_gif.gif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C:\Users\Apostolov\Documents\Максу\Спутники Урана\Miranda.jpg"/>
          <p:cNvPicPr/>
          <p:nvPr/>
        </p:nvPicPr>
        <p:blipFill>
          <a:blip r:embed="rId2"/>
          <a:stretch/>
        </p:blipFill>
        <p:spPr>
          <a:xfrm>
            <a:off x="1143000" y="-17640"/>
            <a:ext cx="6858000" cy="6893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путник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Урана -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Миранда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(Miranda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7" descr="C:\Users\Apostolov\Documents\Максу\bg_1_gif.gif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28400" y="142560"/>
            <a:ext cx="871524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24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00"/>
                </a:solidFill>
                <a:latin typeface="Tahoma"/>
              </a:rPr>
              <a:t>Орбита = 129 780 км от Урана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>
              <a:spcBef>
                <a:spcPts val="624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00"/>
                </a:solidFill>
                <a:latin typeface="Tahoma"/>
              </a:rPr>
              <a:t>Период обращения = 1.4 дня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>
              <a:spcBef>
                <a:spcPts val="624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00"/>
                </a:solidFill>
                <a:latin typeface="Tahoma"/>
              </a:rPr>
              <a:t>Открыт  в 1948 году Герардом Купером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>
              <a:spcBef>
                <a:spcPts val="624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00"/>
                </a:solidFill>
                <a:latin typeface="Tahoma"/>
              </a:rPr>
              <a:t>Диаметр = 472 км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>
              <a:spcBef>
                <a:spcPts val="624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00"/>
                </a:solidFill>
                <a:latin typeface="Tahoma"/>
              </a:rPr>
              <a:t>Миранда примерно на половину состоит из водяного льда и наполовину из горного материала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>
              <a:spcBef>
                <a:spcPts val="624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00"/>
                </a:solidFill>
                <a:latin typeface="Tahoma"/>
              </a:rPr>
              <a:t>На поверхности Миранды все перемешано: покрытая кратерами местность перемежается с площадками со сверхъестественными канавками, долины чередуются с утесами высотой более чем 5 километров. . Такая активная тектоническая деятельность оказалась неожиданной на спутнике, диаметр которого меньше 500км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00"/>
                </a:solidFill>
                <a:latin typeface="Tahoma"/>
              </a:rPr>
              <a:t>Названа вчесть Миранды -дочери фокусника Просперо в "Буре" Шекспира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7" descr="C:\Users\Apostolov\Documents\Максу\bg_1_gif.gif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C:\Users\Apostolov\Documents\Максу\Спутники Урана\Ariel_(moon).jpg"/>
          <p:cNvPicPr/>
          <p:nvPr/>
        </p:nvPicPr>
        <p:blipFill>
          <a:blip r:embed="rId2"/>
          <a:stretch/>
        </p:blipFill>
        <p:spPr>
          <a:xfrm>
            <a:off x="1357200" y="1440"/>
            <a:ext cx="6066000" cy="68565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Спутник Урана - Ариэль (Ariel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7" descr="C:\Users\Apostolov\Documents\Максу\bg_1_gif.gif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0" y="214200"/>
            <a:ext cx="91440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Орбита =191 240 км от Урана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ериод обращения = 2.52 дня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Открыт  в 1851 году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Диаметр = 1160 км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Ариель был открыт Ласселлем в 1951 году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се большие луны Урана состоят из смеси приблизительно наполовину водяного льда и горных пород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оверхность Ариеля представляет собой смесь местности, покрытой кратерами, и систем взаимосвязанных долин протяженностью в сотни километров в длину и более чем 10 км глубиной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Ариель, возможно, был горячим внутри очень давно, но теперь это холодное космическое тело. Возможно, что долины являются трещинами, которые сформировались, когда Ариель остыл и замерз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Ариель - озорной воздушный дух Шекспировской "Бури"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7" descr="C:\Users\Apostolov\Documents\Максу\bg_1_gif.gif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C:\Users\Apostolov\Documents\Максу\Спутники Урана\Umbriel_(moon).jpg"/>
          <p:cNvPicPr/>
          <p:nvPr/>
        </p:nvPicPr>
        <p:blipFill>
          <a:blip r:embed="rId2"/>
          <a:stretch/>
        </p:blipFill>
        <p:spPr>
          <a:xfrm>
            <a:off x="1214280" y="1440"/>
            <a:ext cx="6605640" cy="68565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Умбриэль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7" descr="C:\Users\Apostolov\Documents\Максу\bg_1_gif.gif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3"/>
          <p:cNvSpPr/>
          <p:nvPr/>
        </p:nvSpPr>
        <p:spPr>
          <a:xfrm>
            <a:off x="214200" y="214200"/>
            <a:ext cx="8643960" cy="60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Орбита = 265 970 км от Урана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Диаметр = 1190 км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Период обращения = 4.1 дня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Открыт  в 1851 Вильямом Ласселом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Умбриэль похож на Ариэль в размере и форме, но заметно различен в цвете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В отличие от Ариэль, поверхность Умбриэль выступает и очень старая, с древними кратерами видимыми всюду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Также в отличие от Ариэль, поверхность Умбриэль очень темная и отражает только половину света, который бы отразил Ариэль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Любопытный снимок полученный Вояджером-2 показывает, что форма Умбриел – окружность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7" descr="C:\Users\Apostolov\Documents\Максу\bg_1_gif.gif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C:\Users\Apostolov\Documents\Максу\Спутники Урана\Titania.jpg"/>
          <p:cNvPicPr/>
          <p:nvPr/>
        </p:nvPicPr>
        <p:blipFill>
          <a:blip r:embed="rId2"/>
          <a:stretch/>
        </p:blipFill>
        <p:spPr>
          <a:xfrm>
            <a:off x="857160" y="0"/>
            <a:ext cx="6896160" cy="68961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69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Спутник Урана - Титания (Titania)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7" descr="C:\Users\Apostolov\Documents\Максу\bg_1_gif.gif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357120" y="571320"/>
            <a:ext cx="842976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рбита - 435 840 км от Ура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иаметр - 1 580 к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риод обращения - 8.7 дн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крыт в 1787г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Титании - многочисленные кратеры и долин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итания была открыта Гершелем в 1787 год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итания - королева фей и жена Оберона в Шекспировском "Сне в летнюю ночь"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C:\Users\Apostolov\Documents\Максу\bg_1_gif.gif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" descr="Уран"/>
          <p:cNvPicPr/>
          <p:nvPr/>
        </p:nvPicPr>
        <p:blipFill>
          <a:blip r:embed="rId2"/>
          <a:stretch/>
        </p:blipFill>
        <p:spPr>
          <a:xfrm>
            <a:off x="1214280" y="0"/>
            <a:ext cx="6786720" cy="6886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85840" y="571680"/>
            <a:ext cx="850104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ран, первая планета, обнаруженная в новой истории, была открыта случайно </a:t>
            </a: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Вильямом Гершелем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когда он рассматривал небо в свой телескоп </a:t>
            </a: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13 марта 1781 год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Гершель назвал планету «Планета Георга» в честь своего покровителя, короля Англии Георга III, за что получил от монарха королевскую пенсию. Другие астрономы называли ее планетой Гершеля. Имя же «Уран» утвердилось лишь в 1850 год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7" descr="C:\Users\Apostolov\Documents\Максу\bg_1_gif.gif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C:\Users\Apostolov\Documents\Максу\Спутники Урана\Voyager_2_picture_of_Oberon.jpg"/>
          <p:cNvPicPr/>
          <p:nvPr/>
        </p:nvPicPr>
        <p:blipFill>
          <a:blip r:embed="rId2"/>
          <a:stretch/>
        </p:blipFill>
        <p:spPr>
          <a:xfrm>
            <a:off x="142884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2"/>
          <p:cNvSpPr/>
          <p:nvPr/>
        </p:nvSpPr>
        <p:spPr>
          <a:xfrm>
            <a:off x="500040" y="285840"/>
            <a:ext cx="8229600" cy="10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Спутник Урана - Оберон (Oberon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7" descr="C:\Users\Apostolov\Documents\Максу\bg_1_gif.gif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428760" y="2858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рбита = 582 600 км от Ур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иаметр = 1526 к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иод обращения = 13.5 дн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крыт в 1787 году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ерон был открыт Гершелем в 1787 год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0640" indent="-2606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крытая большим количеством кратеров, поверхность Оберона, вероятно, была стабильна с начала своего формирования. Здесь обнаружены гораздо более крупные кратеры, чем на Ариеле и Титании. Некоторые из кратеров имеют лучи выбросов, подобныe тем, что обнаружены на Каллисто. На Обероне обнаружено несколько крупных кратеров и гора высотой около 6000 м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0640" indent="-260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зван вчесть Оберона в Шекспировском "Сне в летнюю ночь"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Уранчи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C:\Users\Apostolov\Documents\Максу\bg_1_gif.gif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Users\Apostolov\Documents\Максу\William_Herschel01.jpg"/>
          <p:cNvPicPr/>
          <p:nvPr/>
        </p:nvPicPr>
        <p:blipFill>
          <a:blip r:embed="rId2"/>
          <a:stretch/>
        </p:blipFill>
        <p:spPr>
          <a:xfrm>
            <a:off x="0" y="1177920"/>
            <a:ext cx="4643280" cy="56800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385776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ильям Гершель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3" name="Рисунок 4" descr="http://upload.wikimedia.org/wikipedia/commons/thumb/d/d7/HerschelTelescope.jpg/200px-HerschelTelescope.jpg"/>
          <p:cNvPicPr/>
          <p:nvPr/>
        </p:nvPicPr>
        <p:blipFill>
          <a:blip r:embed="rId3"/>
          <a:stretch/>
        </p:blipFill>
        <p:spPr>
          <a:xfrm>
            <a:off x="4714920" y="142920"/>
            <a:ext cx="4429080" cy="5668920"/>
          </a:xfrm>
          <a:prstGeom prst="rect">
            <a:avLst/>
          </a:prstGeom>
          <a:ln w="0">
            <a:noFill/>
          </a:ln>
        </p:spPr>
      </p:pic>
      <p:sp>
        <p:nvSpPr>
          <p:cNvPr id="54" name="Заголовок 4"/>
          <p:cNvSpPr/>
          <p:nvPr/>
        </p:nvSpPr>
        <p:spPr>
          <a:xfrm>
            <a:off x="4429080" y="5357880"/>
            <a:ext cx="471492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Модель телескопа, с помощью которого Гершель открыл Уран. Она находится в музее Уильяма Гершеля, в г. Ба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C:\Users\Apostolov\Documents\Максу\bg_1_gif.gif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Общие сведен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14200" y="1643040"/>
            <a:ext cx="851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ahoma"/>
              </a:rPr>
              <a:t>Среднее расстояние планеты от Солнца равно 19,187  астрономических единиц (а.е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ahoma"/>
              </a:rPr>
              <a:t>Звездные сутки на Уране длятся 17 часов 14 минут. Уран вращается, как говорят, «лежа на боку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ahoma"/>
              </a:rPr>
              <a:t>Масса Урана в 14,5 раз больше массы Земл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ahoma"/>
              </a:rPr>
              <a:t>Его радиус огромен: более 25 тыс. км, в 4 раза больше радиуса Земл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" name="Picture 5" descr="C:\Users\Apostolov\Documents\Максу\vogr_nept_triton.jpg"/>
          <p:cNvPicPr/>
          <p:nvPr/>
        </p:nvPicPr>
        <p:blipFill>
          <a:blip r:embed="rId1"/>
          <a:srcRect l="0" t="7538" r="0" b="24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7"/>
          <p:cNvSpPr/>
          <p:nvPr/>
        </p:nvSpPr>
        <p:spPr>
          <a:xfrm>
            <a:off x="1214280" y="285840"/>
            <a:ext cx="4400640" cy="9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Исследов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Прямоугольная выноска 6" descr=""/>
          <p:cNvPicPr/>
          <p:nvPr/>
        </p:nvPicPr>
        <p:blipFill>
          <a:blip r:embed="rId2"/>
          <a:stretch/>
        </p:blipFill>
        <p:spPr>
          <a:xfrm>
            <a:off x="4200480" y="2346480"/>
            <a:ext cx="446256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7" descr="C:\Users\Apostolov\Documents\Максу\bg_1_gif.gif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1428840"/>
            <a:ext cx="91440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В окрестностях Урана побывал только один космический аппарат "Вояджер-2", пролетевший на расстоянии 81 200 км от внешнего покрова облаков. Траектория аппарата была почти перпендикулярна плоскости, в которой находятся спутники, поэтому с близкого расстояния удалось сфотографировать только Миранду, самый маленький из известных до этого полёта спутников. Напряжённость магнитного поля Урана оказалась больше, чем у Сатурна, а интенсивность поясов радиации такая же, как у поясов Земли. В ультрафиолетовой области спектра зарегистрировано свечение атмосферы Урана, простирающееся на 50 тыс. километров от планет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7" descr="C:\Users\Apostolov\Documents\Максу\bg_1_gif.gif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00"/>
                </a:solidFill>
                <a:latin typeface="Tahoma"/>
              </a:rPr>
              <a:t>Как и у других планет-гигантов, в атмосфере Урана обнаружены вихри, струйные течения, пятна (но их гораздо меньше), а в глубине её зарегистрированы метановые облака. Гелия оказалось в три раза меньше, чем предполагалось ранее: всего 15%. Циркуляция атмосферы происходит в высоких широтах с большей скоростью, чем у экватора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00"/>
                </a:solidFill>
                <a:latin typeface="Tahoma"/>
              </a:rPr>
              <a:t>Девять колец Урана были известны ещё по наземным наблюдениям покрытий звёзд планетой. "Вояджер-2" обнаружил десятое кольцо шириной 3 км и несколько неполных колец тёмного цвета. Частицы, слагающие кольца, имеют в поперечнике около 1 м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00"/>
                </a:solidFill>
                <a:latin typeface="Tahoma"/>
              </a:rPr>
              <a:t>Получены изображения пяти ранее известных спутников и десяти новых, небольших по размерам. Но с течением времени были открыты новые спутники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00"/>
                </a:solidFill>
                <a:latin typeface="Tahoma"/>
              </a:rPr>
              <a:t>Под действием поля тяготения Урана траектория "Вояджера-2" снова изменилась, и он направился к Нептуну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7" descr="C:\Users\Apostolov\Documents\Максу\bg_1_gif.gif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21428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Во время полета к Урану Вояджера 2 южный полюс Урана почти точно указывал на Солнце. Поэтому полярные области Урана получают большее количество энергии от Солнца, чем экваториальные области. Однако Уран более горячий в районе экватора, чем на полюсах. Механизм, лежащий в основе этого, неизвесте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0T13:37:52Z</dcterms:created>
  <dc:creator>dd</dc:creator>
  <dc:description/>
  <dc:language>en-US</dc:language>
  <cp:lastModifiedBy>Apostolov</cp:lastModifiedBy>
  <dcterms:modified xsi:type="dcterms:W3CDTF">2010-09-16T03:53:29Z</dcterms:modified>
  <cp:revision>51</cp:revision>
  <dc:subject/>
  <dc:title>Самая голубая планета-Уран</dc:title>
</cp:coreProperties>
</file>