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E68-24E1-467B-BAFB-A611DB33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D5D-A78F-40E8-B4FD-D35F02D6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A3E4-3A20-49F7-BB17-A7059F90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10A-4847-408F-9673-232FC96C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7EB-7E96-493C-8EB2-82193621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81C-6642-4E30-87C1-F7D76EEB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FAB-4EB5-413F-AB47-24C97FFA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862-CB08-4091-AB3C-1F3FCFBA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35D-50AC-4E00-BC6F-35EC60FE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0BEE-B626-40AD-AE76-06456623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BE5-148D-443D-A6A5-239A513E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ACD-8D99-4A07-A35F-BA929E04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F8DF-48AA-47D5-9883-B6218C6BEB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Text Box 8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0" y="659736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6.jpg"/>
          <p:cNvPicPr/>
          <p:nvPr/>
        </p:nvPicPr>
        <p:blipFill>
          <a:blip r:embed="rId4"/>
          <a:stretch/>
        </p:blipFill>
        <p:spPr>
          <a:xfrm>
            <a:off x="231840" y="225360"/>
            <a:ext cx="8674200" cy="645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66250333_5----"/>
          <p:cNvPicPr/>
          <p:nvPr/>
        </p:nvPicPr>
        <p:blipFill>
          <a:blip r:embed="rId1"/>
          <a:stretch/>
        </p:blipFill>
        <p:spPr>
          <a:xfrm>
            <a:off x="250920" y="189000"/>
            <a:ext cx="8785080" cy="6480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ahoma"/>
              </a:rPr>
              <a:t>Проект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Tahoma"/>
              </a:rPr>
              <a:t>«Богатства, отданные людя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0504d"/>
                </a:solidFill>
                <a:latin typeface="Arial"/>
              </a:rPr>
              <a:t>Юрий Алексеевич Гагарин – наш герой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6458400" y="4581360"/>
            <a:ext cx="24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ученица 3 «Б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Савраскина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3494520" y="59500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rial"/>
              </a:rPr>
              <a:t>2013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5690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12 апреля 1961 г. Юрий Гагарин первым из землян совершил космический полет на корабле "Восток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За этот подвиг ему было присвоено звание Героя Советского Союза, а день полета Гагарина в космос был объявлен праздником - Днём космонавти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Картинка 46 из 9633"/>
          <p:cNvPicPr/>
          <p:nvPr/>
        </p:nvPicPr>
        <p:blipFill>
          <a:blip r:embed="rId2"/>
          <a:stretch/>
        </p:blipFill>
        <p:spPr>
          <a:xfrm>
            <a:off x="1258920" y="2492280"/>
            <a:ext cx="7058160" cy="37879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468360" y="1481040"/>
            <a:ext cx="456732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У Юрия Гагарина бы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репкая сем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Он женилс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алентине Ивановне Горячев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оторая стала его верным соратником на многие г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их семье выро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ве дочери - Лена и Гал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gagarin_deti"/>
          <p:cNvPicPr/>
          <p:nvPr/>
        </p:nvPicPr>
        <p:blipFill>
          <a:blip r:embed="rId2"/>
          <a:stretch/>
        </p:blipFill>
        <p:spPr>
          <a:xfrm>
            <a:off x="4632480" y="476280"/>
            <a:ext cx="4133520" cy="5689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Место гибели Ю. Гагарина и В. Серёгина - Мемориал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Gagarin_3"/>
          <p:cNvPicPr/>
          <p:nvPr/>
        </p:nvPicPr>
        <p:blipFill>
          <a:blip r:embed="rId2"/>
          <a:stretch/>
        </p:blipFill>
        <p:spPr>
          <a:xfrm>
            <a:off x="1763640" y="1052640"/>
            <a:ext cx="5616720" cy="3735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324000" y="49417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7 марта 1968 года Ю. А. Гагарин погиб при невыясненных обстоятельствах вблизи деревни Новосёлово Киржачского района Владимирской области во время одного из тренировочных полётов вместе с военным лётчи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. С. Серёги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0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324000" y="5445000"/>
            <a:ext cx="84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Похоронен Юрий Гагарин у Кремлёвской стен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на Красной площа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017-1"/>
          <p:cNvPicPr/>
          <p:nvPr/>
        </p:nvPicPr>
        <p:blipFill>
          <a:blip r:embed="rId2"/>
          <a:stretch/>
        </p:blipFill>
        <p:spPr>
          <a:xfrm>
            <a:off x="468360" y="692280"/>
            <a:ext cx="3198600" cy="4249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0020sbwe"/>
          <p:cNvPicPr/>
          <p:nvPr/>
        </p:nvPicPr>
        <p:blipFill>
          <a:blip r:embed="rId3"/>
          <a:stretch/>
        </p:blipFill>
        <p:spPr>
          <a:xfrm>
            <a:off x="3851280" y="1341360"/>
            <a:ext cx="4848120" cy="3083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5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324000" y="486900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о многих городах России и других стран существуют улицы, проспекты, площади, бульвары, парки, клубы и школы имени Гагар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0" descr="05"/>
          <p:cNvPicPr/>
          <p:nvPr/>
        </p:nvPicPr>
        <p:blipFill>
          <a:blip r:embed="rId2"/>
          <a:stretch/>
        </p:blipFill>
        <p:spPr>
          <a:xfrm>
            <a:off x="468360" y="476280"/>
            <a:ext cx="4608360" cy="3452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1"/>
          <p:cNvSpPr/>
          <p:nvPr/>
        </p:nvSpPr>
        <p:spPr>
          <a:xfrm>
            <a:off x="615600" y="4221000"/>
            <a:ext cx="37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арк им. Ю. Гагарина в Сама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5008320" y="422100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амятник Ю. Гагарину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4" descr="Картинка 1 из 4685"/>
          <p:cNvPicPr/>
          <p:nvPr/>
        </p:nvPicPr>
        <p:blipFill>
          <a:blip r:embed="rId3"/>
          <a:stretch/>
        </p:blipFill>
        <p:spPr>
          <a:xfrm>
            <a:off x="5219640" y="476280"/>
            <a:ext cx="3743280" cy="36608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6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Картинка 7 из 4686"/>
          <p:cNvPicPr/>
          <p:nvPr/>
        </p:nvPicPr>
        <p:blipFill>
          <a:blip r:embed="rId2"/>
          <a:stretch/>
        </p:blipFill>
        <p:spPr>
          <a:xfrm>
            <a:off x="395280" y="476280"/>
            <a:ext cx="2457360" cy="3809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4365360"/>
            <a:ext cx="302256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Times New Roman"/>
              </a:rPr>
              <a:t>Памятник </a:t>
            </a:r>
            <a:br>
              <a:rPr sz="2000"/>
            </a:br>
            <a:r>
              <a:rPr b="1" lang="ru-RU" sz="2000" spc="-1" strike="noStrike">
                <a:solidFill>
                  <a:srgbClr val="c0504d"/>
                </a:solidFill>
                <a:latin typeface="Times New Roman"/>
              </a:rPr>
              <a:t>Ю. Гагарину </a:t>
            </a:r>
            <a:br>
              <a:rPr sz="2000"/>
            </a:br>
            <a:r>
              <a:rPr b="1" lang="ru-RU" sz="2000" spc="-1" strike="noStrike">
                <a:solidFill>
                  <a:srgbClr val="c0504d"/>
                </a:solidFill>
                <a:latin typeface="Times New Roman"/>
              </a:rPr>
              <a:t>в Харько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123640" y="4365720"/>
            <a:ext cx="4349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Times New Roman"/>
              </a:rPr>
              <a:t>Памятник , Гагари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Times New Roman"/>
              </a:rPr>
              <a:t>в Сарато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Times New Roman"/>
              </a:rPr>
              <a:t>на Набереж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Times New Roman"/>
              </a:rPr>
              <a:t>Космонав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2" descr="Картинка 25 из 4686"/>
          <p:cNvPicPr/>
          <p:nvPr/>
        </p:nvPicPr>
        <p:blipFill>
          <a:blip r:embed="rId3"/>
          <a:stretch/>
        </p:blipFill>
        <p:spPr>
          <a:xfrm>
            <a:off x="3059280" y="476280"/>
            <a:ext cx="2724120" cy="380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Картинка 42 из 4686"/>
          <p:cNvPicPr/>
          <p:nvPr/>
        </p:nvPicPr>
        <p:blipFill>
          <a:blip r:embed="rId4"/>
          <a:stretch/>
        </p:blipFill>
        <p:spPr>
          <a:xfrm>
            <a:off x="5940360" y="476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5"/>
          <p:cNvSpPr/>
          <p:nvPr/>
        </p:nvSpPr>
        <p:spPr>
          <a:xfrm>
            <a:off x="6084720" y="4253040"/>
            <a:ext cx="28116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Памят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Ю. Гагари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на месте приземления возле города Энгельс в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45813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Calibri"/>
              </a:rPr>
              <a:t>В честь Юрия Гагар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Calibri"/>
              </a:rPr>
              <a:t>его родной город Гжатс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Calibri"/>
              </a:rPr>
              <a:t>был переименован в Гагари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Картинка 18 из 17018"/>
          <p:cNvPicPr/>
          <p:nvPr/>
        </p:nvPicPr>
        <p:blipFill>
          <a:blip r:embed="rId2"/>
          <a:stretch/>
        </p:blipFill>
        <p:spPr>
          <a:xfrm>
            <a:off x="1908000" y="260280"/>
            <a:ext cx="5688360" cy="42688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0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324000" y="5084640"/>
            <a:ext cx="84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Его имя навсегда осталось в Космосе: один из крупнейших кратеров на обратной стороне Луны носит имя Гагар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И что символично - он расположен между кратером Циолковский и Морем Мечт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9" descr="640"/>
          <p:cNvPicPr/>
          <p:nvPr/>
        </p:nvPicPr>
        <p:blipFill>
          <a:blip r:embed="rId2"/>
          <a:stretch/>
        </p:blipFill>
        <p:spPr>
          <a:xfrm>
            <a:off x="1547640" y="333360"/>
            <a:ext cx="6293160" cy="45846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494136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Существует также Кубок Гагарина, главный трофей Континентальной хоккейной ли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Картинка 11 из 7412"/>
          <p:cNvPicPr/>
          <p:nvPr/>
        </p:nvPicPr>
        <p:blipFill>
          <a:blip r:embed="rId2"/>
          <a:stretch/>
        </p:blipFill>
        <p:spPr>
          <a:xfrm>
            <a:off x="4211640" y="907920"/>
            <a:ext cx="4313160" cy="3235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Картинка 8 из 7412"/>
          <p:cNvPicPr/>
          <p:nvPr/>
        </p:nvPicPr>
        <p:blipFill>
          <a:blip r:embed="rId3"/>
          <a:stretch/>
        </p:blipFill>
        <p:spPr>
          <a:xfrm>
            <a:off x="684360" y="333360"/>
            <a:ext cx="3456000" cy="46083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2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395280" y="4941720"/>
            <a:ext cx="8496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честь Юрия Гагарина назв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аучно-исследовательское суд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«Космонавт Юрий Гагари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1" descr="Картинка 3 из 1169"/>
          <p:cNvPicPr/>
          <p:nvPr/>
        </p:nvPicPr>
        <p:blipFill>
          <a:blip r:embed="rId2"/>
          <a:stretch/>
        </p:blipFill>
        <p:spPr>
          <a:xfrm>
            <a:off x="1547640" y="549360"/>
            <a:ext cx="6283440" cy="4137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50920" y="5157720"/>
            <a:ext cx="854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Юрий Алексеевич Гагарин родился 9 марта 1934 года в селе Клушино Гжатского района Смоленской области, недалеко от города Гжатск, который ныне переименован в Гагари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imgB"/>
          <p:cNvPicPr/>
          <p:nvPr/>
        </p:nvPicPr>
        <p:blipFill>
          <a:blip r:embed="rId2"/>
          <a:stretch/>
        </p:blipFill>
        <p:spPr>
          <a:xfrm>
            <a:off x="1332000" y="404640"/>
            <a:ext cx="6408720" cy="44323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2" descr="66250333_5----"/>
          <p:cNvPicPr/>
          <p:nvPr/>
        </p:nvPicPr>
        <p:blipFill>
          <a:blip r:embed="rId1"/>
          <a:stretch/>
        </p:blipFill>
        <p:spPr>
          <a:xfrm>
            <a:off x="250920" y="189000"/>
            <a:ext cx="8785080" cy="6480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8"/>
          <p:cNvSpPr/>
          <p:nvPr/>
        </p:nvSpPr>
        <p:spPr>
          <a:xfrm>
            <a:off x="1403280" y="189000"/>
            <a:ext cx="73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Экскурсия в музей космонав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ашего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(1 «Б» – февраль 2012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D:\фото\школа выпуск 2010-2014\музей космонавтики\CIMG1823.JPG"/>
          <p:cNvPicPr/>
          <p:nvPr/>
        </p:nvPicPr>
        <p:blipFill>
          <a:blip r:embed="rId2"/>
          <a:stretch/>
        </p:blipFill>
        <p:spPr>
          <a:xfrm>
            <a:off x="250920" y="1989000"/>
            <a:ext cx="2374920" cy="3164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D:\фото\школа выпуск 2010-2014\музей космонавтики\CIMG1822.JPG"/>
          <p:cNvPicPr/>
          <p:nvPr/>
        </p:nvPicPr>
        <p:blipFill>
          <a:blip r:embed="rId3"/>
          <a:stretch/>
        </p:blipFill>
        <p:spPr>
          <a:xfrm>
            <a:off x="6588000" y="1989000"/>
            <a:ext cx="2376720" cy="3140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D:\фото\школа выпуск 2010-2014\музей космонавтики\CIMG1829.JPG"/>
          <p:cNvPicPr/>
          <p:nvPr/>
        </p:nvPicPr>
        <p:blipFill>
          <a:blip r:embed="rId4"/>
          <a:stretch/>
        </p:blipFill>
        <p:spPr>
          <a:xfrm>
            <a:off x="2916360" y="2060640"/>
            <a:ext cx="34351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1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WordArt 6"/>
          <p:cNvSpPr txBox="1"/>
          <p:nvPr/>
        </p:nvSpPr>
        <p:spPr>
          <a:xfrm>
            <a:off x="755640" y="5229360"/>
            <a:ext cx="7859880" cy="11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амять о нём 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жива в сердцах людей !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8" descr="Картинка 42 из 9592"/>
          <p:cNvPicPr/>
          <p:nvPr/>
        </p:nvPicPr>
        <p:blipFill>
          <a:blip r:embed="rId2"/>
          <a:stretch/>
        </p:blipFill>
        <p:spPr>
          <a:xfrm>
            <a:off x="5651640" y="476280"/>
            <a:ext cx="3098520" cy="4608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%D0%97%D0%B0%D0%BF%D0%B8%D1%81%D0%BA%D0%B0_%D0%93%D0%B0%D0%B3%D0%B0%D1%80%D0%B8%D0%BD%D0%B0"/>
          <p:cNvPicPr/>
          <p:nvPr/>
        </p:nvPicPr>
        <p:blipFill>
          <a:blip r:embed="rId3"/>
          <a:srcRect l="4554" t="0" r="0" b="12246"/>
          <a:stretch/>
        </p:blipFill>
        <p:spPr>
          <a:xfrm>
            <a:off x="324000" y="1197000"/>
            <a:ext cx="5256000" cy="3095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42472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Его отец, Алексей Иванович Гагарин (1902—1973), - работал плотнико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ать, Анна Тимофеевна Матвеева (1903—1984), - работала на молочнотоварной фер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Картинка 7 из 1230"/>
          <p:cNvPicPr/>
          <p:nvPr/>
        </p:nvPicPr>
        <p:blipFill>
          <a:blip r:embed="rId2"/>
          <a:stretch/>
        </p:blipFill>
        <p:spPr>
          <a:xfrm>
            <a:off x="611280" y="260280"/>
            <a:ext cx="7956360" cy="4419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4392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1 сентября 1941 года, Юра пошёл в школу, но 12 октября деревню заняли немцы и учёба прервалас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Два года деревня была оккупирована немц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9 апреля 1943 года, деревню освободила Красная армия, и учёба в школе возобновилась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Картинка 1 из 5640"/>
          <p:cNvPicPr/>
          <p:nvPr/>
        </p:nvPicPr>
        <p:blipFill>
          <a:blip r:embed="rId2"/>
          <a:stretch/>
        </p:blipFill>
        <p:spPr>
          <a:xfrm>
            <a:off x="5076720" y="620640"/>
            <a:ext cx="3745080" cy="5256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357300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24 мая 1945 года, семья Гагариных переехала в Гжатск (ныне Гагарин). В мае 1949 года Гагарин окончил шестой класс Гжатской средней школы 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Картинка 2 из 5640"/>
          <p:cNvPicPr/>
          <p:nvPr/>
        </p:nvPicPr>
        <p:blipFill>
          <a:blip r:embed="rId2"/>
          <a:stretch/>
        </p:blipFill>
        <p:spPr>
          <a:xfrm>
            <a:off x="1187280" y="476280"/>
            <a:ext cx="6697800" cy="4348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Картинка 4 из 48"/>
          <p:cNvPicPr/>
          <p:nvPr/>
        </p:nvPicPr>
        <p:blipFill>
          <a:blip r:embed="rId2"/>
          <a:stretch/>
        </p:blipFill>
        <p:spPr>
          <a:xfrm>
            <a:off x="468360" y="476280"/>
            <a:ext cx="3855960" cy="6048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4716360" y="620640"/>
            <a:ext cx="41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30 сентября 1949 года поступил в Люберецкое ремесленное училище №1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В июне 1951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окончил с отличием училище по специальности формовщик-литейщ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0" y="3930840"/>
            <a:ext cx="89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В августе 1951 г. Ю.Гагарин поступает в Сарат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индустриальный техник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25 октября 1954 года впервые пришёл в Саратовский аэроклуб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где совершил первый самостоятельный полёт на самолёте ЯК-1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В 1955 г. с отличием окончил Саратовский индустриаль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техникум, а 10 октября того же года – Саратовский аэрокл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Картинка 3 из 91"/>
          <p:cNvPicPr/>
          <p:nvPr/>
        </p:nvPicPr>
        <p:blipFill>
          <a:blip r:embed="rId2"/>
          <a:stretch/>
        </p:blipFill>
        <p:spPr>
          <a:xfrm>
            <a:off x="539640" y="333360"/>
            <a:ext cx="2664000" cy="36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Картинка 5 из 91"/>
          <p:cNvPicPr/>
          <p:nvPr/>
        </p:nvPicPr>
        <p:blipFill>
          <a:blip r:embed="rId3"/>
          <a:stretch/>
        </p:blipFill>
        <p:spPr>
          <a:xfrm>
            <a:off x="4067280" y="333360"/>
            <a:ext cx="4752720" cy="35244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5637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27 октября 1955 г. Гагарин был призван в армию 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и отправлен в Оренбург, в 1-е военно-авиационное училище летчиков имени 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К. Е.Ворошилова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25октября 1957 г. Гагарин закончил училище. 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В течение двух лет служил в  авиационном полку. 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К октябрю 1959 года налетал в общей сложности 265 часов.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Картинка 9 из 9"/>
          <p:cNvPicPr/>
          <p:nvPr/>
        </p:nvPicPr>
        <p:blipFill>
          <a:blip r:embed="rId2"/>
          <a:stretch/>
        </p:blipFill>
        <p:spPr>
          <a:xfrm>
            <a:off x="5796000" y="1125360"/>
            <a:ext cx="3075120" cy="42498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933360"/>
            <a:ext cx="932508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9 декабря 1959 года, Гагарин написал заявление с просьбой зачислить его в группу кандидатов в космонавты. 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Уже через неделю его вызвали в Москву для прохождения всестороннего медицинского обследования. 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В результате старший лейтенант Гагарин был признан 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годным для космических полетов. 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3 марта 1960 года Ю.Гагарин был зачислен в группу                       кандидатов в космонавты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Картинка 10 из 361"/>
          <p:cNvPicPr/>
          <p:nvPr/>
        </p:nvPicPr>
        <p:blipFill>
          <a:blip r:embed="rId2"/>
          <a:stretch/>
        </p:blipFill>
        <p:spPr>
          <a:xfrm>
            <a:off x="2050920" y="260280"/>
            <a:ext cx="5257800" cy="32544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6:15:37Z</dcterms:created>
  <dc:creator>Савраскина Анна</dc:creator>
  <dc:description/>
  <dc:language>en-US</dc:language>
  <cp:lastModifiedBy>Дмитрий</cp:lastModifiedBy>
  <dcterms:modified xsi:type="dcterms:W3CDTF">2013-10-13T09:12:47Z</dcterms:modified>
  <cp:revision>22</cp:revision>
  <dc:subject/>
  <dc:title>Слайд 1</dc:title>
</cp:coreProperties>
</file>