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A5E0-6E7A-4ECF-9082-29197CE8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ABDC-5752-4F2B-81BE-B2A19C09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E324-4E6A-4764-A02B-9529E6A6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1CB4-F1E9-4706-971A-26819479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B6F-ED2E-414F-B83C-639243A1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779-2772-47E0-9A94-748C74EE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C6B9-DB63-49E8-A52B-3B14D102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3DD3-172D-4399-8531-3945B5C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AC16-4DCF-4112-8389-B82E782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FE31-ED89-4F34-86C6-EB965A0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40EC-E8DA-4A8A-AEE4-C50BEF69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C6DE-E910-4AA2-B2A6-DD8A0FC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0EB-BE0E-49D9-BC5E-8EEB180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4B6D-1A81-4D79-9698-1356BB0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55C-F8B0-4EF9-BCED-65DE79E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0C7A-C280-49E7-A32A-9FF859BC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8E1-ED4A-411C-BEEC-DBDBB879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EC9C-EC79-41CE-9228-E90F367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00BB-DE37-43AF-A14F-4850CC6D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E0DC-EE7E-48B7-82E0-4DD1903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0B33-D5DB-4FFB-901D-C75A9C36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DA2B-6F85-4EA6-8DA0-E08C652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3B8D-8F3A-433A-AC95-D4197BA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664E-33D9-41E3-B5E1-A50C715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355-E050-4BDB-AFE2-0056777554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63F-4C81-4E98-A4DD-71C798AD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D023-814F-4CB9-B4E6-1E6AB67072E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9118-CAC5-4F3F-8265-46966BF8C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Походы новгородцев на Северный Урал и в Зауралье в XI – первой половине XVв.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587840" cy="665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364549-A35F-4B27-AC8C-298A2423C2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04" name="Содержимое 3" descr="1.jpg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7CEF7-CA18-42E2-9C00-35B7114B28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e8ba"/>
                </a:solidFill>
                <a:latin typeface="Garamond"/>
              </a:rPr>
              <a:t>Перечислите великие  торговые магистрали древности и средневековья.</a:t>
            </a:r>
            <a:endParaRPr b="1" lang="en-US" sz="2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1280" y="1125360"/>
            <a:ext cx="792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«Из варяг в Булгары» ( Скандинавия- Хазария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«Из варяг в греки» или «Восточный путь» (Скандинавия- Византия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«Великий Волжский путь» (Северная Европа- Средняя Азия- Иран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«Шёлковый путь» (Средняя Азия - Нижнее Поволжье - Дон - Крым - Чёрное море - Константинополь - Средиземное мор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«Волго- камский торговый путь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1B9C3-1653-4FF6-ADDD-6E0CAA864B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I</a:t>
            </a:r>
            <a:r>
              <a:rPr b="1" lang="ru-RU" sz="3200" spc="-1" strike="noStrike">
                <a:solidFill>
                  <a:srgbClr val="bae8ba"/>
                </a:solidFill>
                <a:latin typeface="Garamond"/>
              </a:rPr>
              <a:t>. «Пути за камень»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ральские горы- «Гиперборейские», «Рифейские»- «пояс ми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 морской поход»- вдоль Ледовитого океана (волок через п-ов Яма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Зырянская дорога» (Русский тес)- по правому притоку Печо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Тюменский волок» (Чусовской трак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A4F63-F5C5-4FEE-A057-FCB7DD54E4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II</a:t>
            </a:r>
            <a:r>
              <a:rPr b="1" lang="ru-RU" sz="3200" spc="-1" strike="noStrike">
                <a:solidFill>
                  <a:srgbClr val="bae8ba"/>
                </a:solidFill>
                <a:latin typeface="Garamond"/>
              </a:rPr>
              <a:t>. В Югру за данью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ец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ека- Гюраты Роговича» В землю Югорскую» (Сказочные богатства «Земель полунощных»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ек- Великий Новгород- «серебро и соболи и ина узорочья»- 1187иг.- перебиты Печорские и югорские сборщики да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92г. - воевода Ядрей- Югра номинально присоединена к Новгород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9F265-F389-4AD9-A171-C1F4C18A0B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III</a:t>
            </a: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. Этнополитическая ситуация.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ек - Татаро-монголы → Европа→ население из южных народов → угры- мигранты вытесняют местное самодийское (ненецкое) население → югорское (остяцкое) раннегосударственное образование «Обдорское княжество» ↔  от Верхней Сосьвы и на Правобережье Оби «ВОЕННО-ПОЛИТИЧЕСКАЯ МЕЖПЛЕМЕННАЯ КОНФЕДЕРАЦИЯ» -до конца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9E607-A2AB-49A7-8D14-5F7CAFAF6F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IV</a:t>
            </a:r>
            <a:r>
              <a:rPr b="1" lang="ru-RU" sz="3200" spc="-1" strike="noStrike">
                <a:solidFill>
                  <a:srgbClr val="bae8ba"/>
                </a:solidFill>
                <a:latin typeface="Garamond"/>
              </a:rPr>
              <a:t>.  Борьба Москвы и Новгорода за влияние на северо- востоке в </a:t>
            </a: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XIV</a:t>
            </a:r>
            <a:r>
              <a:rPr b="1" lang="ru-RU" sz="3200" spc="-1" strike="noStrike">
                <a:solidFill>
                  <a:srgbClr val="bae8ba"/>
                </a:solidFill>
                <a:latin typeface="Garamond"/>
              </a:rPr>
              <a:t> веке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сковское княжество ↔политика Владимиро- суздальских князей- противники Новгород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ето1323 г.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има 1329 г.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57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64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сопротивление « даньщикам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25B6-0D6B-4DF8-9E25-5ADC7C3EFE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Ростовский монах </a:t>
            </a:r>
            <a:br>
              <a:rPr sz="4400"/>
            </a:b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Стефан Храп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79 г. –приступил к миссионерской деятельнос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ние древнепермской азбу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вод на коми- зырянский язык Евангел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ие щколы для зырянских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83 г.- первый епископ Пермской епарх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городцы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V- XV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- поход на Устюг Велик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DE4D-AC0F-44E0-9306-B7C3799E2B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V</a:t>
            </a: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. Утрата Новгородом своих позиций.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Garamond"/>
              </a:rPr>
              <a:t>XIV</a:t>
            </a:r>
            <a:r>
              <a:rPr b="0" lang="ru-RU" sz="3200" spc="-1" strike="noStrike">
                <a:solidFill>
                  <a:srgbClr val="161616"/>
                </a:solidFill>
                <a:latin typeface="Garamond"/>
              </a:rPr>
              <a:t> в.- стихийная русская колонизация земель Верхнего Прикамь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Garamond"/>
              </a:rPr>
              <a:t>XV</a:t>
            </a:r>
            <a:r>
              <a:rPr b="0" lang="ru-RU" sz="3200" spc="-1" strike="noStrike">
                <a:solidFill>
                  <a:srgbClr val="161616"/>
                </a:solidFill>
                <a:latin typeface="Garamond"/>
              </a:rPr>
              <a:t>в. – Анфаловский город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Garamond"/>
              </a:rPr>
              <a:t>Посадская промысловая колонизац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Garamond"/>
              </a:rPr>
              <a:t>1430г.- основание Усолья Камского (Соликамска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Garamond"/>
              </a:rPr>
              <a:t>1446г. – новгородский воевода Василий Шенкурский-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Учитель МБОУ ОСШ №3 г. Нягань  Пахомова Н.П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BEE95-518A-4677-AFF4-EC1D282B62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31:13Z</dcterms:created>
  <dc:creator>Александр</dc:creator>
  <dc:description/>
  <dc:language>en-US</dc:language>
  <cp:lastModifiedBy>Анастасия</cp:lastModifiedBy>
  <dcterms:modified xsi:type="dcterms:W3CDTF">2013-10-13T12:31:05Z</dcterms:modified>
  <cp:revision>17</cp:revision>
  <dc:subject/>
  <dc:title>Нижегородская Ярмарка</dc:title>
</cp:coreProperties>
</file>