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E07-27B2-4C52-8B75-032F16C4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DFEC-A530-401C-A13A-1E39C345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A485-6536-4764-876F-EAA47986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5042-AD91-4D15-9688-9715E574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2215-4A5A-4623-953E-C8D46337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4632-58E0-4E1E-BD29-6574588C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73B2-68A9-4C8C-9E62-2EA1CA57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D59D-1E04-425D-A718-B10B821D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2C13-807D-4329-89A0-C6046EF1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F2E8-0FF7-4063-81A7-D1E186C2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C167-49A9-4B59-A541-6688645F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1F5-B73B-456B-B333-3FC53A85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7D7C-BF4A-49D7-950C-1EBB5FB0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F4B7-7C2B-4188-B7C6-F905A479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FECE-E8F3-43A1-A98E-4AC1E4D2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DDB1-66FA-4EEC-A567-EEE78995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8C82-82FA-455E-87AE-95233213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582F-EDE9-42C4-A8E2-6499220B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B566-AB60-4A5D-A787-22A84F7E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2CC-CCA2-46DC-A121-762B92DC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FF99-CE72-4597-9770-B2F09B90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6371-922F-4B4D-AB47-9258D5E3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1A99-5379-4FDF-B2F6-C743E0B9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D589-DFD2-4630-AAA4-9525D1FD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20708B-F752-4471-B429-6C344ECB905A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CE1CF7-F232-4308-9774-F527321B4096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1920" y="188640"/>
            <a:ext cx="8229240" cy="352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000000"/>
                </a:solidFill>
                <a:latin typeface="Lucida Sans"/>
              </a:rPr>
              <a:t>Адаптация пятиклассников к новым условиям учёбы</a:t>
            </a:r>
            <a:endParaRPr b="0" lang="ru-RU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013000"/>
            <a:ext cx="640044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Родительское собрание – консили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№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2 в 5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000"/>
          </a:bodyPr>
          <a:p>
            <a:pPr indent="0">
              <a:buNone/>
            </a:pPr>
            <a:endParaRPr b="1" lang="ru-RU" sz="4100" spc="-1" strike="noStrike">
              <a:solidFill>
                <a:srgbClr val="e9d59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6640"/>
            <a:ext cx="8229240" cy="61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Большинство проблем, трудностей адаптации, вызвано двумя группами причин: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1) недостатками в обучении школьников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2) нарушениями характера общения со значимыми людьми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000"/>
          </a:bodyPr>
          <a:p>
            <a:pPr indent="0">
              <a:buNone/>
            </a:pPr>
            <a:endParaRPr b="1" lang="ru-RU" sz="4100" spc="-1" strike="noStrike">
              <a:solidFill>
                <a:srgbClr val="e9d59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240" cy="61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оскольку наше собрание проходит в виде консилиума, а слово это  обозначает совещание всех врачей для уточнения диагноза и обсуждения лечения, нам необходимо узнать мнение и точку зрения каждой из сторон, участвующих в процессе воспитания и обучения наших ребят. Накануне собрания всем учителям-предметникам, работающим в классе, было предложено ответить на вопросы анкеты, связанной с выяснением их первых впечатлений от работы в нашем классе. В результате качественной обработке данных представляется следующая картина: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0640"/>
            <a:ext cx="8229240" cy="25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9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Lucida Sans"/>
              </a:rPr>
              <a:t>Какими особенностями обладает данный класс в целом (по сравнению с другими пятыми классами)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Lucida Sans"/>
              </a:rPr>
              <a:t> 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Lucida Sans"/>
              </a:rPr>
              <a:t> </a:t>
            </a:r>
            <a:endParaRPr b="0" lang="ru-RU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709000"/>
            <a:ext cx="82292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8000"/>
          </a:bodyPr>
          <a:p>
            <a:pPr marL="480960" indent="-3607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Активные, трудоспособные, исполнительные ребята. Добрые и внимательные. Активность часто выливается в шум, излишнюю суетливость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0960" indent="-3607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Дружные, любознательные, личностно-ориентированные, подвижные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0960" indent="-3607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Класс делится на 2 части: часть ребят очень живо реагирует на новые знания, а другая часть молчит или отвлекается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0960" indent="-3607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Класс большой, активный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0960" indent="-3607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Работать класс умеет и есть желание работать  у большинства ребят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0960" indent="-3607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Класс спортивный, желание заниматься у всех есть, по многим показателям опережает 6-7 класс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Lucida Sans"/>
              </a:rPr>
              <a:t>С каким настроением вы идёте  на урок в наш класс</a:t>
            </a:r>
            <a:endParaRPr b="0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С приподнятым настроением; настроена на продуктивную работу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С хорошим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сегда с хорошим, а ухожу иногда с неудовлетворением: мало успеваем выполнить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С приподнятым, хорошим чувством оптимизма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С удовольствием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С хорошим???Нужна ещё строгая дисциплина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Lucida Sans"/>
              </a:rPr>
              <a:t>Кто из учеников класса имеет наилучшую подготовку по вашему предмету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Lucida Sans"/>
              </a:rPr>
              <a:t> </a:t>
            </a:r>
            <a:endParaRPr b="0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br>
              <a:rPr sz="4100"/>
            </a:b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Кому из учеников нужны дополнительные занятия по вашему предмету</a:t>
            </a:r>
            <a:br>
              <a:rPr sz="4100"/>
            </a:b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 </a:t>
            </a:r>
            <a:br>
              <a:rPr sz="4100"/>
            </a:b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 </a:t>
            </a:r>
            <a:br>
              <a:rPr sz="4100"/>
            </a:b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2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Какие пожелания вы хотели бы высказать родителям пятиклассников</a:t>
            </a:r>
            <a:br>
              <a:rPr sz="4100"/>
            </a:b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61000"/>
            <a:ext cx="8229240" cy="46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489960" indent="-3675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Следить за успехами детей, проверять домашние задания. Самим читать и прививать интерес к чтению у детей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9960" indent="-3675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Контролировать детей. Иметь достаточный запас чистых тетрадей, обложек, запасных паст в ручки. Чтобы у детей над рабочим столом был записан режим дня.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9960" indent="-3675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Контролировать выполнение домашних заданий с учётом требований учителя, выполнение  работы над ошибками,  в задачах подробные записи пояснений.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9960" indent="-3675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Следить за подготовкой к урокам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99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36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e9d596"/>
              </a:solidFill>
              <a:latin typeface="Lucid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476640"/>
            <a:ext cx="82292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468360" indent="-3510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Интересоваться успехами  и неудачами детей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68360" indent="-3510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роверять подготовку дома: взял ли ребёнок рабочую тетрадь (ребята часто забывают), выслушать пересказ, поинтересоваться, что нового узнал на уроке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68360" indent="-3510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Контролировать наличие школьных принадлежностей (ручки, карандаши, линейки, инструменты), записи в дневнике.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68360" indent="-3510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Чаще заглядывать в дневник, ставить подписи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68360" indent="-3510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Контролировать готовность к занятиям, наличие альбома, красок, кистей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68360" indent="-3510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Самим заниматься спортом, тем самым себя ставить в пример, как я умею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68360" indent="-3510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ерпения, не отказывать в помощи, принятия участия в трудовых делах, доверять выполнять посильную работу в условиях семьи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2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700" spc="-1" strike="noStrike">
                <a:solidFill>
                  <a:srgbClr val="000000"/>
                </a:solidFill>
                <a:latin typeface="Lucida Sans"/>
              </a:rPr>
              <a:t>Какие советы вы можете дать классному руководителю</a:t>
            </a:r>
            <a:br>
              <a:rPr sz="4100"/>
            </a:br>
            <a:endParaRPr b="0" lang="ru-RU" sz="37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240" cy="43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дачи! Осуществления задуманных идей. Отличного настроения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Ходить в походы с классом, даже зимой на лыжах, проводить спортивные «Весёлые старты» и  самой активно в них участвовать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ерпения, мудрости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Анализ состояния здоровья пятиклассников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Результаты медосмотр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рофилактика заболеваний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Рекомендации по сохранению здоровья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Рекомендации по оптимальной организации режима дня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240" cy="7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Цели:</a:t>
            </a:r>
            <a:br>
              <a:rPr sz="4100"/>
            </a:b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908640"/>
            <a:ext cx="822924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1. Выявить позиции всех участников воспитательного процесса на этапе адаптации учащихся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2. Выявить причины дезадаптации учащихся и наметить пути решения появившихся проблем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3. Привлечь внимание родителей к серьёзности проблемы адаптации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36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e9d596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6640"/>
            <a:ext cx="8229240" cy="61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же все стороны имели возможность высказаться, но молчит главный герой нашего консилиума. Что же думают сами дети о своей школьной жизни, насколько они удовлетворены ею? Для выяснения степени удовлетворённости учащихся школьной жизнью было проведено соответствующее исследование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Результаты методики изучения удовлетворённости учащихся школьной жизнью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24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-387360"/>
            <a:ext cx="8229240" cy="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36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e9d596"/>
              </a:solidFill>
              <a:latin typeface="Lucida Sans"/>
            </a:endParaRPr>
          </a:p>
        </p:txBody>
      </p:sp>
      <p:graphicFrame>
        <p:nvGraphicFramePr>
          <p:cNvPr id="125" name="Содержимое 4"/>
          <p:cNvGraphicFramePr/>
          <p:nvPr/>
        </p:nvGraphicFramePr>
        <p:xfrm>
          <a:off x="0" y="0"/>
          <a:ext cx="9143640" cy="9363960"/>
        </p:xfrm>
        <a:graphic>
          <a:graphicData uri="http://schemas.openxmlformats.org/drawingml/2006/table">
            <a:tbl>
              <a:tblPr/>
              <a:tblGrid>
                <a:gridCol w="411480"/>
                <a:gridCol w="3508560"/>
                <a:gridCol w="1119960"/>
                <a:gridCol w="1040040"/>
                <a:gridCol w="1040040"/>
                <a:gridCol w="959760"/>
                <a:gridCol w="1063080"/>
              </a:tblGrid>
              <a:tr h="192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4 Совер-шенно соглас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Согл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с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Трудно сказ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Не согл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с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Совер-шен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не соглас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70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Я иду утром в школу с радост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 Antiqua"/>
                        </a:rPr>
                        <a:t>(3,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endParaRPr b="1" lang="ru-RU" sz="28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endParaRPr b="1" lang="ru-RU" sz="28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</a:tr>
              <a:tr h="70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В школе у меня обычно хорошее настроение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 Antiqua"/>
                        </a:rPr>
                        <a:t>(3,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endParaRPr b="1" lang="ru-RU" sz="28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70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В нашем классе хороший классный руководитель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 Antiqua"/>
                        </a:rPr>
                        <a:t>(3,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endParaRPr b="1" lang="ru-RU" sz="28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endParaRPr b="1" lang="ru-RU" sz="28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endParaRPr b="1" lang="ru-RU" sz="28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</a:tr>
              <a:tr h="131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К нашим школьным учителям можно обратиться за советом и помощью в трудной жизненной ситуации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 Antiqua"/>
                        </a:rPr>
                        <a:t>(2,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2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У меня есть любимый уч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 Antiqua"/>
                        </a:rPr>
                        <a:t>(3,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endParaRPr b="1" lang="ru-RU" sz="28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endParaRPr b="1" lang="ru-RU" sz="28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2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2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2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2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2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36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e9d596"/>
              </a:solidFill>
              <a:latin typeface="Lucida Sans"/>
            </a:endParaRPr>
          </a:p>
        </p:txBody>
      </p:sp>
      <p:graphicFrame>
        <p:nvGraphicFramePr>
          <p:cNvPr id="127" name="Содержимое 3"/>
          <p:cNvGraphicFramePr/>
          <p:nvPr/>
        </p:nvGraphicFramePr>
        <p:xfrm>
          <a:off x="0" y="188640"/>
          <a:ext cx="9143640" cy="7644240"/>
        </p:xfrm>
        <a:graphic>
          <a:graphicData uri="http://schemas.openxmlformats.org/drawingml/2006/table">
            <a:tbl>
              <a:tblPr/>
              <a:tblGrid>
                <a:gridCol w="491400"/>
                <a:gridCol w="3280320"/>
                <a:gridCol w="1440000"/>
                <a:gridCol w="959760"/>
                <a:gridCol w="1040040"/>
                <a:gridCol w="1040040"/>
                <a:gridCol w="891360"/>
              </a:tblGrid>
              <a:tr h="183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              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4 совершен-но соглас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3 согла-с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трудно сказ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не согла-с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совершенно      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соглас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97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В классе я могу всегда свободно высказывать своё мнение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 Antiqua"/>
                        </a:rPr>
                        <a:t>(2,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</a:tr>
              <a:tr h="93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Я считаю, что в нашей школе созданы все условия для развития моих способностей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 Antiqua"/>
                        </a:rPr>
                        <a:t>(3,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endParaRPr b="1" lang="ru-RU" sz="28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endParaRPr b="1" lang="ru-RU" sz="28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7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У меня есть любимые школьные предметы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 Antiqua"/>
                        </a:rPr>
                        <a:t>(3,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endParaRPr b="1" lang="ru-RU" sz="28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endParaRPr b="1" lang="ru-RU" sz="28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endParaRPr b="1" lang="ru-RU" sz="28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</a:tr>
              <a:tr h="96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Я считаю, что школа по-настоящему готовит  меня к самостоятельной жизни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 Antiqua"/>
                        </a:rPr>
                        <a:t>(3,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endParaRPr b="1" lang="ru-RU" sz="28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endParaRPr b="1" lang="ru-RU" sz="28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endParaRPr b="1" lang="ru-RU" sz="28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6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На летних каникулах я скучаю по школе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 Antiqua"/>
                        </a:rPr>
                        <a:t>(2,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endParaRPr b="1" lang="ru-RU" sz="28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Приглашение на выставку работ учеников нашего класса </a:t>
            </a:r>
            <a:br>
              <a:rPr sz="4100"/>
            </a:b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«Я в школе»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853000"/>
            <a:ext cx="82292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важаемые родители, попробуйте угадать где рисунок  вашего ребёнка!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Решение собрания: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504720" indent="-3783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родолжить  наблюдение за процессом адаптации учащихся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04720" indent="-3783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ровести индивидуальную работу с учащимися и родителями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04720" indent="-3783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редоставить родителям возможность посетить интересующие их уроки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04720" indent="-3783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Классному руководителю и родителям способствовать организации  свободного времени через занятия в кружках, секциях, участие в общественной жизни класс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04720" indent="-3783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Классному руководителю подбирать для учащихся поручения, способствующие раскрытию их способностей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3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700" spc="-1" strike="noStrike">
                <a:solidFill>
                  <a:srgbClr val="000000"/>
                </a:solidFill>
                <a:latin typeface="Lucida Sans"/>
              </a:rPr>
              <a:t>Отрывок из книги Зденека Матейчека «Родители и дети»:</a:t>
            </a:r>
            <a:endParaRPr b="0" lang="ru-RU" sz="37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8640"/>
            <a:ext cx="82292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одной из глав книги он приводит интересное сравнение: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ru-RU" sz="2800" spc="-1" strike="noStrike">
                <a:solidFill>
                  <a:srgbClr val="ffc000"/>
                </a:solidFill>
                <a:latin typeface="Book Antiqua"/>
              </a:rPr>
              <a:t>«Переходный возраст-это как будто гусеница становится куколкой, а потом из этой окукленной гусеницы вылетает прекрасный и совершенный мотылёк. Переходный возраст и есть куколка, в которой совершается таинство превращения. Все предшествующие стадии развития данного организма служили подготовкой к этой последней ступени – зрелости»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Литература: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ОО «ТЦ Сфера»,2001. Калейдоскоп родительских собраний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М.1992. Классному руководителю о воспитательной системе кл. рук./под ред.Е.Н.Степановой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М.1992. Матейчек З.Родители и дети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М.1986. Моносзон Э.И. Основы педагогических знаний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М.1991. Рабочая книга школьного психолога/под ред. И.В.Дубровиной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Участники: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Родители учащихся 5 класс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Классный руководитель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чителя –предметники, работающие в классе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Медицинский работник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15000"/>
          </a:bodyPr>
          <a:p>
            <a:pPr indent="0">
              <a:buNone/>
            </a:pPr>
            <a:endParaRPr b="1" lang="ru-RU" sz="4100" spc="-1" strike="noStrike">
              <a:solidFill>
                <a:srgbClr val="e9d596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48640"/>
            <a:ext cx="8229240" cy="57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509760" indent="-382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Любые переходные периоды в жизни человека всегда связаны с проблемами. Переход учеников из начальной школы –это сложный и ответственный период; от того как пройдёт процесс адаптации, зависит вся дальнейшая школьная жизнь ребёнка. Наша задача – разобраться в том, что происходит сейчас с нашими детьми, что их волнует и беспокоит, с какими проблемами они сталкиваются, и определить, какую реальную помощь мы можем оказать ребятам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09760" indent="-382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а сегодняшнем собрании мы имеем возможность  узнать точки зрения всех участников учебного процесса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09760" indent="-382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ачнём наш консилиум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36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e9d596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6640"/>
            <a:ext cx="8229240" cy="61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497880" indent="-373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одростковый возраст (10-15 лет) – период бурного роста и развития организма. Начало его перестройки связано с активизацией деятельности гипофиза (нижний мозговой придаток), особенно его передней доли, гормоны которого стимулируют рост тканей и функционирование других желёз внутренней секреции. Происходит интенсивный рост тела. Наблюдается возрастное несоответствие в развитии сердечно-сосудистой системы: сердце значительно увеличивается в объёме, а диаметр кровеносных сосудов отстаёт в развитии. Это приводит к временным функциональным расстройствам кровообращения, проявляющимся в головокружении, головных болях, сравнительно быстрой утомляемости. Идёт половое созревание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000"/>
          </a:bodyPr>
          <a:p>
            <a:pPr indent="0">
              <a:buNone/>
            </a:pPr>
            <a:endParaRPr b="1" lang="ru-RU" sz="4100" spc="-1" strike="noStrike">
              <a:solidFill>
                <a:srgbClr val="e9d596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240" cy="61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492120" indent="-3690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следствие неравномерного физического развития всего организма, и в частности нервной системы, у подростков наблюдается повышенная возбудимость, раздражительность, вспыльчивость. Эти особенности физического развития подростка мы все должны иметь в виду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92120" indent="-3690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одростковый возраст иногда называют трудным. Это утверждение  и верно, и не верно. Верно, что усложнение деятельности, поведения и сознания подростков создаёт дополнительные трудности в их воспитании. Труден сам процесс превращения ребёнка во взрослого. Вместе с тем в этом возрасте множество замечательных составляющих.Подростковый возраст – это возраст кипучей энергии, активности, больших замыслов, активного стремления к творческой деятельности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15000"/>
          </a:bodyPr>
          <a:p>
            <a:pPr indent="0">
              <a:buNone/>
            </a:pPr>
            <a:endParaRPr b="1" lang="ru-RU" sz="4100" spc="-1" strike="noStrike">
              <a:solidFill>
                <a:srgbClr val="e9d596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240" cy="61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одросток всё больше стремится к самостоятельности во всём, его уже не устраивает простое заучивание наизусть учебного материала и его механическое воспроизведение. Некоторые психологи выделяют у детей подросткового возраста особое свойство личности, которое называют чувством взрослости. Это чувство может возникать в результате осознания подростком сдвигов в своём физическом развитии. Во взаимоотношениях со взрослыми подросток уже не чувствует себя ребёнком, он может и желает участвовать в общем труде, иметь серьёзные обязанности и поручения.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000"/>
          </a:bodyPr>
          <a:p>
            <a:pPr indent="0">
              <a:buNone/>
            </a:pPr>
            <a:endParaRPr b="1" lang="ru-RU" sz="4100" spc="-1" strike="noStrike">
              <a:solidFill>
                <a:srgbClr val="e9d59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240" cy="61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486000" indent="-364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.К.Крупская, характеризуя этот возраст, говорила, что подросток уже не ребёнок, но ещё не взрослый. Подросток – это ребёнок, становящийся взрослым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6000" indent="-364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5-ом классе ко всем проблемам подросткового возраста добавляется проблема адаптации к новым условиям обучения. Под адаптацией принято понимать – в широком смысле  - приспособление к окружающим условиям. Адаптация имеет два спектра – биологический и психологический. Мы ведём речь именно о психологической адаптации учащихся, т.к. в настоящий период необходимо приспособиться к новым условиям школьной действительности, начиная от внешних (кабинетная система) и заканчивая внутренними (установление контактов с разными учителями, усвоение новых предметов)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36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e9d59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240" cy="61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503640" indent="-3776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адо заметить, что с понятием «адаптация» тесно связано понятие «готовность к обучению в основной школе». Не все учащиеся начальной школы подготовлены к переходу в основную школу одинаково. Можно выделить следующие составляющие понятия «готовность к обучению в основной школе»: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03640" indent="-3776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1.Сформированность основных компонентов учебной деятельности, успешное усвоение программного материала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03640" indent="-3776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2.Новообразования младшего школьного возраста – произвольность, рефлексия, мышление в понятиях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03640" indent="-3776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3. Качественно иной, более «взрослый» тип взаимоотношений с учителями и одноклассниками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323</TotalTime>
  <Application>LibreOffice/7.4.7.2$Linux_X86_64 LibreOffice_project/40$Build-2</Application>
  <AppVersion>15.0000</AppVersion>
  <Words>1579</Words>
  <Paragraphs>176</Paragraphs>
  <Company>КБ красный октябрь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5:35:31Z</dcterms:created>
  <dc:creator>железный</dc:creator>
  <dc:description/>
  <dc:language>en-US</dc:language>
  <cp:lastModifiedBy>comp8</cp:lastModifiedBy>
  <dcterms:modified xsi:type="dcterms:W3CDTF">2013-10-14T05:07:05Z</dcterms:modified>
  <cp:revision>9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7</vt:r8>
  </property>
</Properties>
</file>