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53DB-8426-4BB7-8B24-5448BD715C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9AB8-7AF2-44C8-A9EF-C0D1732B046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311C-E18E-4689-92E1-4F6F1D25349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164F-3A00-45A9-80B4-D52CCD6F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86A8-552F-4120-9BB1-B43EB42C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D198C-3DE3-480D-B649-DA236E15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F76DA-3418-4A3B-8B69-F5C3C272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356F2-7AB5-4BCF-98D2-50F75398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B3EFB-33A1-4A6E-B947-7C1E011C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EAFE1-99DB-4C1F-AF15-2CA1DEFC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8903A-1F54-4BD3-BD54-205A8DE2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C1596-D6E0-4E98-A2DF-224DD815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02C67-A729-472E-A0D4-F10632F6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499C3-AAEC-4A4F-9314-5DB86A8C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A00B2-BEE0-40D0-9DE3-1291A81A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B1D-74B4-4EA7-9277-A04223EA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F0E56-55BB-4A05-8AA2-82D4C9DA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BFD03-77B3-464C-BD6A-B3E5651F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A5966-A7E6-443F-B487-BEC84F63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971B4-BAC2-4D21-A218-88DE18E7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96047-60CA-4167-ADAE-E13C9837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AEE84-E6C9-41AF-BB2A-FF1FB181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5F1FB-E2D6-48B6-BB2F-21C94EF4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993FE-6119-4FB8-B503-66FCE398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C0B96-5AE3-4708-8D46-CEAEF516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ABC99-9ED5-4D05-A133-CF59C0D6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7DA3-BA44-4E86-805E-2795D497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1FBE8-852F-4127-9EF5-16AC93F0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EBD6A-DA8C-4EC8-A402-0C2FD138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923CA-F813-4261-BE6E-5000E2E6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B34B1-D9EC-43A4-89EB-6F1BB12B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52DAA-A498-469E-BA26-B2D38F5D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4C5D9-F1EA-4D8C-8404-1ED502E7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BF965-02FE-4502-AF1F-8E816CB2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9B214-ED1B-40E5-9A98-9725B096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F15FB-F12F-41A8-81F7-4DA8197D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81712-03EF-485F-97EB-0507B77A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C615-59B3-4D88-8056-9BE3ACBE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042AE-088E-4DC9-ADEA-A8E6158A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2656B-29A4-43A2-A672-6F4F0A15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382A2-BABD-41CA-AD64-C20712D6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39903-CDBC-4253-9404-A9B0DAB9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6584A-DA9C-4CA1-823C-A609891C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CDEA3-74E6-4033-932B-9FA37640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3AF8D-A31E-4472-9F63-3E2EECD7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7280D-35E7-4C8C-8FF7-7216FF22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727AC-69A3-476E-BB71-61714806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E268E-3616-433B-AA51-47251B7E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3658-75D2-4030-9E0C-991FCB45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65166-5F78-478B-BEEF-A4653830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C14CD-D4EC-46FE-939B-D17F0B82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E2165-5E63-4338-ADC8-9E451864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E4D6B-B79E-4816-AF5B-53151828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72172-2F92-42B1-B25C-1D55E185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CBE2-5F3D-4CFB-B8FB-B04535D3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4C92-FDBE-4F18-A707-AB5FD850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8419-CBC0-44DB-9AE5-5937EF17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2BB7-B02F-4B50-B9C7-55DEDA81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928A-934A-4463-9CB7-BD6758DD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147D-571E-45CD-A3FE-56D4E40C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5481-3A24-4495-8151-E7CF045C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B009-C0A1-4D62-8D86-1D6D02BA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9CA3-4A1F-4A59-8352-E6F6E84C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90F1-2908-4D4F-9AEB-A8808049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824F-8CDA-49DB-ADA6-D60B09E9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507D0-3B2A-4AAF-984B-F6A9C5A0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EC6C7-6E6F-4F1D-9117-651446C4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102D8-5098-45DA-9FEF-EC309D6D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2400A-69FC-40AB-A2A0-2BDEF96D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3FECF-22E0-45DD-A1E9-A863F74E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9315-1C71-476A-8B84-F917DF85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AD92A-9E44-448E-8322-4C61B10A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CF6C7-1A21-4BD6-9692-1020B55B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B8AFA-4342-407C-B8A3-48764A39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7B1E7-089F-4E81-BB55-C5AD891A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29BF5-39AF-4E8D-876C-C0D926AA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9EDE6-19BC-4C66-88D1-D3C0CAA0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FFB75-AF52-4306-A94F-DCBB7947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33892-2B16-4DAF-9B42-A0B6CEC1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24E40-58E9-422F-A1CD-4568B161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239E4-F596-4459-9B68-52553505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005E-D06B-4CCF-BDFA-24445EA7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C2CEB-A673-4213-B11F-FD7C6886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33787-A70B-4406-8144-3D243DDF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2A23F-1663-4CC4-AC61-B82EA876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72418-2BE2-48FA-B86E-1FD2965E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2AB54-8790-4C42-869E-6C3ADAA8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52CFC-782C-42F6-B210-4C3C0A93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6B53A-7308-4667-892B-79E1A192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51B38-64DE-488A-9013-A7825F86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A47B0-137D-4493-B8F7-81960500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FC46C-F81E-42EE-A01B-87B9A48E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E730-3F89-4EAE-8B16-6C77C03D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EB5DA-FB51-441C-801B-39B7863D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D29A4-D7F1-49FF-822D-F7F67BF9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08BA3-3DAE-490A-AA60-49CAD1ED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C7654-B8D2-4073-B34B-EA7B38E3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50DD7-9F7A-4559-BC51-4EE41064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9B073-8782-4582-9F63-8F22FC0A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97887-5A39-4341-A8B0-44B0C4EA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82E72-4859-45C7-B9FF-2A794781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F412B-D3BF-4A42-8B42-2B8414AD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EEF84-B2AF-4E71-816B-403B653A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3D19-29C9-4C77-9956-DABF4231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7B2FE-645C-40F4-8369-637DFCCA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CCE3E-79DF-4E97-A07F-804A040D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D054D-7587-46F2-AA39-E0DFDF39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52864-69C2-476B-9E67-954CA711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EECDF-DD36-425A-AFA2-D8D50828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3A2E3-9038-4F15-9667-CBD286BA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76967-6913-4839-AFD3-3E594F57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D30BD-A9DE-463D-85C4-8BF76478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F99F0-0FB4-4E3C-87B5-1EB2B6C0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A3F10-CB0B-4D53-B764-9FBFEBB2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4340-12D5-44C5-A282-80871ECF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73E16-6E73-49E2-96B8-4FE7A747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C0B05-020B-462C-B3E5-BD66B00B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BDAC3-D4F1-49DF-80D3-0EBA4B0E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83DF4-AE94-4BDE-9268-EC090868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F418C-F050-4A0E-AA94-7A5C38DA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C04F6-A1DE-4B17-93B3-7A48FA89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10EF9-959D-44B4-BF2D-03310B3B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CE6ED-A212-4C2B-A39B-CD22F743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FA859-DA6D-4D0A-B6A5-067382D7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7A34A-6DFB-445C-836B-BA486AEE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58A-060B-4DFE-BFEC-DC705B7E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CE084-A1E9-4411-AEF8-3F946FE9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5E202-8667-4BD2-BAB6-012FBE26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9939A-F2D7-4F5C-9897-14211B1F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6660E-F56D-4F0D-89CB-D33038E8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1B9AA-28EC-488D-869D-90E01F8A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76D32-2381-4673-99D5-1A5F0452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DD0AD-9DC8-4BC4-9CF2-82A10CF9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5C9B8-4BC2-4DDB-90CF-796F923A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18602-8C1F-4D8A-8544-35415E1F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7393D-2F5A-46CC-9377-4B1EBF13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D8C-0D2C-4EEB-A0F3-ED02BC8C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CB421-938B-4128-83AF-7E073DCF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064B4-3650-422B-851B-510C9CEF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E6476-DD55-4B4E-A6C8-2D2D5A54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AD33E-44BB-4E5A-BE2B-637A6B54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F1930-BF23-4B1F-84B9-1DFF5B9E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0C797-2998-4EA3-935D-74AAB7F5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F1A68-ECAF-4499-B021-98A8062D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D3FCB-9A4A-4A12-BD1C-F2AAFB4F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12106-46F4-4018-94A8-70395878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91A16-76C7-43DD-9E96-C3AA5D51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50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2051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2052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2053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2054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2055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2056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КОУ "Верхнебузиновская СОШ" Ягненкова Т. 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D1CF-D273-48D6-B4B7-ACFBDBCD5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КОУ "Верхнебузиновская СОШ" Ягненкова Т. 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ACF3-D896-48C0-BE51-6B9BE3B2D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КОУ "Верхнебузиновская СОШ" Ягненкова Т. 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7F8F-9B91-4E73-98CC-0A5078D31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КОУ "Верхнебузиновская СОШ" Ягненкова Т. 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C3C8-4F11-49EA-8B3D-15D300090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МКОУ "Верхнебузиновская СОШ" Ягненкова Т. 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4E8C-02AA-4DAD-B1AA-7A91D0A458C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КОУ "Верхнебузиновская СОШ" Ягненкова Т. 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256A-4045-41BD-ACF3-90C9B2DCB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КОУ "Верхнебузиновская СОШ" Ягненкова Т. 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19C2-067A-4346-ADD7-4E92E8B56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КОУ "Верхнебузиновская СОШ" Ягненкова Т. 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290A-276E-46D8-954E-F30C8A8F5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КОУ "Верхнебузиновская СОШ" Ягненкова Т. 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E584-E8B0-4AB2-90DA-8EF293075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КОУ "Верхнебузиновская СОШ" Ягненкова Т. 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D94E-F34E-4390-8329-021EC344E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КОУ "Верхнебузиновская СОШ" Ягненкова Т. 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0433-CF03-43AD-A922-6FBC1051E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КОУ "Верхнебузиновская СОШ" Ягненкова Т. 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8552-74C4-4E3A-B3DD-57C8EFF42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Прямоугольник 1"/>
          <p:cNvSpPr/>
          <p:nvPr/>
        </p:nvSpPr>
        <p:spPr>
          <a:xfrm>
            <a:off x="971640" y="636480"/>
            <a:ext cx="698508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сумму бесконечно убывающей геометрической про­гресси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8;    ;…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7" name="TextBox 2" descr=""/>
          <p:cNvPicPr/>
          <p:nvPr/>
        </p:nvPicPr>
        <p:blipFill>
          <a:blip r:embed="rId1"/>
          <a:stretch/>
        </p:blipFill>
        <p:spPr>
          <a:xfrm>
            <a:off x="1401840" y="2127240"/>
            <a:ext cx="628560" cy="1262160"/>
          </a:xfrm>
          <a:prstGeom prst="rect">
            <a:avLst/>
          </a:prstGeom>
          <a:ln w="0">
            <a:noFill/>
          </a:ln>
        </p:spPr>
      </p:pic>
      <p:sp>
        <p:nvSpPr>
          <p:cNvPr id="518" name="Прямоугольник 3"/>
          <p:cNvSpPr/>
          <p:nvPr/>
        </p:nvSpPr>
        <p:spPr>
          <a:xfrm>
            <a:off x="971640" y="344016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писать бесконечную периодическую десятичную дробь в виде обыкновенной дроби: 2,2(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Прямоугольник 4"/>
          <p:cNvSpPr/>
          <p:nvPr/>
        </p:nvSpPr>
        <p:spPr>
          <a:xfrm>
            <a:off x="1116000" y="5010120"/>
            <a:ext cx="777708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умма бесконечно убывающей геометрической прогрессии равна 20. Найти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0" name="TextBox 5" descr=""/>
          <p:cNvPicPr/>
          <p:nvPr/>
        </p:nvPicPr>
        <p:blipFill>
          <a:blip r:embed="rId2"/>
          <a:stretch/>
        </p:blipFill>
        <p:spPr>
          <a:xfrm>
            <a:off x="4273560" y="5791320"/>
            <a:ext cx="627120" cy="792000"/>
          </a:xfrm>
          <a:prstGeom prst="rect">
            <a:avLst/>
          </a:prstGeom>
          <a:ln w="0">
            <a:noFill/>
          </a:ln>
        </p:spPr>
      </p:pic>
      <p:sp>
        <p:nvSpPr>
          <p:cNvPr id="521" name="Нижний колонтитул 6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КОУ "Верхнебузиновская СОШ" Ягненкова Т. 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Impact"/>
              </a:rPr>
              <a:t>   </a:t>
            </a:r>
            <a:r>
              <a:rPr b="0" lang="ru-RU" sz="2800" spc="-1" strike="noStrike">
                <a:solidFill>
                  <a:srgbClr val="c00000"/>
                </a:solidFill>
                <a:latin typeface="Impact"/>
              </a:rPr>
              <a:t>Чтобы поделить корни с одинаковыми показателями, достаточно поделить подкоренные выражения и из результата извлечь тот же корен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6" name="Group 8"/>
          <p:cNvGrpSpPr/>
          <p:nvPr/>
        </p:nvGrpSpPr>
        <p:grpSpPr>
          <a:xfrm>
            <a:off x="914400" y="2590920"/>
            <a:ext cx="2971440" cy="3047400"/>
            <a:chOff x="914400" y="2590920"/>
            <a:chExt cx="2971440" cy="3047400"/>
          </a:xfrm>
        </p:grpSpPr>
        <mc:AlternateContent>
          <mc:Choice xmlns:a14="http://schemas.microsoft.com/office/drawing/2010/main" Requires="a14">
            <p:sp>
              <p:nvSpPr>
                <p:cNvPr id="567" name="Object 5"/>
                <p:cNvSpPr txBox="1"/>
                <p:nvPr/>
              </p:nvSpPr>
              <p:spPr>
                <a:xfrm>
                  <a:off x="914400" y="3744000"/>
                  <a:ext cx="2971440" cy="189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deg>
                              <m:r>
                                <m:t xml:space="preserve">n</m:t>
                              </m:r>
                            </m:deg>
                            <m:e>
                              <m:r>
                                <m:t xml:space="preserve">a</m:t>
                              </m:r>
                            </m:e>
                          </m:rad>
                        </m:num>
                        <m:den>
                          <m:rad>
                            <m:deg>
                              <m:r>
                                <m:t xml:space="preserve">n</m:t>
                              </m:r>
                            </m:deg>
                            <m:e>
                              <m:r>
                                <m:t xml:space="preserve">b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ad>
                        <m:deg>
                          <m:r>
                            <m:t xml:space="preserve">n</m:t>
                          </m:r>
                        </m:deg>
                        <m:e>
                          <m:f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b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8" name="Object 6"/>
                <p:cNvSpPr txBox="1"/>
                <p:nvPr/>
              </p:nvSpPr>
              <p:spPr>
                <a:xfrm>
                  <a:off x="1438560" y="2590920"/>
                  <a:ext cx="2271960" cy="73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9" name="Object 7"/>
              <p:cNvSpPr txBox="1"/>
              <p:nvPr/>
            </p:nvSpPr>
            <p:spPr>
              <a:xfrm>
                <a:off x="8089920" y="0"/>
                <a:ext cx="10540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Нижний колонтитул 7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КОУ "Верхнебузиновская СОШ" Ягненкова Т. 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c00000"/>
                </a:solidFill>
                <a:latin typeface="Impact"/>
                <a:ea typeface="Times New Roman"/>
              </a:rPr>
              <a:t>Чтобы возвести корень в степень, достаточно возвести в эту степень подкоренное выражение и из результата извлечь тот же корен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4" name="Group 8"/>
          <p:cNvGrpSpPr/>
          <p:nvPr/>
        </p:nvGrpSpPr>
        <p:grpSpPr>
          <a:xfrm>
            <a:off x="380880" y="2590920"/>
            <a:ext cx="3200400" cy="2590560"/>
            <a:chOff x="380880" y="2590920"/>
            <a:chExt cx="3200400" cy="2590560"/>
          </a:xfrm>
        </p:grpSpPr>
        <mc:AlternateContent>
          <mc:Choice xmlns:a14="http://schemas.microsoft.com/office/drawing/2010/main" Requires="a14">
            <p:sp>
              <p:nvSpPr>
                <p:cNvPr id="575" name="Object 1"/>
                <p:cNvSpPr txBox="1"/>
                <p:nvPr/>
              </p:nvSpPr>
              <p:spPr>
                <a:xfrm>
                  <a:off x="1295280" y="2590920"/>
                  <a:ext cx="1422360" cy="71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6" name="Object 2"/>
                <p:cNvSpPr txBox="1"/>
                <p:nvPr/>
              </p:nvSpPr>
              <p:spPr>
                <a:xfrm>
                  <a:off x="380880" y="3809880"/>
                  <a:ext cx="3200400" cy="13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ad>
                        <m:deg>
                          <m:r>
                            <m:t xml:space="preserve">n</m:t>
                          </m:r>
                        </m:deg>
                        <m:e>
                          <m:r>
                            <m:t xml:space="preserve">a</m:t>
                          </m:r>
                        </m:e>
                      </m:rad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=</m:t>
                      </m:r>
                      <m:rad>
                        <m:deg>
                          <m:r>
                            <m:t xml:space="preserve">n</m:t>
                          </m:r>
                        </m:deg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7" name="Object 0"/>
              <p:cNvSpPr txBox="1"/>
              <p:nvPr/>
            </p:nvSpPr>
            <p:spPr>
              <a:xfrm>
                <a:off x="8312040" y="0"/>
                <a:ext cx="8319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PlaceHolder 3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9" name="Нижний колонтитул 8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КОУ "Верхнебузиновская СОШ" Ягненкова Т. 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55840" y="1303200"/>
            <a:ext cx="64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усть </a:t>
            </a:r>
            <a:r>
              <a:rPr b="0" i="1" lang="et-EE" sz="44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t-EE" sz="4400" spc="-1" strike="noStrike">
                <a:solidFill>
                  <a:srgbClr val="333399"/>
                </a:solidFill>
                <a:latin typeface="Tahoma"/>
              </a:rPr>
              <a:t>&gt;0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0" lang="et-EE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огд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0"/>
              <p:cNvSpPr txBox="1"/>
              <p:nvPr/>
            </p:nvSpPr>
            <p:spPr>
              <a:xfrm>
                <a:off x="611280" y="2819520"/>
                <a:ext cx="8208720" cy="21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a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t xml:space="preserve">a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deg>
                                    <m:r>
                                      <m:t xml:space="preserve">4</m:t>
                                    </m:r>
                                  </m:deg>
                                  <m:e>
                                    <m:r>
                                      <m:t xml:space="preserve">a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a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b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t xml:space="preserve">a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t xml:space="preserve">a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  <m:r>
                              <m:t xml:space="preserve">−</m:t>
                            </m:r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2" name="Нижний колонтитул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КОУ "Верхнебузиновская СОШ" Ягненкова Т. 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РЕШЕНИЕ УРАВНЕНИЙ И НЕРАВЕНСТВ С ПОМОЩЬЮ                     АРИФМЕТИЧЕСКОГО КОРНЯ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ПРИМЕРЫ</a:t>
            </a: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84" name="Group 9"/>
          <p:cNvGrpSpPr/>
          <p:nvPr/>
        </p:nvGrpSpPr>
        <p:grpSpPr>
          <a:xfrm>
            <a:off x="1295280" y="2209680"/>
            <a:ext cx="7543800" cy="3505320"/>
            <a:chOff x="1295280" y="2209680"/>
            <a:chExt cx="7543800" cy="3505320"/>
          </a:xfrm>
        </p:grpSpPr>
        <mc:AlternateContent>
          <mc:Choice xmlns:a14="http://schemas.microsoft.com/office/drawing/2010/main" Requires="a14">
            <p:sp>
              <p:nvSpPr>
                <p:cNvPr id="585" name="Object 6"/>
                <p:cNvSpPr txBox="1"/>
                <p:nvPr/>
              </p:nvSpPr>
              <p:spPr>
                <a:xfrm>
                  <a:off x="3124080" y="2209680"/>
                  <a:ext cx="2743200" cy="16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</m:e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⇔</m:t>
                          </m:r>
                        </m:e>
                        <m:e/>
                      </m:eqArr>
                      <m:eqArr>
                        <m:e>
                          <m:r>
                            <m:t xml:space="preserve">[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[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eqArr>
                      <m:r>
                        <m:t xml:space="preserve">[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6" name="Object 7"/>
                <p:cNvSpPr txBox="1"/>
                <p:nvPr/>
              </p:nvSpPr>
              <p:spPr>
                <a:xfrm>
                  <a:off x="1676520" y="4038480"/>
                  <a:ext cx="47242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&lt;</m:t>
                      </m:r>
                      <m:r>
                        <m:t xml:space="preserve">4</m:t>
                      </m:r>
                      <m:r>
                        <m:t xml:space="preserve">⇔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&lt;</m:t>
                      </m:r>
                      <m:r>
                        <m:t xml:space="preserve">2</m:t>
                      </m:r>
                      <m:r>
                        <m:t xml:space="preserve">⇔</m:t>
                      </m:r>
                      <m:r>
                        <m:t xml:space="preserve">x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7" name="Object 8"/>
                <p:cNvSpPr txBox="1"/>
                <p:nvPr/>
              </p:nvSpPr>
              <p:spPr>
                <a:xfrm>
                  <a:off x="1295280" y="5029200"/>
                  <a:ext cx="75438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≥</m:t>
                      </m:r>
                      <m:r>
                        <m:t xml:space="preserve">9</m:t>
                      </m:r>
                      <m:r>
                        <m:t xml:space="preserve">⇔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≥</m:t>
                      </m:r>
                      <m:r>
                        <m:t xml:space="preserve">3</m:t>
                      </m:r>
                      <m:r>
                        <m:t xml:space="preserve">⇒</m:t>
                      </m:r>
                      <m:r>
                        <m:t xml:space="preserve">x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∪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5</m:t>
                          </m:r>
                          <m:r>
                            <m:t xml:space="preserve">;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88" name="Нижний колонтитул 6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КОУ "Верхнебузиновская СОШ" Ягненкова Т. 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Прямоугольник 1" descr=""/>
          <p:cNvPicPr/>
          <p:nvPr/>
        </p:nvPicPr>
        <p:blipFill>
          <a:blip r:embed="rId1"/>
          <a:stretch/>
        </p:blipFill>
        <p:spPr>
          <a:xfrm>
            <a:off x="963720" y="743040"/>
            <a:ext cx="7643880" cy="1016316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2" descr="boy.jpg"/>
          <p:cNvPicPr/>
          <p:nvPr/>
        </p:nvPicPr>
        <p:blipFill>
          <a:blip r:embed="rId2"/>
          <a:stretch/>
        </p:blipFill>
        <p:spPr>
          <a:xfrm>
            <a:off x="-12600" y="652320"/>
            <a:ext cx="2975040" cy="2224080"/>
          </a:xfrm>
          <a:prstGeom prst="rect">
            <a:avLst/>
          </a:prstGeom>
          <a:ln w="0">
            <a:noFill/>
          </a:ln>
        </p:spPr>
      </p:pic>
      <p:sp>
        <p:nvSpPr>
          <p:cNvPr id="524" name="Нижний колонтитул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КОУ "Верхнебузиновская СОШ" Ягненкова Т. 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Rectangle 1" descr=""/>
          <p:cNvPicPr/>
          <p:nvPr/>
        </p:nvPicPr>
        <p:blipFill>
          <a:blip r:embed="rId1"/>
          <a:stretch/>
        </p:blipFill>
        <p:spPr>
          <a:xfrm>
            <a:off x="401760" y="2097000"/>
            <a:ext cx="7754760" cy="2730600"/>
          </a:xfrm>
          <a:prstGeom prst="rect">
            <a:avLst/>
          </a:prstGeom>
          <a:ln w="0">
            <a:noFill/>
          </a:ln>
        </p:spPr>
      </p:pic>
      <p:pic>
        <p:nvPicPr>
          <p:cNvPr id="526" name="Прямоугольник 3" descr=""/>
          <p:cNvPicPr/>
          <p:nvPr/>
        </p:nvPicPr>
        <p:blipFill>
          <a:blip r:embed="rId2"/>
          <a:stretch/>
        </p:blipFill>
        <p:spPr>
          <a:xfrm>
            <a:off x="2114640" y="4797360"/>
            <a:ext cx="6426000" cy="1590840"/>
          </a:xfrm>
          <a:prstGeom prst="rect">
            <a:avLst/>
          </a:prstGeom>
          <a:ln w="0">
            <a:noFill/>
          </a:ln>
        </p:spPr>
      </p:pic>
      <p:sp>
        <p:nvSpPr>
          <p:cNvPr id="527" name="Прямоугольник 4"/>
          <p:cNvSpPr/>
          <p:nvPr/>
        </p:nvSpPr>
        <p:spPr>
          <a:xfrm>
            <a:off x="755640" y="536400"/>
            <a:ext cx="7777080" cy="1617840"/>
          </a:xfrm>
          <a:prstGeom prst="rect">
            <a:avLst/>
          </a:prstGeom>
          <a:gradFill rotWithShape="0">
            <a:gsLst>
              <a:gs pos="0">
                <a:srgbClr val="bdffeb"/>
              </a:gs>
              <a:gs pos="100000">
                <a:srgbClr val="ebfff9"/>
              </a:gs>
            </a:gsLst>
            <a:lin ang="16200000"/>
          </a:gradFill>
          <a:ln w="9360">
            <a:solidFill>
              <a:srgbClr val="a4eb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уравнение </a:t>
            </a:r>
            <a:r>
              <a:rPr b="1" i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х</a:t>
            </a:r>
            <a:r>
              <a:rPr b="1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= а,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где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— на­туральное число, </a:t>
            </a:r>
            <a:r>
              <a:rPr b="1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а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— неотрицательное число, имеет единственный неотрицательный корень. Этот корень называют арифметическим корнем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й степени из числа </a:t>
            </a:r>
            <a:r>
              <a:rPr b="1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Прямоугольник 5"/>
          <p:cNvSpPr/>
          <p:nvPr/>
        </p:nvSpPr>
        <p:spPr>
          <a:xfrm>
            <a:off x="2484360" y="536400"/>
            <a:ext cx="17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Нижний колонтитул 5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КОУ "Верхнебузиновская СОШ" Ягненкова Т. 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Прямоугольник 1"/>
          <p:cNvSpPr/>
          <p:nvPr/>
        </p:nvSpPr>
        <p:spPr>
          <a:xfrm>
            <a:off x="755640" y="54936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ифметический корень второй степени называют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вадратным корнем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корень третьей степени —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бическим корнем,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иф­метический корень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й степени называют корень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й степен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1" name="Прямоугольник 3" descr=""/>
          <p:cNvPicPr/>
          <p:nvPr/>
        </p:nvPicPr>
        <p:blipFill>
          <a:blip r:embed="rId1"/>
          <a:stretch/>
        </p:blipFill>
        <p:spPr>
          <a:xfrm>
            <a:off x="2189160" y="2036880"/>
            <a:ext cx="6478560" cy="19987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" descr="C:\Documents and Settings\Admin\Мои документы\Мои рисунки\Изображение\Изображение.jpg"/>
          <p:cNvPicPr/>
          <p:nvPr/>
        </p:nvPicPr>
        <p:blipFill>
          <a:blip r:embed="rId2"/>
          <a:srcRect l="23342" t="57846" r="64453" b="39250"/>
          <a:stretch/>
        </p:blipFill>
        <p:spPr>
          <a:xfrm>
            <a:off x="2022480" y="4437000"/>
            <a:ext cx="5675400" cy="982800"/>
          </a:xfrm>
          <a:prstGeom prst="rect">
            <a:avLst/>
          </a:prstGeom>
          <a:ln w="0">
            <a:noFill/>
          </a:ln>
        </p:spPr>
      </p:pic>
      <p:sp>
        <p:nvSpPr>
          <p:cNvPr id="533" name="Нижний колонтитул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КОУ "Верхнебузиновская СОШ" Ягненкова Т. 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Прямоугольник 1" descr=""/>
          <p:cNvPicPr/>
          <p:nvPr/>
        </p:nvPicPr>
        <p:blipFill>
          <a:blip r:embed="rId1"/>
          <a:stretch/>
        </p:blipFill>
        <p:spPr>
          <a:xfrm>
            <a:off x="615960" y="615960"/>
            <a:ext cx="8077320" cy="23893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C:\Documents and Settings\Admin\Мои документы\Мои рисунки\Изображение\Изображение.jpg"/>
          <p:cNvPicPr/>
          <p:nvPr/>
        </p:nvPicPr>
        <p:blipFill>
          <a:blip r:embed="rId2"/>
          <a:srcRect l="60590" t="36202" r="7648" b="46772"/>
          <a:stretch/>
        </p:blipFill>
        <p:spPr>
          <a:xfrm>
            <a:off x="1042920" y="3000240"/>
            <a:ext cx="7643880" cy="2979720"/>
          </a:xfrm>
          <a:prstGeom prst="rect">
            <a:avLst/>
          </a:prstGeom>
          <a:ln w="0">
            <a:noFill/>
          </a:ln>
        </p:spPr>
      </p:pic>
      <p:sp>
        <p:nvSpPr>
          <p:cNvPr id="536" name="Нижний колонтитул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КОУ "Верхнебузиновская СОШ" Ягненкова Т. 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90160" y="304560"/>
            <a:ext cx="7953480" cy="145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Impact"/>
              </a:rPr>
              <a:t>Свойства арифметического корня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4"/>
              <p:cNvSpPr txBox="1"/>
              <p:nvPr/>
            </p:nvSpPr>
            <p:spPr>
              <a:xfrm>
                <a:off x="2971800" y="1295280"/>
                <a:ext cx="2971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5"/>
              <p:cNvSpPr txBox="1"/>
              <p:nvPr/>
            </p:nvSpPr>
            <p:spPr>
              <a:xfrm>
                <a:off x="1905120" y="2209680"/>
                <a:ext cx="5181480" cy="289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ad>
                          <m:deg>
                            <m:r>
                              <m:t xml:space="preserve">n</m:t>
                            </m:r>
                          </m:deg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⇔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/>
                      <m:e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ad>
                          <m:deg>
                            <m:r>
                              <m:t xml:space="preserve">n</m:t>
                            </m:r>
                          </m:deg>
                          <m:e>
                            <m:r>
                              <m:t xml:space="preserve">a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1" name="Нижний колонтитул 5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КОУ "Верхнебузиновская СОШ" Ягненкова Т. 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5438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Impact"/>
              </a:rPr>
              <a:t>СВОЙСТВА АРИФМЕТИЧЕСКИХ КОРНЕЙ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144760" y="2398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c00000"/>
                </a:solidFill>
                <a:latin typeface="Impact"/>
              </a:rPr>
              <a:t>Величина корня не изменится, если показатель корня и показатель подкоренного выражения умножить на одно и тоже числ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6"/>
              <p:cNvSpPr txBox="1"/>
              <p:nvPr/>
            </p:nvSpPr>
            <p:spPr>
              <a:xfrm>
                <a:off x="8300880" y="0"/>
                <a:ext cx="8431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6" name="Group 8"/>
          <p:cNvGrpSpPr/>
          <p:nvPr/>
        </p:nvGrpSpPr>
        <p:grpSpPr>
          <a:xfrm>
            <a:off x="1547640" y="2565360"/>
            <a:ext cx="3276720" cy="1851120"/>
            <a:chOff x="1547640" y="2565360"/>
            <a:chExt cx="3276720" cy="1851120"/>
          </a:xfrm>
        </p:grpSpPr>
        <mc:AlternateContent>
          <mc:Choice xmlns:a14="http://schemas.microsoft.com/office/drawing/2010/main" Requires="a14">
            <p:sp>
              <p:nvSpPr>
                <p:cNvPr id="547" name="Object 5"/>
                <p:cNvSpPr txBox="1"/>
                <p:nvPr/>
              </p:nvSpPr>
              <p:spPr>
                <a:xfrm>
                  <a:off x="1547640" y="3327480"/>
                  <a:ext cx="3276720" cy="10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n</m:t>
                          </m:r>
                        </m:deg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deg>
                          <m:r>
                            <m:rPr>
                              <m:lit/>
                              <m:nor/>
                            </m:rPr>
                            <m:t xml:space="preserve">nk</m:t>
                          </m:r>
                        </m:deg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mk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8" name="Object 7"/>
                <p:cNvSpPr txBox="1"/>
                <p:nvPr/>
              </p:nvSpPr>
              <p:spPr>
                <a:xfrm>
                  <a:off x="2690640" y="2565360"/>
                  <a:ext cx="76212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49" name="Нижний колонтитул 8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КОУ "Верхнебузиновская СОШ" Ягненкова Т. 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47960" y="2209320"/>
            <a:ext cx="4244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c00000"/>
                </a:solidFill>
                <a:latin typeface="Impact"/>
              </a:rPr>
              <a:t>Чтобы перемножить корни с одинаковыми показателями, достаточно перемножить подкоренные выражения и из результата извлечь тот же корен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2" name="Group 8"/>
          <p:cNvGrpSpPr/>
          <p:nvPr/>
        </p:nvGrpSpPr>
        <p:grpSpPr>
          <a:xfrm>
            <a:off x="826920" y="2349360"/>
            <a:ext cx="3352680" cy="1676520"/>
            <a:chOff x="826920" y="2349360"/>
            <a:chExt cx="3352680" cy="1676520"/>
          </a:xfrm>
        </p:grpSpPr>
        <mc:AlternateContent>
          <mc:Choice xmlns:a14="http://schemas.microsoft.com/office/drawing/2010/main" Requires="a14">
            <p:sp>
              <p:nvSpPr>
                <p:cNvPr id="553" name="Object 5"/>
                <p:cNvSpPr txBox="1"/>
                <p:nvPr/>
              </p:nvSpPr>
              <p:spPr>
                <a:xfrm>
                  <a:off x="1665000" y="2349360"/>
                  <a:ext cx="11685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4" name="Object 6"/>
                <p:cNvSpPr txBox="1"/>
                <p:nvPr/>
              </p:nvSpPr>
              <p:spPr>
                <a:xfrm>
                  <a:off x="826920" y="3111480"/>
                  <a:ext cx="33526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n</m:t>
                          </m:r>
                        </m:deg>
                        <m:e>
                          <m:r>
                            <m:t xml:space="preserve">a</m:t>
                          </m:r>
                        </m:e>
                      </m:rad>
                      <m:r>
                        <m:t xml:space="preserve">⋅</m:t>
                      </m:r>
                      <m:rad>
                        <m:deg>
                          <m:r>
                            <m:t xml:space="preserve">n</m:t>
                          </m:r>
                        </m:deg>
                        <m:e>
                          <m:r>
                            <m:t xml:space="preserve">b</m:t>
                          </m:r>
                        </m:e>
                      </m:rad>
                      <m:r>
                        <m:t xml:space="preserve">=</m:t>
                      </m:r>
                      <m:rad>
                        <m:deg>
                          <m:r>
                            <m:t xml:space="preserve">n</m:t>
                          </m:r>
                        </m:deg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5" name="Object 7"/>
              <p:cNvSpPr txBox="1"/>
              <p:nvPr/>
            </p:nvSpPr>
            <p:spPr>
              <a:xfrm>
                <a:off x="8526600" y="0"/>
                <a:ext cx="617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PlaceHolder 3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7" name="Нижний колонтитул 8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КОУ "Верхнебузиновская СОШ" Ягненкова Т. 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144760" y="2398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c00000"/>
                </a:solidFill>
                <a:latin typeface="Impact"/>
              </a:rPr>
              <a:t>Чтобы извлечь корень из корня, надо показатели корней перемножить, а подкоренное выражение оставить прежни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Object 5"/>
              <p:cNvSpPr txBox="1"/>
              <p:nvPr/>
            </p:nvSpPr>
            <p:spPr>
              <a:xfrm>
                <a:off x="1447920" y="2666880"/>
                <a:ext cx="1218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Object 6"/>
              <p:cNvSpPr txBox="1"/>
              <p:nvPr/>
            </p:nvSpPr>
            <p:spPr>
              <a:xfrm>
                <a:off x="914400" y="3809880"/>
                <a:ext cx="29718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ad>
                          <m:deg>
                            <m:r>
                              <m:t xml:space="preserve">n</m:t>
                            </m:r>
                          </m:deg>
                          <m:e>
                            <m:r>
                              <m:t xml:space="preserve">a</m:t>
                            </m:r>
                          </m:e>
                        </m:rad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7"/>
              <p:cNvSpPr txBox="1"/>
              <p:nvPr/>
            </p:nvSpPr>
            <p:spPr>
              <a:xfrm>
                <a:off x="8394840" y="0"/>
                <a:ext cx="9093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PlaceHolder 3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4" name="Нижний колонтитул 7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КОУ "Верхнебузиновская СОШ" Ягненкова Т. 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20:36:48Z</dcterms:created>
  <dc:creator>lasgy</dc:creator>
  <dc:description/>
  <dc:language>en-US</dc:language>
  <cp:lastModifiedBy>Начальник отдела</cp:lastModifiedBy>
  <dcterms:modified xsi:type="dcterms:W3CDTF">2013-10-12T22:16:02Z</dcterms:modified>
  <cp:revision>19</cp:revision>
  <dc:subject/>
  <dc:title>10 класс</dc:title>
</cp:coreProperties>
</file>