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B26-A6AC-4942-BF78-DAB6184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723-4B0D-4CF1-9723-DF05F9C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068-0446-4C98-9AEC-CCF02E4A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4CB-8A61-4F08-868A-331361F0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703C-F688-4BB0-BE38-94991B2B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80F-6FA9-452B-8922-CC11CF0B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C876-2F84-4D49-95CA-C3954FE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1C60-C432-41B9-AA82-918179D0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C58-8E05-4CC8-919B-A5EC8A0A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4CE0-8889-4EFA-991E-4E30079B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3E7C-9820-4BAE-9DAA-34EBDAA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B0B-44DF-4D82-AFDE-3FD3B975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EE7A-615A-474F-B84A-7E9BC64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DA50-4BD8-498F-83C3-2F100FF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088-AA3E-4C28-B08D-C47F7563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0F7-3F75-4F46-A107-2BA43FDD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CD6-CF6E-4EDB-A533-95631B13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F2FA-80B9-4897-92EA-CCE4933B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CBBE-5124-41ED-AD0D-D36BE8B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71D4-292A-45B2-A076-CC476EA7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A4B9-A4B5-45C5-94A5-D97C0263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A641-8B6C-4EAD-9B96-3CABD4B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A03-8495-4F52-9A66-D60FBED9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B41F-D60C-44BA-A3B1-6E1A943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EFFD-4840-4857-A009-2608359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F9D7-AD1A-458D-833E-77D7D4FC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86F9-0A23-466B-B915-CBE7323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BFAB-8224-45C3-ADEF-1D4F56F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ABB9-F56F-4B5D-AC7B-D623731D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719A-814C-4D90-9E02-8C0EDD34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3DB-B987-41FA-8F83-66669F1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600-52AA-4136-850D-437D404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36B-51AA-4A9B-B3FF-0DF93D9D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345-50D5-4DD4-A2FF-AFAA453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647-E74F-4B79-8834-89B212E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2D1-83B8-4072-AEFE-0D15042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745-18D5-4D0C-827D-FCA21A160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431A-0549-43F1-8F96-2E0972924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999-B58A-4337-BE78-96CAD77B7F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ок обучения грамот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класс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а урока: «Закрепление. Согласная буква П. Профессии людей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втор: Гайнова А.В.                                  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ивеевский район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Ичаловская оош</a:t>
            </a: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75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75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75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ар готовит сал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п стоит на пл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питан плыл на парусн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усник плыл в пор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лот летит в Пс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пилота поса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тник строит пл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тника не шуба греет, а топор.                                  наз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ыберите из каких овощей повар готовит сала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 их названии должен быть звук «П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9" descr="314e1efe0632aee0105c5392e8a_prev"/>
          <p:cNvPicPr/>
          <p:nvPr/>
        </p:nvPicPr>
        <p:blipFill>
          <a:blip r:embed="rId1"/>
          <a:stretch/>
        </p:blipFill>
        <p:spPr>
          <a:xfrm>
            <a:off x="304920" y="0"/>
            <a:ext cx="4800600" cy="359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news_img_file_1606_b"/>
          <p:cNvPicPr/>
          <p:nvPr/>
        </p:nvPicPr>
        <p:blipFill>
          <a:blip r:embed="rId2"/>
          <a:stretch/>
        </p:blipFill>
        <p:spPr>
          <a:xfrm>
            <a:off x="426708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iCA9F6UYX"/>
          <p:cNvPicPr/>
          <p:nvPr/>
        </p:nvPicPr>
        <p:blipFill>
          <a:blip r:embed="rId3"/>
          <a:stretch/>
        </p:blipFill>
        <p:spPr>
          <a:xfrm>
            <a:off x="5486400" y="0"/>
            <a:ext cx="33926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iCAGU4N0K"/>
          <p:cNvPicPr/>
          <p:nvPr/>
        </p:nvPicPr>
        <p:blipFill>
          <a:blip r:embed="rId4"/>
          <a:stretch/>
        </p:blipFill>
        <p:spPr>
          <a:xfrm>
            <a:off x="30492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5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9" descr="iCA1DS35M"/>
          <p:cNvPicPr/>
          <p:nvPr/>
        </p:nvPicPr>
        <p:blipFill>
          <a:blip r:embed="rId1"/>
          <a:stretch/>
        </p:blipFill>
        <p:spPr>
          <a:xfrm>
            <a:off x="228600" y="228600"/>
            <a:ext cx="4191120" cy="31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0_5531a_c1924ae7_XL"/>
          <p:cNvPicPr/>
          <p:nvPr/>
        </p:nvPicPr>
        <p:blipFill>
          <a:blip r:embed="rId2"/>
          <a:stretch/>
        </p:blipFill>
        <p:spPr>
          <a:xfrm>
            <a:off x="4800600" y="42840"/>
            <a:ext cx="3733920" cy="343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iCAWIR22N"/>
          <p:cNvPicPr/>
          <p:nvPr/>
        </p:nvPicPr>
        <p:blipFill>
          <a:blip r:embed="rId3"/>
          <a:stretch/>
        </p:blipFill>
        <p:spPr>
          <a:xfrm>
            <a:off x="4267080" y="3505320"/>
            <a:ext cx="4629240" cy="308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0_55339_4a7e65f9_XL"/>
          <p:cNvPicPr/>
          <p:nvPr/>
        </p:nvPicPr>
        <p:blipFill>
          <a:blip r:embed="rId4"/>
          <a:stretch/>
        </p:blipFill>
        <p:spPr>
          <a:xfrm>
            <a:off x="228600" y="3417840"/>
            <a:ext cx="3200400" cy="3113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5" name="chimes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yandex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В.Г. Горецкий, В.А. Кирюшкин «Азбу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Задание «Буква потерялась» 3-4 слай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Знакомство с профессиями 5-8 слай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е на карточках 9 слай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ение предложений 10 слай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е 11 слай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ощи 12-13 слай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Рисунок1"/>
          <p:cNvPicPr/>
          <p:nvPr/>
        </p:nvPicPr>
        <p:blipFill>
          <a:blip r:embed="rId3"/>
          <a:stretch/>
        </p:blipFill>
        <p:spPr>
          <a:xfrm>
            <a:off x="6027840" y="3962520"/>
            <a:ext cx="270180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Буква потерялас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…</a:t>
            </a: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.ло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…</a:t>
            </a: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.ов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…</a:t>
            </a: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.ил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Arial"/>
              </a:rPr>
              <a:t>Ка….ит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и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о..ор,  …и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руа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эро…л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означают слова в первом столб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077"/>
          <p:cNvPicPr/>
          <p:nvPr/>
        </p:nvPicPr>
        <p:blipFill>
          <a:blip r:embed="rId1"/>
          <a:stretch/>
        </p:blipFill>
        <p:spPr>
          <a:xfrm>
            <a:off x="228600" y="1874880"/>
            <a:ext cx="8656560" cy="4681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лот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в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257800" y="3805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ил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апита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58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ад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едините профессии с их рабочим местом или инструмен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тник                  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ар                       топор, п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лот                       парус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питан                    аэропл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ад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V="1">
            <a:off x="2895480" y="4038120"/>
            <a:ext cx="2743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2362320" y="40384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2362320" y="2590920"/>
            <a:ext cx="32763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2819520" y="266688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48:47Z</dcterms:created>
  <dc:creator>Марина</dc:creator>
  <dc:description/>
  <dc:language>en-US</dc:language>
  <cp:lastModifiedBy>ichalovo</cp:lastModifiedBy>
  <dcterms:modified xsi:type="dcterms:W3CDTF">2013-10-14T08:19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