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54A-4684-4732-900E-F0290E8B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3C9-6E05-4090-B210-0322BF30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2E4E4-A660-48C3-908D-1E0856C7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67858-959A-4908-B032-119FBC36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7B6C0-9EF5-441D-8215-A0334D3A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ED113-1D46-4BA5-850D-A4158B06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86775-B380-42F8-B3AA-EE226BE0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0DF4A-A93E-434E-A49A-E066AEF8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AA737-11E5-46B0-A883-B4E69625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4D8D0-E709-4A55-A983-C5B5B695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51BD3-2245-45E6-AA41-2A713DA0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709-AC48-46C2-AAE2-1EF2D97B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E9A-0CB7-4A88-99BA-ECB9D2B0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5300-9814-4122-BAB4-78BA51CE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548C-2174-475F-97DF-845D8B85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1F27-A58D-40A2-9059-B2A79830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1AD8-B20A-436F-B662-4C4019BB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A525-6EAC-4337-985D-E9F4279B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39B2-03EB-46E9-9D02-625B0ED8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E8B1-4FF1-42F0-9332-2F1FC22B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3216-C427-4EAE-BDC7-652A22C8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C96F-427F-4C1C-AE23-195C160B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A58A-EF99-4A1F-AD09-1665CF32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C9E1-4C7F-4516-AB99-FC434922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6D3B-8158-48B1-A419-6EA72A13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C0B5-45DF-4D2B-B140-DD21FE2F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28CF3-E6D7-404C-83E8-ABF4A4C7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7A760-2430-4DF9-B68C-1941D6BC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B058-1A10-482C-BBD5-7F16E792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5E94B-C723-4995-88D8-15525528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EBB5C-F2E4-445E-839F-67B8B2AE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93C-CDAF-4FC4-8655-18803E37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AE977-4601-4D27-8E8F-705ECF92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6F5A0-9017-4FD9-94EF-BD2365F4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771A6-C42D-4CEB-AAE7-1AEEEA02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A3DD7-B9A6-4F65-97D9-C50242F5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78125-579D-448E-95EF-CD8310A6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A3DB8-E185-471E-89F2-C6F5A9D8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F834F-53CA-49E6-9785-D2C26686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96404-8F92-4C9C-AD6A-27CB82E5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E5D07-D6CB-4058-8369-85410B6E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02F14-727F-4C03-AA76-3AC2667F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702-DC2D-4E03-B3D4-7830F70A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D7587-42B2-4873-A9CE-175B6200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895C9-F415-44B8-9AAB-F8710518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05958-9616-48F6-8B83-60CA29D6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4F95C-A15E-4603-8AF6-7A581216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79AD5-84BE-4364-AD89-58689204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87B1B-4C6F-4D48-AD01-B8D8A311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CC942-2047-403B-BA04-CE8CE575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C8998-E906-4A6C-9107-40C6D6CD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E5391-3FB5-4F43-B20F-8B4C0A21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6E231-74FF-42EF-9E6E-8CE874D1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22AA-FA06-47E2-854A-CB096EC5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1E7D3-47F2-44B5-96B9-8614A909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6521B-4408-42CB-8013-DE40A647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DF105-81CA-460E-B277-D20C2752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DB82C-5E0D-484D-A8A7-6E1CC6D1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D9398-48CE-4FF1-8F17-576B2C78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7B6EC-9A75-413C-A44E-5881D151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52925-8BBF-4B74-9B82-5EDBCC90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09B22-9D16-4EB2-8DF6-89E4470E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274E6-D8EF-431C-A968-F7785AA1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6497F-F8E8-4DC0-9CD8-2B05BF66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23F-98A6-479C-9EC7-610DE393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CC74D-7917-4FA6-BE50-7D882D1D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EB3BF-7D0C-49CC-BC5D-CD4DA69E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CCDB1-0B9B-42B7-BDE2-688696E1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2DC2B-782E-47DC-BE9D-B8808F30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7F195-5EE1-4BA7-9088-842CC98C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F7FA5-83F7-4E3E-8584-39C3C0A0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F993F-DD64-44B9-A5DF-25E7D633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5582B-BBD0-4E48-BB04-F5125CCA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F549E-A41F-450A-97C5-96FB4A32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AA285-5940-4CDF-8396-4CDFDF25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DEF-1310-4DBB-8A63-102DACB4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A995A-C32F-454A-B56B-2C037214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7C226-B7BD-483C-96C1-81588022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1F540-4B4F-4CB8-BCB8-E7A3276B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4B64E-AC17-4B0F-B97F-21071F76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500EB-FD4E-4D4F-A166-20E8DFE0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14E20-44D5-49D5-BC5D-FBB670DB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86327-D91D-426D-AC7A-89F9DC41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0DE68-2281-4FA8-AC39-F6A701A9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9F32F-0D93-4D35-9149-D64DBBCE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2DE2A-4FF3-45EA-B543-3417B31C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5A3-F4EA-4B9B-9104-A813F96C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3568D-7B73-4B03-AF92-7059C04D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491C4-7970-4D62-9042-CB21B74D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B8ACF-87E9-4E43-A085-5C3A9C4E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D5DF6-C52C-40F5-999D-D01EF98B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8B3BF-2B11-4268-8790-45CC52BE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D1E76-6822-4278-B95A-6CBD58CD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D70C5-0A2F-441E-9500-97073EA9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A5B87-A624-46A3-93E7-7A95D706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AE259-D906-4851-8BF8-1576FE19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78FD0-D053-4ECC-B9F9-827571ED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37D4-95D5-4862-9ABA-432B6270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3EFC8-72C7-4B81-B91C-AFA0BC82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B06E4-E4A0-42BF-B5E1-68A155FB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03AD6-40BD-43D6-800A-CC803198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D194F-4347-4A64-8ED9-2C122402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66476-6309-4D12-9573-20FDE90F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7E014-D902-43A6-B849-CE1CC871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14C0F-6190-4C5A-BDFC-2F1D2DD3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C8F2A-EF06-4CCD-B934-7FC48970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3796B-CF96-43AE-BF21-705A96E7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9C298-C430-4495-B57F-BA1354FD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2884-CBE8-48E9-8AC1-A3298705F53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F9AF-3990-4568-B0C9-20C411971BB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24C9-4334-4FC1-B61B-23C91408F48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DFB2-89E7-4896-AEBF-7F93895A150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CC28-F003-453F-BB5A-C83E78D9A8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5B43-256E-4D92-A628-A5019D2914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782B-640C-4FE6-9E98-AD2949BC99C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C690-1EC7-4AD8-846D-3C3EE418117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ED71-AE86-4599-814E-2824D430145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venividi.ru/node/4205" TargetMode="External"/><Relationship Id="rId3" Type="http://schemas.openxmlformats.org/officeDocument/2006/relationships/hyperlink" Target="http://venividi.ru/node/4205" TargetMode="External"/><Relationship Id="rId4" Type="http://schemas.openxmlformats.org/officeDocument/2006/relationships/hyperlink" Target="http://www.liveinternet.ru/community/2412757/post71181065/" TargetMode="External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689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43329"/>
                </a:solidFill>
                <a:latin typeface="Franklin Gothic Book"/>
              </a:rPr>
              <a:t>Выполнила: Ёлгина Елена Степановна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43329"/>
                </a:solidFill>
                <a:latin typeface="Franklin Gothic Book"/>
              </a:rPr>
              <a:t>НОУ «Русская гимназия полного дня»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43329"/>
                </a:solidFill>
                <a:latin typeface="Franklin Gothic Book"/>
              </a:rPr>
              <a:t>2012 г.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http://venividi.ru/files/img/3436/nerchinsk_05.jpg"/>
          <p:cNvPicPr/>
          <p:nvPr/>
        </p:nvPicPr>
        <p:blipFill>
          <a:blip r:embed="rId3"/>
          <a:stretch/>
        </p:blipFill>
        <p:spPr>
          <a:xfrm>
            <a:off x="755640" y="170028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http://venividi.ru/files/img/3436/nerchinsk_06.jpg"/>
          <p:cNvPicPr/>
          <p:nvPr/>
        </p:nvPicPr>
        <p:blipFill>
          <a:blip r:embed="rId2"/>
          <a:stretch/>
        </p:blipFill>
        <p:spPr>
          <a:xfrm>
            <a:off x="826920" y="16286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" descr="http://venividi.ru/files/img/3436/nerchinsk_07.jpg"/>
          <p:cNvPicPr/>
          <p:nvPr/>
        </p:nvPicPr>
        <p:blipFill>
          <a:blip r:embed="rId2"/>
          <a:stretch/>
        </p:blipFill>
        <p:spPr>
          <a:xfrm>
            <a:off x="1187280" y="16286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http://venividi.ru/files/img/3436/nerchinsk_08.jpg"/>
          <p:cNvPicPr/>
          <p:nvPr/>
        </p:nvPicPr>
        <p:blipFill>
          <a:blip r:embed="rId2"/>
          <a:stretch/>
        </p:blipFill>
        <p:spPr>
          <a:xfrm>
            <a:off x="1042920" y="155736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http://venividi.ru/files/img/3436/nerchinsk_10.jpg"/>
          <p:cNvPicPr/>
          <p:nvPr/>
        </p:nvPicPr>
        <p:blipFill>
          <a:blip r:embed="rId2"/>
          <a:stretch/>
        </p:blipFill>
        <p:spPr>
          <a:xfrm>
            <a:off x="1187280" y="16286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длинник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артины Ивана Константинов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йвазовског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4343400" cy="47242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http://venividi.ru/files/img/3436/nerchinsk_11.jpg"/>
          <p:cNvPicPr/>
          <p:nvPr/>
        </p:nvPicPr>
        <p:blipFill>
          <a:blip r:embed="rId2"/>
          <a:stretch/>
        </p:blipFill>
        <p:spPr>
          <a:xfrm>
            <a:off x="3924360" y="190440"/>
            <a:ext cx="50004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78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8360" y="0"/>
            <a:ext cx="81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Глава фирмы Михаил Дмитриевич Бутин отличался высокой образованностью и предприимчивостью. Он переписывался с декабристами, был автором статей и книг по экономике Забайкалья, много путешествовал, был знаком со многими передовыми людьми того времени. В конце 70-х годов фирма Бутиных достигла расцвета. Ей принадлежали заводы: железоделательный (Николаевский), винокуренные (Александровский - около Иркутска и Борщевочный - в 30 верстах от Нерчинска), солеваренный (в Киренском округе), около 50 золотых приисков в Забайкальской, Амурской и Приморской областях. Фирма вела крупную торговлю мануфактурой, хлебом и вином (оптом) в Иркутске, Забайкалье и на Амуре. На средства Бутиных в Нерчинске открылись: женское училище, музыкальная школа, аптека с аптекарским складом, типография и даже купальня. Бутины были организаторами ряда торгово-ученых экспедиций. Кроме большого сада с оранжереей редких растений, в котором трудилась их сестра Татьяна Дмитриевна - корреспондентка И.В. Мичурина, Бутины создали небольшую ферму с опытным полем и сельскохозяйственной выставкой. Затраты Бутиных на культурные учреждения и благоустройство Нерчинска (даже при 30-40-милионных годовых оборотах фирмы) были весьма значительными. Свой знаменитый Дворец, который до сих пор украшает Нерчинск, Бутин начал строить в середине 60-х годов. Более десяти лет Бутины непрерывно строились. Громадные каменные пакгаузы, крытые железом, кроме прочих зданий были возведены в 1867 году. Через 9 лет на усадьбе появилась башня - резервуар для воды, накачиваемой локомобилем из колодца (позже вода шла самотеком из ручья). Вода спускалась в сад (сейчас городской парк) и в общественный сквер на площади (ныне стадион). В саду были павильоны, гроты, киоски, статуи античных богов, беседки, фонтаны и др.</a:t>
            </a:r>
            <a:br>
              <a:rPr sz="1400"/>
            </a:b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Во дворце, выстроенном в мавритано-готическом стиле под руководством видных мастеров, были художественно оформленные камины и винтовые лестницы, редкий по красоте паркет из даурского красного дерева, огромный витраж "Архангел Михаил, поражающий дьявола" работы Мюнхенской мастерской (1857 г.), многочисленные картины известных мастеров, самые большие в мире по тем временам зеркала (площадью до 20 кв. м.), орган - оркестрион, домашний музей и библиотека (до 30 тыс. томов). В начале 80-х годов в Сибири разразился торговый кризис. Был тяжелый неурожай, жизнь края сильно осложнилась, наступила безработица. Товары не находили сбыта, так как у населения не было денег. В результате полностью разорилось множество фирм. Не обошло несчастье и Бутиных. Кредиторы фирмы потребовали погасить кредиты досрочно и немедленно учредили "Администрацию по делам фирмы Бутиных", отстранив хозяев от руководства. Более 10 лет М.Д. Бутин доказывал в судах свою состоятельность и, хотя сумел выиграть дело, все предприятия уже были разорены или распроданы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755280" y="620280"/>
            <a:ext cx="793116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e3b30"/>
                </a:solidFill>
                <a:latin typeface="Franklin Gothic Book"/>
              </a:rPr>
              <a:t>Город Нерчинск основан в 1653 г. отрядом казаков под руководством Петра Бекетова на правом берегу Шилки, против устья Нерчи, как острог Нелюдский. С 1689 г. - город Нерчинск. Здесь заключен с Китаем Нерчинский договор 1689 г., </a:t>
            </a:r>
            <a:br>
              <a:rPr sz="2300"/>
            </a:br>
            <a:r>
              <a:rPr b="1" lang="ru-RU" sz="2300" spc="-1" strike="noStrike">
                <a:solidFill>
                  <a:srgbClr val="4e3b30"/>
                </a:solidFill>
                <a:latin typeface="Franklin Gothic Book"/>
              </a:rPr>
              <a:t>определивший отношения Русского государства с маньчжурской Цинской империей. В 1697 г. в Нерчинске учреждена таможня для пушного товара, провозимого в Китай. С 1822 г. – окружной город Иркутской губернии, с 1851 г. – Забайкальской области.</a:t>
            </a:r>
            <a:br>
              <a:rPr sz="2300"/>
            </a:br>
            <a:r>
              <a:rPr b="1" lang="ru-RU" sz="2300" spc="-1" strike="noStrike">
                <a:solidFill>
                  <a:srgbClr val="4e3b30"/>
                </a:solidFill>
                <a:latin typeface="Franklin Gothic Book"/>
              </a:rPr>
              <a:t>Нерчинск занимал выгодное положение, имея судоходную связь с Амуром, через него проходили и караванные пути в Китай. Придавая большое значение Нерчинску, царское правительство возвело его в степень воеводства. Город в течение короткого времени прошел путь от военно-опорного пункта до экономически развитого центра. </a:t>
            </a:r>
            <a:br>
              <a:rPr sz="2300"/>
            </a:br>
            <a:br>
              <a:rPr sz="2300"/>
            </a:br>
            <a:r>
              <a:rPr b="1" lang="ru-RU" sz="23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Прямоугольник 9"/>
          <p:cNvSpPr/>
          <p:nvPr/>
        </p:nvSpPr>
        <p:spPr>
          <a:xfrm>
            <a:off x="611280" y="-437364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95280" y="620640"/>
            <a:ext cx="8291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Торговые пути обеспечивали ему постоянный приток купцов с товарами и экономическое развитие. Это в свою очередь требовало строительства большого количества торговых лавок и амбаров для хранения товаров.</a:t>
            </a:r>
            <a:br>
              <a:rPr sz="2200"/>
            </a:b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В 1866 г. нерчинские купцы Бутины начали разрабатывать Вершино-Дарасунские золотые прииски. На средства Бутиных в Нерчинске были построены женская прогимназия, музыкальная школа, аптека, типография и др., собрана крупная библиотека (около 25 тысяч томов). В конце XIX в. в Нерчинске насчитывалось 727 домов, имелись 3 каменные церкви, синагога, городское, приходское, окружное, духовное училища. Были открыты для посетителей музей, общественный сад с фонтаном. Велась оживленная торговля (около 70 лавок), в том числе мехами (лиса, белка, хорек, волк), мануфактурными товарами, кунгурской обувью (из Пермской губернии), сахаром, бакалеей. Действовали 2 кожевенных, 2 свечно-сальных и мыловаренных, 12 кирпичных заводов, паровая мельница. Значительная часть населения занималась огородничеством (в том числе выращивали табак), скотоводством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ctr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http://venividi.ru/node/4205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- фото и комментар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сторические справки : 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venividi.ru/node/4205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http://www.liveinternet.ru/community/2412757/post71181065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http://venividi.ru/files/img/3436/nerchinsk_00.jpg"/>
          <p:cNvPicPr/>
          <p:nvPr/>
        </p:nvPicPr>
        <p:blipFill>
          <a:blip r:embed="rId3"/>
          <a:stretch/>
        </p:blipFill>
        <p:spPr>
          <a:xfrm>
            <a:off x="2124000" y="2708280"/>
            <a:ext cx="47624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http://venividi.ru/files/img/3436/nerchinsk_15.jpg"/>
          <p:cNvPicPr/>
          <p:nvPr/>
        </p:nvPicPr>
        <p:blipFill>
          <a:blip r:embed="rId3"/>
          <a:stretch/>
        </p:blipFill>
        <p:spPr>
          <a:xfrm>
            <a:off x="900000" y="126828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http://venividi.ru/files/img/3436/nerchinsk_13.jpg"/>
          <p:cNvPicPr/>
          <p:nvPr/>
        </p:nvPicPr>
        <p:blipFill>
          <a:blip r:embed="rId2"/>
          <a:stretch/>
        </p:blipFill>
        <p:spPr>
          <a:xfrm>
            <a:off x="755640" y="126828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http://venividi.ru/files/img/3436/nerchinsk_02.jpg"/>
          <p:cNvPicPr/>
          <p:nvPr/>
        </p:nvPicPr>
        <p:blipFill>
          <a:blip r:embed="rId3"/>
          <a:stretch/>
        </p:blipFill>
        <p:spPr>
          <a:xfrm>
            <a:off x="1258920" y="16286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http://venividi.ru/files/img/3436/nerchinsk_03.jpg"/>
          <p:cNvPicPr/>
          <p:nvPr/>
        </p:nvPicPr>
        <p:blipFill>
          <a:blip r:embed="rId3"/>
          <a:stretch/>
        </p:blipFill>
        <p:spPr>
          <a:xfrm>
            <a:off x="755640" y="16286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37960" y="450720"/>
            <a:ext cx="8759880" cy="9334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http://venividi.ru/files/img/3436/nerchinsk_09.jpg"/>
          <p:cNvPicPr/>
          <p:nvPr/>
        </p:nvPicPr>
        <p:blipFill>
          <a:blip r:embed="rId3"/>
          <a:stretch/>
        </p:blipFill>
        <p:spPr>
          <a:xfrm>
            <a:off x="1116000" y="16286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http://venividi.ru/files/img/3436/nerchinsk_12.jpg"/>
          <p:cNvPicPr/>
          <p:nvPr/>
        </p:nvPicPr>
        <p:blipFill>
          <a:blip r:embed="rId2"/>
          <a:stretch/>
        </p:blipFill>
        <p:spPr>
          <a:xfrm>
            <a:off x="2268360" y="190440"/>
            <a:ext cx="50007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http://venividi.ru/files/img/3436/nerchinsk_04.jpg"/>
          <p:cNvPicPr/>
          <p:nvPr/>
        </p:nvPicPr>
        <p:blipFill>
          <a:blip r:embed="rId3"/>
          <a:stretch/>
        </p:blipFill>
        <p:spPr>
          <a:xfrm>
            <a:off x="1116000" y="170028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Ёлгин</cp:lastModifiedBy>
  <dcterms:modified xsi:type="dcterms:W3CDTF">2012-10-08T13:02:02Z</dcterms:modified>
  <cp:revision>7</cp:revision>
  <dc:subject/>
  <dc:title>Слайд 1</dc:title>
</cp:coreProperties>
</file>