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E3D-02A2-48FF-B686-35507522E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31E-64F7-41D3-ACBE-6E719F9D4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B70-2781-456E-9633-1A1B5E7D2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CE8D-02EE-49B4-96F5-A657ABB24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79A-C712-4BE2-A646-4A26886B6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9603-B1D5-4290-AD5A-C50A072B9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378F-2C3C-46C5-BA58-9591B8C11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46B-4477-4FB1-A9A0-130E5E55B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B3D-A26F-41B5-BA8D-AE2B78DB2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439-D8D6-4F00-86C9-378FA16A3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D21-E9DA-44D1-B2F2-57EDD0B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3FA-ACF1-4C8F-8E6B-0E80C945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D67-E409-41B1-92F8-AB774344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770-EA5E-411F-BFBF-1CDB4034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70A-FE30-45DF-B9DF-49AD949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428-4C9F-4FA2-950F-C436303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4BD-518B-4AAF-A5C7-A2040FE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A1D-CD89-46EF-85DD-C8DACC6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5E-6BD2-4394-8B8E-6558F27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B77-87AC-4BE1-825F-8B542EC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E29-DB85-4BB5-9F8B-C60A7BFE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0B-3589-419D-9898-BD811768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A0A9-2C1E-4263-A683-19B41BB1C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 учреждение для детей дошкольного и младшего школьного возраста начальная школа – детский сад № 662 компенсирующего вида Кронштадтского района  Санкт- Петербург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988640"/>
            <a:ext cx="7993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усынина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916360" y="2276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619280" y="3573360"/>
            <a:ext cx="568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“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НИЖКИНА НЕДЕЛЯ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7" descr="Кнжкина неделя"/>
          <p:cNvPicPr/>
          <p:nvPr/>
        </p:nvPicPr>
        <p:blipFill>
          <a:blip r:embed="rId1"/>
          <a:stretch/>
        </p:blipFill>
        <p:spPr>
          <a:xfrm>
            <a:off x="250920" y="1557360"/>
            <a:ext cx="21063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данного проекта – формирование интереса и потребности в чтении (восприятии) кни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работу по формированию интереса к кни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понимание того, что из книг можно узнать много интерес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ть, как важны в книге рисун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приучать детей слушать сказки, рассказы, стихотво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зрослых (родителей) в развитии литератур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роектом начиналась т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книжка встреч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в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рассказала, что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ют раз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ки, рассказы, стих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жки-малышки, книги-велик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_4466"/>
          <p:cNvPicPr/>
          <p:nvPr/>
        </p:nvPicPr>
        <p:blipFill>
          <a:blip r:embed="rId1"/>
          <a:stretch/>
        </p:blipFill>
        <p:spPr>
          <a:xfrm>
            <a:off x="5796000" y="1557360"/>
            <a:ext cx="2668680" cy="35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дети и книги"/>
          <p:cNvPicPr/>
          <p:nvPr/>
        </p:nvPicPr>
        <p:blipFill>
          <a:blip r:embed="rId2"/>
          <a:stretch/>
        </p:blipFill>
        <p:spPr>
          <a:xfrm>
            <a:off x="179280" y="1628640"/>
            <a:ext cx="2521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работы с кни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ть книги только за сто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ь книги чистыми рук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листывать осторо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вать, не 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у класть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4468"/>
          <p:cNvPicPr/>
          <p:nvPr/>
        </p:nvPicPr>
        <p:blipFill>
          <a:blip r:embed="rId6"/>
          <a:stretch/>
        </p:blipFill>
        <p:spPr>
          <a:xfrm>
            <a:off x="5796000" y="907920"/>
            <a:ext cx="2512800" cy="334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G_4426"/>
          <p:cNvPicPr/>
          <p:nvPr/>
        </p:nvPicPr>
        <p:blipFill>
          <a:blip r:embed="rId7"/>
          <a:stretch/>
        </p:blipFill>
        <p:spPr>
          <a:xfrm>
            <a:off x="539640" y="328464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ыставка на тему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843280" y="134136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“</a:t>
            </a: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я любимая книга”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5" descr="IMG_4432"/>
          <p:cNvPicPr/>
          <p:nvPr/>
        </p:nvPicPr>
        <p:blipFill>
          <a:blip r:embed="rId1"/>
          <a:stretch/>
        </p:blipFill>
        <p:spPr>
          <a:xfrm>
            <a:off x="0" y="112536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IMG_4460"/>
          <p:cNvPicPr/>
          <p:nvPr/>
        </p:nvPicPr>
        <p:blipFill>
          <a:blip r:embed="rId2"/>
          <a:stretch/>
        </p:blipFill>
        <p:spPr>
          <a:xfrm>
            <a:off x="6156360" y="105264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MG_4469"/>
          <p:cNvPicPr/>
          <p:nvPr/>
        </p:nvPicPr>
        <p:blipFill>
          <a:blip r:embed="rId3"/>
          <a:stretch/>
        </p:blipFill>
        <p:spPr>
          <a:xfrm>
            <a:off x="2843280" y="342900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для родителей на те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ки в жизни ребе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а после чт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дети и книги"/>
          <p:cNvPicPr/>
          <p:nvPr/>
        </p:nvPicPr>
        <p:blipFill>
          <a:blip r:embed="rId3"/>
          <a:stretch/>
        </p:blipFill>
        <p:spPr>
          <a:xfrm>
            <a:off x="4643280" y="1125360"/>
            <a:ext cx="329580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ыставка совместных рисунков родителей 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124000" y="1413000"/>
            <a:ext cx="49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Панорама детской книги"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IMG_4456"/>
          <p:cNvPicPr/>
          <p:nvPr/>
        </p:nvPicPr>
        <p:blipFill>
          <a:blip r:embed="rId1"/>
          <a:stretch/>
        </p:blipFill>
        <p:spPr>
          <a:xfrm>
            <a:off x="539640" y="3068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G_4439"/>
          <p:cNvPicPr/>
          <p:nvPr/>
        </p:nvPicPr>
        <p:blipFill>
          <a:blip r:embed="rId2"/>
          <a:stretch/>
        </p:blipFill>
        <p:spPr>
          <a:xfrm>
            <a:off x="4788000" y="3068640"/>
            <a:ext cx="4060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бом зага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енькие художники сделали свои книги с иллюстрац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4553"/>
          <p:cNvPicPr/>
          <p:nvPr/>
        </p:nvPicPr>
        <p:blipFill>
          <a:blip r:embed="rId1"/>
          <a:stretch/>
        </p:blipFill>
        <p:spPr>
          <a:xfrm>
            <a:off x="539640" y="2565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G_4442"/>
          <p:cNvPicPr/>
          <p:nvPr/>
        </p:nvPicPr>
        <p:blipFill>
          <a:blip r:embed="rId2"/>
          <a:stretch/>
        </p:blipFill>
        <p:spPr>
          <a:xfrm>
            <a:off x="5076720" y="249228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ую работу с детьми и родителями по данному проекту считаю успешной и ну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града за это – сияющие глаз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IMG_4439"/>
          <p:cNvPicPr/>
          <p:nvPr/>
        </p:nvPicPr>
        <p:blipFill>
          <a:blip r:embed="rId1"/>
          <a:stretch/>
        </p:blipFill>
        <p:spPr>
          <a:xfrm>
            <a:off x="2050920" y="2276640"/>
            <a:ext cx="49770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5:13:54Z</dcterms:created>
  <dc:creator>Windows</dc:creator>
  <dc:description/>
  <dc:language>en-US</dc:language>
  <cp:lastModifiedBy>Ирина Гусынина</cp:lastModifiedBy>
  <dcterms:modified xsi:type="dcterms:W3CDTF">2013-10-12T11:37:48Z</dcterms:modified>
  <cp:revision>5</cp:revision>
  <dc:subject/>
  <dc:title>Государственное бюджетное дошкольное образовательное учреждение детский сад №14 Кронштадтского района Санкт-Петербурга.</dc:title>
</cp:coreProperties>
</file>