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150-AF98-41CA-89DD-75B368BD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C60-EF65-470B-B1CC-F54579F1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DA6-1373-4968-8FB3-CEDF25E6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AA3-3A1B-4F80-9E30-2F28A07E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B03-4515-4BFB-B13C-EB2C9E98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462-B82C-4E0B-AFB9-EBB9926C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2AD-960F-4EE8-8205-D55592F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66F-281D-4B2A-8B3E-FC9A7C4D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FE2-F92F-4E42-AD61-711F31F7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207-E310-4CFF-B6C1-0161893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03A-73B0-453C-8C58-A8D0D35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C5F-E043-496C-85CE-59D0810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34A-1005-4235-A3A3-39D4BF88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бобщающий урок по теме  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Arial Narrow"/>
              </a:rPr>
              <a:t>«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нализаторы.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заимодействие и взаимозаменяемость анализато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76680" cy="3381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4419720" y="3429000"/>
            <a:ext cx="51051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Елена   Владимировна Коршу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17, г. С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Числово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если утверждение верное  и ваш  ответ – «да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- если утверждение не верное и ответ «нет»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343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cc"/>
                </a:solidFill>
                <a:uFillTx/>
                <a:latin typeface="Arial"/>
              </a:rPr>
              <a:t>Ответ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1 1 0 1 1 0 0 0 1 0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523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организме человека органы чувств работают согласованно, повреждение одних органов чувств может быть компенсировано за счё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371448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15238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ить, систематизировать и обобщить знания учащихся об особенностях восприятия человеком окружающей среды с помощью анализаторов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Образовательны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ить знания учащихся о свойствах анализаторов, об их взаимодействии и взаимозаменяемости; показать роль нервной системы в приспособлении организма человека к условиям среды и способности реагировать на их изменения; обобщить знания об 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Развивающ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 должны уметь сравнивать, выделять главное и 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еся должны уметь показывать связующую роль анализаторов между организмом и внешней ср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ть умения сотрудничества, умения выступать, высказывать свою точку зрения и аргументировано ее доказывать, слушать товари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оспитатель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еся должны понять важность изучаемого материала, что знания и умения, полученные в ходе урока, пригодятся не только в  дальнейшей учёбе, но и в повседнев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ать формировать у учащихся навыки коммуникабельности, гуманных отношений к одноклассникам, выработать чувство ответственности за выполнение своей части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ывать полезные привычки по соблюдению правил гиги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Целеполаг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 Narrow"/>
              </a:rPr>
              <a:t>Задание:</a:t>
            </a:r>
            <a:r>
              <a:rPr b="0" lang="en-US" sz="2800" spc="-1" strike="noStrike">
                <a:solidFill>
                  <a:srgbClr val="cc33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установите соответствие между названием анализатора и локализацией его рецепторов, соедините их стрелкам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Ан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ух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жно-мыш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к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внове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ня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43400" y="17521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Локализация  рецеп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чики паль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изистая оболочка языка, мягкого нёба, гл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изистая оболочка верхнего отдела носовой пол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кружные каналь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тчатка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ончатый  лабири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Задан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таблице прописаны органы чувств и анализаторы, необходимо заполнить пробе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33600" y="1860480"/>
            <a:ext cx="474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33600" y="1860480"/>
            <a:ext cx="474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33600" y="1860480"/>
            <a:ext cx="474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33600" y="1860480"/>
            <a:ext cx="474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066680"/>
          <a:ext cx="8686800" cy="5622840"/>
        </p:xfrm>
        <a:graphic>
          <a:graphicData uri="http://schemas.openxmlformats.org/drawingml/2006/table">
            <a:tbl>
              <a:tblPr/>
              <a:tblGrid>
                <a:gridCol w="3137040"/>
                <a:gridCol w="554976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рганы чувств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Анализаторы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у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усовые рецепторы             вкусовой нерв           вкусовая зона кор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тчатка             зрительный нерв                зрительная зона кор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х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шочки и полукружные каналы  внутреннего уха            слуховой нерв              кора больших полушарий,  средний мозг, мозжечо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н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язательные рецепторы           нервы           кора больших полушари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553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582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345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Кожные рецеп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9435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Строение глазного яб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019240" y="1704960"/>
            <a:ext cx="51055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Зрительное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http://uo-prohladny.narod.ru/metod/ermak/glaz3.gif"/>
          <p:cNvPicPr/>
          <p:nvPr/>
        </p:nvPicPr>
        <p:blipFill>
          <a:blip r:embed="rId1"/>
          <a:stretch/>
        </p:blipFill>
        <p:spPr>
          <a:xfrm>
            <a:off x="2133720" y="2049480"/>
            <a:ext cx="56386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53484" t="5277" r="0" b="27181"/>
          <a:stretch/>
        </p:blipFill>
        <p:spPr>
          <a:xfrm>
            <a:off x="2743200" y="1523880"/>
            <a:ext cx="419112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кусовые зоны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6" descr="http://www.openlesson.ru/wp-content/gallery/biologija/bl-3.JPG"/>
          <p:cNvPicPr/>
          <p:nvPr/>
        </p:nvPicPr>
        <p:blipFill>
          <a:blip r:embed="rId1"/>
          <a:srcRect l="0" t="0" r="13590" b="5539"/>
          <a:stretch/>
        </p:blipFill>
        <p:spPr>
          <a:xfrm>
            <a:off x="1143000" y="990720"/>
            <a:ext cx="7010280" cy="5529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Физкультминут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4T14:31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