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08C-05DD-4EAA-911D-640EA662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298-66C3-4871-B7A4-27980AAE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2DB-2134-4BED-9C90-362464B6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040-4D41-4F27-9889-6EDB6AC4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984-45B9-45C3-822B-45C3132F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FED-46A1-473B-B0E5-5CC3B8D9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F50-81F9-4DBF-9D72-FD57255A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4E4-0D6F-40BB-9D02-C998EE83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429-BAD3-4895-B597-EC44B00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11A-1799-4E82-893E-AFA04C5B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773-211A-4E99-9207-1AC8017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F3E-02F4-465C-B75D-283BA74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37A7-3794-41C1-B3BB-55D0A0C25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g1.liveinternet.ru/images/foto/b/3/704/3134704/f_17590543.jpg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Ты хочешь сохранить красоту природ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Конечно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да</a:t>
            </a: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"/>
              </a:rPr>
              <a:t>Постарайтесь найти ценную информацию.</a:t>
            </a:r>
            <a:br>
              <a:rPr sz="6000"/>
            </a:br>
            <a:r>
              <a:rPr b="0" lang="en-US" sz="6000" spc="-1" strike="noStrike">
                <a:solidFill>
                  <a:srgbClr val="3333ff"/>
                </a:solidFill>
                <a:latin typeface="Arial"/>
              </a:rPr>
              <a:t>Так мы сможем помочь природе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50920" y="260280"/>
            <a:ext cx="46069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99"/>
                </a:solidFill>
                <a:latin typeface="Arial"/>
              </a:rPr>
              <a:t>Желаю успеха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5660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ю подгото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рлова Ири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0036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99"/>
                </a:solidFill>
                <a:latin typeface="Arial"/>
              </a:rPr>
              <a:t>Как мы можем помочь природ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В 1978 году в нашей стране создана 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Красная книг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Почему книга имеет такое наз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Почему выбран именно красный цв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Для чего люди создали Красную книг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Во Владимирской области в Красную книгу занесен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1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ff"/>
                </a:solidFill>
                <a:latin typeface="Arial"/>
              </a:rPr>
              <a:t>160 видов живот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ff"/>
                </a:solidFill>
                <a:latin typeface="Arial"/>
              </a:rPr>
              <a:t>169 видов раст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ff"/>
                </a:solidFill>
                <a:latin typeface="Arial"/>
              </a:rPr>
              <a:t>12 видов гри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Arial"/>
              </a:rPr>
              <a:t>Где обитают эти</a:t>
            </a:r>
            <a:br>
              <a:rPr sz="4800"/>
            </a:br>
            <a:r>
              <a:rPr b="0" lang="en-US" sz="4800" spc="-1" strike="noStrike">
                <a:solidFill>
                  <a:srgbClr val="ff3399"/>
                </a:solidFill>
                <a:latin typeface="Arial"/>
              </a:rPr>
              <a:t> растения и животны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4653000"/>
            <a:ext cx="30952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2447640" cy="2447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72360" y="2133720"/>
            <a:ext cx="2520720" cy="215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392880" y="4653000"/>
            <a:ext cx="2751120" cy="206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4653000"/>
            <a:ext cx="2887560" cy="2055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29.bmp"/>
          <p:cNvPicPr/>
          <p:nvPr/>
        </p:nvPicPr>
        <p:blipFill>
          <a:blip r:embed="rId6"/>
          <a:stretch/>
        </p:blipFill>
        <p:spPr>
          <a:xfrm>
            <a:off x="0" y="2133720"/>
            <a:ext cx="3168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Я предлагаю вам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отправиться в путешествие и выясн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Как выглядят исчезающие    растения и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Каковы причины их исчезнов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Какие меры нужно принять, чтобы их сп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1 группа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Путешествие в ле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12139E-006 L 0.62205 0.04208 E">
                                      <p:cBhvr>
                                        <p:cTn id="10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968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2 </a:t>
            </a:r>
            <a:r>
              <a:rPr b="1" lang="en-US" sz="5400" spc="-1" strike="noStrike">
                <a:solidFill>
                  <a:srgbClr val="ff3399"/>
                </a:solidFill>
                <a:latin typeface="Arial"/>
              </a:rPr>
              <a:t>группа</a:t>
            </a: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 Путешествие на л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1 из 68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35772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948360" y="3357720"/>
            <a:ext cx="17686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52601E-006 L -0.51407 0.20971 E">
                                      <p:cBhvr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4716 L 0.12118 -0.19514 C 0.1467 -0.22843 0.18472 -0.24647 0.2243 -0.24647 C 0.26962 -0.24647 0.30573 -0.22843 0.33125 -0.19514 L 0.45278 -0.04716 E">
                                      <p:cBhvr>
                                        <p:cTn id="11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3 группа 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Путешествие на водоё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7:54:08Z</dcterms:created>
  <dc:creator>Юлия</dc:creator>
  <dc:description/>
  <dc:language>en-US</dc:language>
  <cp:lastModifiedBy>Юлия</cp:lastModifiedBy>
  <dcterms:modified xsi:type="dcterms:W3CDTF">2013-10-14T16:43:18Z</dcterms:modified>
  <cp:revision>12</cp:revision>
  <dc:subject/>
  <dc:title>Слайд 1</dc:title>
</cp:coreProperties>
</file>