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A518-A163-4D3A-9EFF-F5B2AF53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11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826F-587E-4307-A530-E6358210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F60C-B958-4351-A2FC-5C54C0FB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9774-1D1A-4216-9B3F-90D18DF9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CFED-4B6E-4275-9F20-BADAC63B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840F-3D34-423F-B56E-295E8DE7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D098-93C4-4968-97FC-E4621D30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1DB0-4568-4095-A0AC-3699E58A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F17B-F5B7-4E78-9CED-583FD1C2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5BB9-8B9D-4288-8A04-CF6B14DC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9F69-B69E-4CA7-8980-AA7D6773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A89E-A3E4-4896-AB13-1B677861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5156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7C28-27F5-4A9C-926D-C8A8574F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4E58-8122-49C9-9DCB-F8592FD3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371600" y="411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857C-E81F-4E70-8DFB-A785B9A5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5156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973A-8799-4F33-88E7-C4D5B2D6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3556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9988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37160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53556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69988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2761-2184-4CCF-8360-219E3E79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9D8C-6372-49A8-9ED8-F709AC76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552-BC45-46BD-BA90-473892A8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5DD2-184C-48DA-9B62-3C19771E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33EE-2FDC-4CD1-9E7D-3EF00E11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7CE4-D112-4A1D-B558-D2E1DBA5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9D4-015A-441F-AD96-A0FA2BF8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4C0-7D56-45AB-8D62-F81501D5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34D5-E45F-4B4C-B008-14CD07EAC6E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65C6-F1BD-44E7-A5D6-4A243A829F3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Культура тел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Обществозн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Человек и культур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ифм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Вовочка, что же случилось с тобой? Зачем же ты с вышки – да вниз головой? Нет, не случилось бы с сыном беды, если бы просто налили воды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Маленький Вова компьютер купил и в двести двадцать его подключил. Бабушка сильно тянулась а науке – пепел из чепчика вымели внук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Verdana"/>
              </a:rPr>
              <a:t>Вова за вишнями в садик полез, Старый дед Петя достал свой обрез. Выстрел раздался, сторож упал – Вовочку сзади отец прикрывал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cc"/>
                </a:solidFill>
                <a:latin typeface="Verdana"/>
              </a:rPr>
              <a:t>Маленький Вова конфетку сосал. Сзади подъехал к нему самосвал. Завтра наутро писали газеты: «Вова погиб, подавившись конфетой»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Verdana"/>
              </a:rPr>
              <a:t>Маленький Вова рыбку удил, сзади подкрался к нему крокодил. Хрустнули кости в могучей руке – труп крокодила плывет по рек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Маленький Вова пришел на футбол. Громко вопил он: «Спартак – чемпион!» Громко пинали динамовцы тело – никто не вступился: попало за дело!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Авторы презентаци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Verdana"/>
              </a:rPr>
              <a:t>Учащиеся 8-а класса МОУ СОШ №2 с УИО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Verdana"/>
              </a:rPr>
              <a:t>Кротова Ле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Verdana"/>
              </a:rPr>
              <a:t>Соловьева Вал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Физкульту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Игра «чей отскок дальше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О зарядк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Игра «бег пингвинов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История спорт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Игра «канатоходцы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Закалива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Игра «не ходи на гору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Таблица возрастных нормативов школьни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Таблица ОУФ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Рифм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Физическая культур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Что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лучше: излечиться от болезни или не заболеть вообще? Ну конечно, лучше остаться здоровым. От множества угрожающих человеку болезней организм защищает себя сам – об этом позаботилась природа. Тем не менее резервы нашего организма не беспредельны. Активные занятия физкультурой, разумное питание, закаливание, умение «слушать» себя помогут надолго сохранить бесценный дар природы –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здоровь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ru-RU" sz="1800" spc="-1" strike="noStrike">
                <a:solidFill>
                  <a:srgbClr val="0000ff"/>
                </a:solidFill>
                <a:latin typeface="Verdana"/>
              </a:rPr>
              <a:t>Игра «Чей отскок дальше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9900"/>
                </a:solidFill>
                <a:latin typeface="Verdana"/>
              </a:rPr>
              <a:t>Играют у баскетбольного щита. Играющие поочередно бросают теннисный мяч в щит, чей отскок дальше, тот и победитель. Броски можно производить с места или с разбег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796000" y="4437000"/>
            <a:ext cx="1798560" cy="13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О зарядк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В ускоренном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ритме нашей жизни физическая нагрузка на человека становится все меньше, а психологическая возрастает. И каждый день. Проведенный без двигательной активности, чреват возникновением болезней, ведет к преждевременной старости. Причина. Мешающих человеку регулярно заниматься физическими упражнениями, очень много. Это и отсутствие времени, и недостаток спортивных сооружений, и трудности с инвентарем, экипировкой для занятий, и однообразие предлагаемых вариантов упражнений и нехватка квалифицированных преподавателей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1600" spc="-1" strike="noStrike">
                <a:solidFill>
                  <a:srgbClr val="009900"/>
                </a:solidFill>
                <a:latin typeface="Verdana"/>
              </a:rPr>
              <a:t>Игра «бег пингвинов»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00ff"/>
                </a:solidFill>
                <a:latin typeface="Verdana"/>
              </a:rPr>
              <a:t>Команды выстраиваются в колонны перед стартовой линией. Игроки, стоящие первыми. зажимают между ногами волейбольный мяч. В таком положении они должны достигнуть стоящего в 10-12 шагах от них флажка и вернуться назад, передав мяч руками второму номеру команды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0000ff"/>
                </a:solidFill>
                <a:latin typeface="Verdana"/>
              </a:rPr>
              <a:t>Если мяч упал на землю, нужно снова зажать его ногами и продолжить игру. Закончившие пробежку встают в конец колонны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0000ff"/>
                </a:solidFill>
                <a:latin typeface="Verdana"/>
              </a:rPr>
              <a:t>Выигрывает команда. Сумевшая быстрее и без ошибок закончить эстафету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64000" y="5084640"/>
            <a:ext cx="182736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История спор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Различные комплексы гимнастических упражнений способствующие сохранению и укреплению здоровья. Формированию красивой фигуры. Были популярны уже в прошлом веке. Все физические упражнения того времени условно разделились на три группы: атлетика, спорт. Гимнастика. Под атлетикой понимались специальные упражнения для развития максимальной силы. Спорт включал в себя упражнения, выполняемые ради удовольствия. Понятие гимнастики связывалось с так называемыми «вольными» движениями, т.е. упражнениями для шеи, головы, туловища, рук, ног. Сюда же входили упражнения на гимнастических снарядах и лечебная гимнастика. В гимнастике того времени существовали различные направления, выделявшиеся в отдельные школы. Гантельная гимнастика считалась специалистами того времени превосходным методом физического развития. Физическая тренировка. Направления на развитие общей выносливости. Повышает устойчивость по отношению и к другим климато - географическим факторам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i="1" lang="ru-RU" sz="1800" spc="-1" strike="noStrike">
                <a:solidFill>
                  <a:srgbClr val="009900"/>
                </a:solidFill>
                <a:latin typeface="Verdana"/>
              </a:rPr>
              <a:t>Игра «канатоходцы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На земле проводят линию. Игрок берет в руки бинокль и подносит к глазам обратной стороной так, чтобы предметы казались не приближенными, а удаленными. Глядя в  бинокль, , нужно пройти по линии 5 метр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356000" y="5229360"/>
            <a:ext cx="4568760" cy="538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Закалива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ru-RU" sz="18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00"/>
                </a:solidFill>
                <a:latin typeface="Verdana"/>
              </a:rPr>
              <a:t>Закаливание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–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9900"/>
                </a:solidFill>
                <a:latin typeface="Verdana"/>
              </a:rPr>
              <a:t>это система тренировок, направленных на повышение защитных сил организма против различных вредных воздействий. Можно закаливаться гимнастическими упражнениями и спортивными играми, ходьбой и бегом, сухим и влажным паром, холодной водой и плаванием, воздухом и солнцем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i="1" lang="ru-RU" sz="1800" spc="-1" strike="noStrike">
                <a:solidFill>
                  <a:srgbClr val="0000ff"/>
                </a:solidFill>
                <a:latin typeface="Verdana"/>
              </a:rPr>
              <a:t>игра «не ходи на гору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9900"/>
                </a:solidFill>
                <a:latin typeface="Verdana"/>
              </a:rPr>
              <a:t>Крепко взявшись за руки, играющие окружают большой снежный ком – гору. Сначала они медленно идут вправо или влево, по сигналу тянут друг друга и стараются заставить кого-нибудь влезть на гору, т.е. дотронуться до кома. Кому поневоле придется взобраться на снежный ком, выходит из игр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9900"/>
                </a:solidFill>
                <a:latin typeface="Verdana"/>
              </a:rPr>
              <a:t>победителями считаются три игрока, которые останутся последним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Таблица возрастных нормативов школьников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 класс 14 л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альчи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евоч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жимание (раз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ок (см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есс (за 30 сек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ис (сек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иб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0 м (сек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,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,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ОУФК –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ценка уровня физической кондици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начение ОУФ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цен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0,6 и выш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уп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0,21 до 0,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лич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-0,20 до 0,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орош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–0,60 до -0.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довлетворитель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-1,00 до -0,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удовлетворитель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 -1,01 и ниж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пасная з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оказатели ОУФК учащихся 8 -  а класса</a:t>
            </a: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(в классе 26 учеников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763640" y="2060640"/>
          <a:ext cx="6024600" cy="4032360"/>
        </p:xfrm>
        <a:graphic>
          <a:graphicData uri="http://schemas.openxmlformats.org/drawingml/2006/table">
            <a:tbl>
              <a:tblPr/>
              <a:tblGrid>
                <a:gridCol w="3652560"/>
                <a:gridCol w="23720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оличество учащи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упе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лич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орош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довлетворитель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удовлетворитель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пасная зо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05:59:27Z</dcterms:created>
  <dc:creator>Dima Voloskov</dc:creator>
  <dc:description/>
  <dc:language>en-US</dc:language>
  <cp:lastModifiedBy>Dima Voloskov</cp:lastModifiedBy>
  <dcterms:modified xsi:type="dcterms:W3CDTF">2004-10-24T11:32:55Z</dcterms:modified>
  <cp:revision>4</cp:revision>
  <dc:subject/>
  <dc:title>Культура тел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