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CC2-606D-40CB-ADE3-AFF6F849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D32-B8FC-4B9B-AC69-95D2692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A87-A9A6-4910-A21A-DC603B8F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8DC-BEF7-412A-B746-CF2D26A2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38E-E150-44D3-9AAF-C7D5E68D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331-4813-43EB-A918-760D996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CED5-F3B1-4001-A030-E8ACCD3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95E0-087F-4582-A9B9-6659474D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7C4F-3768-4F6C-AB0D-655D11E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660-B8F1-467C-BFE5-08A824D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8EC-B908-44B3-989A-8B54008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468-5594-4645-89F2-D9A300E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BB6-B09A-4BA1-86DA-074E292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A895-6345-4A5B-9368-F8145E7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28A-3363-4F73-9476-38767887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F238-4E48-4D2A-9436-3242812D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54A1-D0E6-47C3-98F2-023C7817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A70-7900-44F6-BFE7-12C8969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A54-ACB8-47E9-B5D7-61F4485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AD8-4DF9-4070-A9CC-BC088B22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9C6-3C6F-4B03-8AA1-69BACE6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0ED-16BC-4DE3-A0B8-9081514C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A02-5E3D-4D14-9676-5C99BA1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244-0B02-4D52-B146-A1A47481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3BA3-F07F-4E72-A9FA-7736C52C90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F6BA-61DE-48F4-BB2A-B864E4C560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2;&#1072;&#1088;&#1090;&#1086;&#1095;&#1082;&#1072;%20&#1082;&#1086;&#1085;&#1089;&#1091;&#1083;&#1100;&#1090;&#1072;&#1085;&#1090;.shs" TargetMode="External"/><Relationship Id="rId2" Type="http://schemas.openxmlformats.org/officeDocument/2006/relationships/hyperlink" Target="file:///&#1055;&#1088;&#1080;&#1074;&#1077;&#1076;&#1091;%20&#1087;&#1088;&#1080;&#1084;&#1077;&#1088;%20&#1090;&#1072;&#1082;&#1086;&#1081;%20&#1089;&#1072;&#1084;&#1086;&#1089;&#1090;&#1086;&#1103;&#1090;&#1077;&#1083;&#1100;&#1085;&#1086;&#1081;%20&#1088;&#1072;&#1073;&#1086;&#1090;&#1099;.doc" TargetMode="External"/><Relationship Id="rId3" Type="http://schemas.openxmlformats.org/officeDocument/2006/relationships/hyperlink" Target="file:///&#1055;&#1088;&#1080;&#1074;&#1077;&#1076;&#1091;%20&#1087;&#1088;&#1080;&#1084;&#1077;&#1088;%20&#1090;&#1072;&#1082;&#1086;&#1081;%20&#1089;&#1072;&#1084;&#1086;&#1089;&#1090;&#1086;&#1103;&#1090;&#1077;&#1083;&#1100;&#1085;&#1086;&#1081;%20&#1088;&#1072;&#1073;&#1086;&#1090;&#1099;.doc" TargetMode="External"/><Relationship Id="rId4" Type="http://schemas.openxmlformats.org/officeDocument/2006/relationships/hyperlink" Target="file:///&#1055;&#1088;&#1080;&#1074;&#1077;&#1076;&#1091;%20&#1087;&#1088;&#1080;&#1084;&#1077;&#1088;%20&#1090;&#1072;&#1082;&#1086;&#1081;%20&#1089;&#1072;&#1084;&#1086;&#1089;&#1090;&#1086;&#1103;&#1090;&#1077;&#1083;&#1100;&#1085;&#1086;&#1081;%20&#1088;&#1072;&#1073;&#1086;&#1090;&#1099;.doc" TargetMode="External"/><Relationship Id="rId5" Type="http://schemas.openxmlformats.org/officeDocument/2006/relationships/hyperlink" Target="file:///&#1055;&#1088;&#1080;&#1074;&#1077;&#1076;&#1091;%20&#1087;&#1088;&#1080;&#1084;&#1077;&#1088;%20&#1086;&#1076;&#1085;&#1086;&#1075;&#1086;%20&#1074;&#1072;&#1088;&#1080;&#1072;&#1085;&#1090;&#1072;%20&#1082;&#1086;&#1085;&#1090;&#1088;&#1086;&#1083;&#1100;&#1085;&#1086;&#1081;%20&#1088;&#1072;&#1073;&#1086;&#1090;&#1099;.doc" TargetMode="External"/><Relationship Id="rId6" Type="http://schemas.openxmlformats.org/officeDocument/2006/relationships/hyperlink" Target="file:///&#1076;&#1080;&#1092;&#1092;&#1077;&#1088;&#1077;&#1085;&#1094;&#1080;&#1088;&#1086;&#1074;&#1072;&#1085;&#1085;&#1086;&#1077;%20&#1076;&#1086;&#1084;&#1072;&#1096;&#1085;&#1077;&#1077;%20&#1079;&#1072;&#1076;&#1072;&#1085;&#1080;&#1077;%20&#1087;&#1086;%20&#1090;&#1077;&#1084;&#1077;.doc" TargetMode="External"/><Relationship Id="rId7" Type="http://schemas.openxmlformats.org/officeDocument/2006/relationships/hyperlink" Target="file:///&#1076;&#1080;&#1092;&#1092;&#1077;&#1088;&#1077;&#1085;&#1094;&#1080;&#1088;&#1086;&#1074;&#1072;&#1085;&#1085;&#1086;&#1077;%20&#1076;&#1086;&#1084;&#1072;&#1096;&#1085;&#1077;&#1077;%20&#1079;&#1072;&#1076;&#1072;&#1085;&#1080;&#1077;%20&#1087;&#1086;%20&#1090;&#1077;&#1084;&#1077;.doc" TargetMode="External"/><Relationship Id="rId8" Type="http://schemas.openxmlformats.org/officeDocument/2006/relationships/hyperlink" Target="file:///&#1076;&#1080;&#1092;&#1092;&#1077;&#1088;&#1077;&#1085;&#1094;&#1080;&#1088;&#1086;&#1074;&#1072;&#1085;&#1085;&#1086;&#1077;%20&#1076;&#1086;&#1084;&#1072;&#1096;&#1085;&#1077;&#1077;%20&#1079;&#1072;&#1076;&#1072;&#1085;&#1080;&#1077;%20&#1087;&#1086;%20&#1090;&#1077;&#1084;&#1077;.doc" TargetMode="External"/><Relationship Id="rId9" Type="http://schemas.openxmlformats.org/officeDocument/2006/relationships/hyperlink" Target="file:///&#1060;&#1088;&#1072;&#1075;&#1084;&#1077;&#1085;&#1090;%20&#1044;&#1086;&#1082;&#1091;&#1084;&#1077;&#1085;&#1090;%20&apos;&#1050;&#1072;&#1088;&#1090;&#1086;&#1095;&#1082;&#1072;%20&#1091;&#1089;&#1090;&#1085;&#1086;&#1075;&#1086;...&apos;.shs" TargetMode="External"/><Relationship Id="rId10" Type="http://schemas.openxmlformats.org/officeDocument/2006/relationships/hyperlink" Target="file:///&#1060;&#1088;&#1072;&#1075;&#1084;&#1077;&#1085;&#1090;%20&#1044;&#1086;&#1082;&#1091;&#1084;&#1077;&#1085;&#1090;%20&apos;&#1050;&#1072;&#1088;&#1090;&#1086;&#1095;&#1082;&#1072;%20&#1091;&#1089;&#1090;&#1085;&#1086;&#1075;&#1086;...&apos;.shs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ическая 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777240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Методы дифференцированного и разноуровнего  обучения на      уроках математики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зможности элективных    курсов и круж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учиться решать задачи более высокого уровня слож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владеть рядом технических и интеллектуальных умений на уровне их свободного использова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вести самостоятельный поиск информации, необходимой для подтверждения или опровержения факт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обрести опыт по поиску, систематизации, анализа, классификации информации, использования разнообразных информационных источни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вести небольшое самостоятельное исслед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Методы и средства при дифференциации по уровням усвоения материал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овой метод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здание проблемно-поисковых ситуаций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проектов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делировани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горитмический метод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овую работу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истему подсказок учителя, направленных на активизацию мыслительной деятельности учащих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следовательские метод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ьютер (презентац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Дифференциация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по способу восприят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зуал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цветные мелки, схемы, таблицы, наглядные пособия; самостоятельную работу с текстом;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удиа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беседы, рассказ, устное объяснение;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инестетик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медленную скорость изложения материала, предлагаю опыты, лабораторные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 олимпиад,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7-2008 г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место на муниципальном этапе среди 7 класс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-2009г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место на муниципальном этапе среди 8 класс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сероссийский математический       конкурс «Кенгуру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781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7г- 5 место в районе среди10 классов  (85,12% выполнения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8г-2 место в районе среди 7 классов (95,89% выполнени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 экзам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82600" y="2017800"/>
          <a:ext cx="7772400" cy="4225680"/>
        </p:xfrm>
        <a:graphic>
          <a:graphicData uri="http://schemas.openxmlformats.org/drawingml/2006/table">
            <a:tbl>
              <a:tblPr/>
              <a:tblGrid>
                <a:gridCol w="1943280"/>
                <a:gridCol w="1806480"/>
                <a:gridCol w="1944720"/>
                <a:gridCol w="207792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публикаМарий Э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нурский рай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стаевская средня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/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,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,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/2008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52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91380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29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нципы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т творчества учителя к творчеству учени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едупредить, а не наказать незнание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тивация, а не констатац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ник должен испытать учебный успе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учать школьников на эмоциях радост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ть мотивацию к самостоятельному поиску решений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тойчивое нежелание учителя у школьников – сигнал неблагополучия моей педагогической деятельности, неправильной методики с конкретным ученико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делать главной заповедью своей педагогической деятельности: “Не навреди”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Цель: о</a:t>
            </a: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существление индивидуального подхода к обучающимся  для формирования более высокого уровня овладения материало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дивидуализировать обучение «трудных» и  «одаренных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уществлять органическую связь индивидуальной  и колле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вать логическое мышление ,побуждать  обучающихся к преодолению трудностей в процессе ум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здавать условия для развития познавательной активности, самостоятельности и самооценк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ововведения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нение уровневой дифференци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ормирование мобильных групп с учётом способ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спространение педагогического опы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ahoma"/>
              </a:rPr>
              <a:t>1)Выступление на районном методобъединении  математиков по теме «Дифференциация на уроках математики» 21.03.2008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ahoma"/>
              </a:rPr>
              <a:t>2)Выступление на районном методобъединении математиков по теме «Дифференцированный подход при обучении математики как средство развития творческих  интеллектуальных способностей обучающихся» 25. 08. 2008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ahoma"/>
              </a:rPr>
              <a:t>3)Выступление на районном  конкурсе «Самый классный классный» 30. 03.2007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23068" r="0" b="5786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21035400">
            <a:off x="0" y="692280"/>
            <a:ext cx="55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ученны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ю системы эффективных уроков на основе решения задач Р.Г.Хазанкина 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А. Окуне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деи уровневой дифференциации В.В.Фирсова и Н.П.Гуз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екомендации по рациональному       применению дифференциального подхода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3-4 вариантные задания по степени трудности: облегченный, средний и повышенный ( выбор варианта предоставляется обучающимся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общее для всей группы задание с предложением системы дополнительных заданий всё возрастающей степени труд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) индивидуальные дифференцированные зад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)групповые дифференцированные задания с учётом различной подготовки обучающихся (вариант определяет учитель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)Равноценные двухвариантные задания  по рядам с предложением к каждому варианту системы дополнительных заданий все возрастающей слож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)индивидуальные групповые задания различной степени трудности по уже решенным задачам и пример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омпетенции обучающихся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А – обучающиеся с высоким уровнем знаний и умений;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Б - – обучающиеся с хорошим уровнем знаний и умений;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С – обучающиеся с  минимальным уровнем знаний и умений;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 Д  – обучающиеся не достигшие минимальных знаний и ум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Этапы урок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, где используются                          дифференцируемые методы обуче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ный сче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репление новой тем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стоятельная раб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ная раб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че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машняя работа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иды дифференцируемых задан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карточки-консульта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ного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вариантные самостоятельные работы, отличающиеся содержанием и формой их подачи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1вариант содержит большое количество простых тренировочных упражнений с постепенным пошаговым нарастанием трудност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2 вариант- преобладают задания комбинированного характера, требующие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вязей между отдельными компонентами курс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3 вариант содержит задания, выполнение которых требует применение нестандартных прием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ючевые задачи со схемами их ре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фференциация по способу восприят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варианты контрольных работ, включающие одновременно минимальный, средний, продвинутый уровни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д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иффер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енц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ированная домашняя работа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Разноуровневые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 карточки устного счё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лективные кур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781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Избранные задачи по планиметрии» 8клас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Простейшие задачи аналитической геометрии на плоскости» 8 класс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Самый простой способ решения непростых неравенств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клас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Графики улыбаются» 9 клас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уж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781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Процентные расчеты на каждый день»  8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Функция сложно, просто , интересно» 9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2:25Z</dcterms:created>
  <dc:creator>user</dc:creator>
  <dc:description/>
  <dc:language>en-US</dc:language>
  <cp:lastModifiedBy>Customer</cp:lastModifiedBy>
  <dcterms:modified xsi:type="dcterms:W3CDTF">2010-03-09T18:03:37Z</dcterms:modified>
  <cp:revision>21</cp:revision>
  <dc:subject/>
  <dc:title>       Методическая тема</dc:title>
</cp:coreProperties>
</file>