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E6F-6569-43A8-B163-E040CE91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E99-AE94-42D8-BBAC-D30A350F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C58-3989-4568-BFE1-681C00CD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C19-351A-4561-A295-A8AF3AF0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B43D-E51E-417A-829E-B6516224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C4EA-9594-49C5-AE4E-BF4A6AB7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4F57-6D5D-421D-B0F9-961C2D88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9F34-0A24-4126-8F08-FB52D9FA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26A2-0944-45DA-A653-21E780CC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DC5C-F697-48DA-879A-6F80023D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1DD5-A3E0-48DF-825A-019F9262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869-8BF4-4C8D-B835-A7DC61BE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0BF0-2A58-4BE8-9E55-59CC6110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925B-171F-49E1-A87D-5BABF768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E5C7-4075-4256-A5B1-94F3874E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5BC5-91CB-450B-9B90-A7D493B7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E136-5AE0-4372-98EE-1894FFE5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BEF-908A-4508-9B6B-03E36F33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943-B8EE-43B6-AA3C-7E2D02BE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065-9D9E-43F4-AF0C-7375B5F2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932-8E86-4CA3-9455-30FEDD28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110-D9E9-4396-BA99-05CB1EA2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C00-3BE9-4ACA-9337-439E4F8D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F45-52E4-423C-B10D-735B9844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0799-2759-41F0-818D-CA8640DA70B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D5F2-6B58-4017-BCA0-F3778A47753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ccecff"/>
                </a:solidFill>
                <a:latin typeface="Edwardian Script ITC"/>
              </a:rPr>
              <a:t>My family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rite down the word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o is he or she for you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 _ _ _ _   -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mother`s  husb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_ _ _       -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mother`s sist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 _ _ _ _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 _ _ _ _ -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father`s m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 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_ _ _ _    -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moher`s dought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 _ _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_             -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father`s br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 _ _ _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-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fa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ccecff"/>
                </a:solidFill>
                <a:latin typeface="Arial"/>
              </a:rPr>
              <a:t>Kate` family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n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72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Helen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7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n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35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Davi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4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8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Emm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Kat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ccecff"/>
                </a:solidFill>
                <a:latin typeface="Arial"/>
              </a:rPr>
              <a:t>Say true or false</a:t>
            </a:r>
            <a:r>
              <a:rPr b="0" i="1" lang="ru-RU" sz="72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Kate plays the violi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Jane can da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David can speak five languag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 Kate`s got a baby broth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Emma is older than Ka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08:13:37Z</dcterms:created>
  <dc:creator>tatiana.leonidovna</dc:creator>
  <dc:description/>
  <dc:language>en-US</dc:language>
  <cp:lastModifiedBy>tatiana.leonidovna</cp:lastModifiedBy>
  <dcterms:modified xsi:type="dcterms:W3CDTF">2013-08-29T09:02:50Z</dcterms:modified>
  <cp:revision>2</cp:revision>
  <dc:subject/>
  <dc:title>My family</dc:title>
</cp:coreProperties>
</file>