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8D1-17E2-461E-888B-A88F5D3E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FBE-5009-41F1-B176-C8D9AC7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CA1-1A8E-4C55-AC64-0DF2C136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324-C50F-4D4C-BF43-4929D253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C2B-46FC-4FAD-95E9-50D2A409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3643-E783-47DD-B8D2-A43B2B0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845-58C7-455C-B92F-BB593FA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D7C8-E276-4D3E-97CD-4C1EB291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DF47-3204-4EE2-8746-46B893F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1D9-EF0B-4AF3-94E1-2B54CAF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E35-E364-45B4-8FAC-C84520D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87E-7CCC-48E8-82D4-8B0653B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0B8E-413E-4348-A199-132408D2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25A-DFAD-458A-9FDF-9BE05DD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294-2FA8-4E16-A9D9-0C7F25F9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C1D9-F26D-48CE-ADF0-5F971885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CC4-CB7D-4FB3-A5DC-14727056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D1D-5268-4295-86E4-C71E40A0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4D0-272A-4306-A96E-4288B83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0A2-1A6F-4069-94A8-827A55BB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A65-0C06-45D8-8884-DB9C025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069-B72E-4B42-81BA-37D3780F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F2A-73F0-493C-B0D8-76CBFA7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164-351C-4B83-BB43-A9F275DB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D8B-9753-4E3C-9F79-35807F27A8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22E-7941-49FC-86C9-A970EB2539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</a:t>
            </a: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Опиши Карабаса Барабас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67530" b="62589"/>
          <a:stretch/>
        </p:blipFill>
        <p:spPr>
          <a:xfrm>
            <a:off x="4643280" y="1557360"/>
            <a:ext cx="3167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2823" t="11609" r="1823" b="20832"/>
          <a:stretch/>
        </p:blipFill>
        <p:spPr>
          <a:xfrm>
            <a:off x="4211640" y="189000"/>
            <a:ext cx="53989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cunni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67922" t="0" r="0" b="60659"/>
          <a:stretch/>
        </p:blipFill>
        <p:spPr>
          <a:xfrm>
            <a:off x="4859280" y="1844640"/>
            <a:ext cx="3129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32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125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1125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1125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1125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1125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Cunning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273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    cunn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201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48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                    is    n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48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                     is    sa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52256" t="30262" r="0" b="0"/>
          <a:stretch/>
        </p:blipFill>
        <p:spPr>
          <a:xfrm>
            <a:off x="3203640" y="3357720"/>
            <a:ext cx="15127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работка фонетического материа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навыков чт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навыков устной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ведение нового лексического материа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работка лексического и грамматического материа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99640" y="2852280"/>
            <a:ext cx="7559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                  is    stron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124000" y="290664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d         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плохой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Ugly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        страшный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rave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      храбрый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      веселый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иши Карабаса Бараба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>
            <a:lum contrast="48000"/>
          </a:blip>
          <a:srcRect l="47983" t="32293" r="8449" b="21462"/>
          <a:stretch/>
        </p:blipFill>
        <p:spPr>
          <a:xfrm>
            <a:off x="2268360" y="1989000"/>
            <a:ext cx="42498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1342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   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is  not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can 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can not … 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likes  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does not  like …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>
            <a:lum contrast="48000"/>
          </a:blip>
          <a:srcRect l="47983" t="32293" r="8449" b="21462"/>
          <a:stretch/>
        </p:blipFill>
        <p:spPr>
          <a:xfrm>
            <a:off x="250920" y="981000"/>
            <a:ext cx="3889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) Упр. 4 стр. 8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) Написать по строчке новы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   end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Bb   Cc   Dd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E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f    Gg    Hh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Ii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Jj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k    Ll    Mm    Nn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p   Qq   Rr   Ss   Tt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u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Vv   Ww   Xx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Y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umb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    2    3    4    5   6    7    8    9   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    5   10   4   8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437400" indent="-437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7    9    6    1   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6000"/>
          </a:blip>
          <a:srcRect l="47060" t="42126" r="29133" b="18489"/>
          <a:stretch/>
        </p:blipFill>
        <p:spPr>
          <a:xfrm>
            <a:off x="5148360" y="1773360"/>
            <a:ext cx="3097080" cy="3843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чимся чита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ad                       K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t                       na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t                       sk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t                       bra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n                       ga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6000"/>
          </a:blip>
          <a:srcRect l="47060" t="42126" r="29133" b="18489"/>
          <a:stretch/>
        </p:blipFill>
        <p:spPr>
          <a:xfrm>
            <a:off x="5003640" y="1773360"/>
            <a:ext cx="3097440" cy="3843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чимся чита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d                       Ki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ig                       lik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                       fi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t                       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x                  crocodi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bright="6000"/>
          </a:blip>
          <a:srcRect l="47060" t="42126" r="29133" b="18489"/>
          <a:stretch/>
        </p:blipFill>
        <p:spPr>
          <a:xfrm>
            <a:off x="5076720" y="1700280"/>
            <a:ext cx="3097440" cy="3843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чимся чита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ot                       n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g                       r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m                      ho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t                       n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x                       g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илагательные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appy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1052640"/>
            <a:ext cx="1150920" cy="108108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141720"/>
            <a:ext cx="1150920" cy="108108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30:26Z</dcterms:created>
  <dc:creator>Кутрова </dc:creator>
  <dc:description/>
  <dc:language>en-US</dc:language>
  <cp:lastModifiedBy>Кутрова </cp:lastModifiedBy>
  <dcterms:modified xsi:type="dcterms:W3CDTF">2009-04-16T17:04:17Z</dcterms:modified>
  <cp:revision>2</cp:revision>
  <dc:subject/>
  <dc:title>Тема урока: Опиши Карабаса Барабаса.</dc:title>
</cp:coreProperties>
</file>