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600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44400" y="1069560"/>
            <a:ext cx="446868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8637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7040" y="4928040"/>
            <a:ext cx="8637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2880" y="216972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7040" y="492804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12880" y="492804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27810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7360" y="2169720"/>
            <a:ext cx="27810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28040" y="2169720"/>
            <a:ext cx="27810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7040" y="4928040"/>
            <a:ext cx="27810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7360" y="4928040"/>
            <a:ext cx="27810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28040" y="4928040"/>
            <a:ext cx="27810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7040" y="2169720"/>
            <a:ext cx="8637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8637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42148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12880" y="2169720"/>
            <a:ext cx="42148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7040" y="815760"/>
            <a:ext cx="86374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2880" y="2169720"/>
            <a:ext cx="42148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7040" y="492804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42148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2880" y="216972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2880" y="492804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7040" y="216972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2880" y="2169720"/>
            <a:ext cx="42148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7040" y="4928040"/>
            <a:ext cx="8637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7040" y="2169720"/>
            <a:ext cx="8637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7040" y="858600"/>
            <a:ext cx="86374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я общественного ци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7040" y="227016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7884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ОУ СОШ №2 с УИОП п. Восточны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7040" y="858600"/>
            <a:ext cx="86374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мзина Светлана Пет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ий педагогический институт им.В.И.Ленина — 197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а в школе в 1985-2007 г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673600" y="2455920"/>
            <a:ext cx="350208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я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87040" y="227016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7884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лоскова Марина Леонид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ринова Нелли Иван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лин Виктор Александрови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лина Наталия Виктор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альчикова Ольга Виктор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оскова Марин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63640" y="2734920"/>
            <a:ext cx="423864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ое культпросвет училище — 198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ет в школе с 198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13240" y="2227320"/>
            <a:ext cx="42148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45047" t="24944" r="35038" b="44901"/>
          <a:stretch/>
        </p:blipFill>
        <p:spPr>
          <a:xfrm>
            <a:off x="5364000" y="2376360"/>
            <a:ext cx="39592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7400" y="770040"/>
            <a:ext cx="863928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нова Нелли Иван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7400" y="2170080"/>
            <a:ext cx="42148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овский педагогический институт им. Н.К.Крупской — 198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ет в школе с 198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13240" y="2170080"/>
            <a:ext cx="42148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н Виктор  Александр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овский педагогический институт им. Короленко — 197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 в школе в 1991-1993 г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11760" y="2376360"/>
            <a:ext cx="32511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7040" y="858600"/>
            <a:ext cx="86374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на Наталия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овский педагогический институт им. Короленко — 197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а в школе в 1990-1993 г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64160" y="2627280"/>
            <a:ext cx="361332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7040" y="858600"/>
            <a:ext cx="86374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ьчикова Ольга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87400" y="2227320"/>
            <a:ext cx="42148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овский педагогический институт им. Короленко — 198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 в школе в 1991-1993 г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4921" b="0"/>
          <a:stretch/>
        </p:blipFill>
        <p:spPr>
          <a:xfrm>
            <a:off x="5830920" y="2376360"/>
            <a:ext cx="34052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7040" y="858600"/>
            <a:ext cx="86374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87040" y="227016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78840" bIns="0" anchor="ctr">
            <a:no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лоскова Марина Леонид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нев Анатолий Павлови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угина Людмила Анатолье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ансурбаев Валентин Сергееви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Шиляева Любовь Александр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оскова Марин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ий педагогический институт им.В.И.Ленина — 198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ет в школе с 198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5016" t="5014" r="40019" b="75207"/>
          <a:stretch/>
        </p:blipFill>
        <p:spPr>
          <a:xfrm>
            <a:off x="5364000" y="2376360"/>
            <a:ext cx="39592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7040" y="815760"/>
            <a:ext cx="8637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нев Анатолий Пав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81640" y="2455920"/>
            <a:ext cx="3841560" cy="4600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4360" y="2555640"/>
            <a:ext cx="405900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ий педагогический институт им.В.И.Ленина — 197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 в школе в 1985-86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7040" y="858600"/>
            <a:ext cx="86374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гина Людмила Анатоль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ий педагогический институт им.В.И.Ленина — 197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а в школе в 1985-1986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43440" y="2627280"/>
            <a:ext cx="3613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7040" y="798120"/>
            <a:ext cx="8637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нсурбаев Валентин Серг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3640" y="2734920"/>
            <a:ext cx="42386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опавловский педагогический институт — 198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 в школе в 1986-2005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43440" y="2455920"/>
            <a:ext cx="343224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7040" y="798120"/>
            <a:ext cx="8637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ляева Любовь Александ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ий педагогический институт им.В.И.Ленина — 199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а в школе в 1991-2007 год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4160" y="2111400"/>
            <a:ext cx="37926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7040" y="798120"/>
            <a:ext cx="8637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я, экономика, крае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87040" y="227016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7884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еванова Татьяна Владимир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омзина Светлана Петр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7040" y="798120"/>
            <a:ext cx="8637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ванова Татьяна Владими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740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овский педагогический институт им.В.И.Ленина — 1984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ет в школе с 198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3240" y="2226960"/>
            <a:ext cx="4214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0031" t="19957" r="50052" b="49895"/>
          <a:stretch/>
        </p:blipFill>
        <p:spPr>
          <a:xfrm>
            <a:off x="5478480" y="2376360"/>
            <a:ext cx="3846600" cy="4680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36:13Z</dcterms:created>
  <dc:creator/>
  <dc:description/>
  <dc:language>en-US</dc:language>
  <cp:lastModifiedBy/>
  <dcterms:modified xsi:type="dcterms:W3CDTF">2010-04-22T16:54:37Z</dcterms:modified>
  <cp:revision>2</cp:revision>
  <dc:subject/>
  <dc:title/>
</cp:coreProperties>
</file>