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4EC-EC25-46F3-88D3-3186FBAE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146-289C-4C7F-8DA5-50BC7045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253-3A1F-40DD-9829-486BF616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16C-54D6-4F77-85D4-EDEA896A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6196-A705-44EC-B056-966D5BD6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B9E5-C4B6-4B54-9159-CECECE59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6DE8-3966-44D4-B7F4-A15E4EDC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A389-28C8-4EB9-9575-48CC5D73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CDEA-13FE-43EB-9D89-39975A15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06F8-4B92-4F83-9E79-5C04B7B6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C82B-4EA3-48F5-84E4-ECE11B28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A97-555C-4A3F-AEA2-9B9AB0C2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09DF-455E-487B-9C00-85CE2FA1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755C-77D7-49AF-99E7-7D7CE513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F604-6303-48BB-B7F3-14B51AEC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3D35-3D03-49CC-9D30-A1970D83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A143-B0AF-4BE5-A627-2282F67B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692-DEE2-4A22-897C-E9C099F6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008-20AF-4D0B-B272-7117E863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CFF-0513-4C17-A912-2553DC7C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2B8-1C60-4045-84C5-4E2AEDFB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328-6A1E-46D1-87D3-7AD7FC1C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705-F6C2-4EA5-9997-75BDF9FA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C95-796E-4AA2-92E3-D9A63CD2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9D36-6F89-415F-A1F2-4B4C5552C54B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E546-1369-4255-ACAE-B91E4723F155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Профилактика синдрома эмоционального выгорания педагогов.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1760" y="5589720"/>
            <a:ext cx="44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2d1c"/>
                </a:solidFill>
                <a:latin typeface="Arial"/>
              </a:rPr>
              <a:t>Педагог-психолог Веневитинов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4104"/>
                </a:solidFill>
                <a:latin typeface="Arial"/>
              </a:rPr>
              <a:t>В целях профилактики СЭВ: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174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Стараться рассчитывать и обдуманно распределять свои нагрузки;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f174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Учиться переключаться с одного вида деятельности на другой;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f174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Проще относиться к конфликтам на работе;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f174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Не пытаться быть лучшим всегда и во всем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0752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4104"/>
                </a:solidFill>
                <a:latin typeface="Arial"/>
              </a:rPr>
              <a:t>Качества, помогающие педагогу избежать профессионального выгорания</a:t>
            </a:r>
            <a:br>
              <a:rPr sz="4000"/>
            </a:br>
            <a:endParaRPr b="0" lang="en-US" sz="28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91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f174a"/>
                </a:solidFill>
                <a:latin typeface="Times New Roman"/>
              </a:rPr>
              <a:t>Во-первых:</a:t>
            </a: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174a"/>
                </a:solidFill>
                <a:latin typeface="Times New Roman"/>
              </a:rPr>
              <a:t>хорошее здоровье и сознательная, целенаправленная забота о своем физическом состоянии (постоянные занятия спортом, здоровый образ жизни);</a:t>
            </a: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174a"/>
                </a:solidFill>
                <a:latin typeface="Times New Roman"/>
              </a:rPr>
              <a:t>высокая самооценка и уверенность в себе, своих способностях и возможностях.</a:t>
            </a: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f174a"/>
                </a:solidFill>
                <a:latin typeface="Times New Roman"/>
              </a:rPr>
              <a:t>Во-вторых:</a:t>
            </a: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174a"/>
                </a:solidFill>
                <a:latin typeface="Times New Roman"/>
              </a:rPr>
              <a:t>опыт успешного преодоления профессионального стресса (нужно решить свою проблему) </a:t>
            </a: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174a"/>
                </a:solidFill>
                <a:latin typeface="Times New Roman"/>
              </a:rPr>
              <a:t>способность конструктивно меняться в напряженных условиях (изменить отношение к проблеме);</a:t>
            </a: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174a"/>
                </a:solidFill>
                <a:latin typeface="Times New Roman"/>
              </a:rPr>
              <a:t>высокая мобильность;</a:t>
            </a: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174a"/>
                </a:solidFill>
                <a:latin typeface="Times New Roman"/>
              </a:rPr>
              <a:t>открытость;</a:t>
            </a: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174a"/>
                </a:solidFill>
                <a:latin typeface="Times New Roman"/>
              </a:rPr>
              <a:t>общительность;</a:t>
            </a: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174a"/>
                </a:solidFill>
                <a:latin typeface="Times New Roman"/>
              </a:rPr>
              <a:t>стремление опираться на собственные силы.</a:t>
            </a: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f174a"/>
                </a:solidFill>
                <a:latin typeface="Times New Roman"/>
              </a:rPr>
              <a:t>В-третьих:</a:t>
            </a: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174a"/>
                </a:solidFill>
                <a:latin typeface="Times New Roman"/>
              </a:rPr>
              <a:t>способность формировать и поддерживать в себе позитивные, оптимистичные установки и ценности — как в отношении самих себя, так</a:t>
            </a:r>
            <a:r>
              <a:rPr b="0" lang="en-US" sz="2000" spc="-1" strike="noStrike">
                <a:solidFill>
                  <a:srgbClr val="5f174a"/>
                </a:solidFill>
                <a:latin typeface="Times New Roman"/>
              </a:rPr>
              <a:t> и других людей и жизни вообще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f174a"/>
                </a:solidFill>
                <a:latin typeface="Times New Roman"/>
              </a:rPr>
              <a:t>Саморегуляция</a:t>
            </a: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 — это управление своим психоэмоциональным состоянием, которое достигается путем воздействия человека на самого себя с помощью слов, мысленных образов, управления мышечным тонусом и дыханием.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f174a"/>
                </a:solidFill>
                <a:latin typeface="Times New Roman"/>
              </a:rPr>
              <a:t>Релаксация</a:t>
            </a: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 — это метод, с помощью которого можно частично или полностью избавляться от физического или психического напряжения.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042920" y="4724280"/>
            <a:ext cx="68421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4104"/>
                </a:solidFill>
                <a:latin typeface="Arial"/>
              </a:rPr>
              <a:t>Способы саморегуляции</a:t>
            </a:r>
            <a:endParaRPr b="0" lang="en-US" sz="32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1. Активация чувства юмора (попытаться увидеть комическое даже в сложной, серьёзной ситуации):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- мысленно комментировать происходящее бодрым голосом спортивного комментатора;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- мысленно представить агрессивного партнёра в комической ситуации (как бы он выглядел в этом состоянии на пляже, в клетке зоопарка, в детской шапочке, с ушами Чебурашки и т.д.)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2. Считать до 10, прежде чем совершить ответное действие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3. Самоубеждение, самоприказы, вызывающие спокойное состояние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4. Уйти из ситуации. Сменить обстановку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5. Сконцентрировать своё внимание на чём-то: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- рассматривать какой-нибудь предмет и мысленно его описывать;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- прислушаться к звукам за окном;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- сосредоточиться на своих телесных ощущениях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6. Самоконтроль эмоционального состояния по внешним выражениям эмоций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174a"/>
                </a:solidFill>
                <a:latin typeface="Times New Roman"/>
              </a:rPr>
              <a:t>7. Использование образов концентрации и визуализации – сосредоточение внимания и воображения на определённом объекте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028000" y="3284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4104"/>
                </a:solidFill>
                <a:latin typeface="Arial"/>
              </a:rPr>
              <a:t>ПАМЯТКА ПЕДАГОГУ</a:t>
            </a:r>
            <a:endParaRPr b="0" lang="en-US" sz="32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174a"/>
                </a:solidFill>
                <a:latin typeface="Times New Roman"/>
              </a:rPr>
              <a:t>НЕ скрывайте свои чувства. Проявляйте ваши эмоции и давайте вашим друзьям обсуждать их вместе с вами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174a"/>
                </a:solidFill>
                <a:latin typeface="Times New Roman"/>
              </a:rPr>
              <a:t>НЕ избегайте говорить о том, что случилось. Используйте каждую возможность пересмотреть свой опыт наедине с собой или вместе с другими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174a"/>
                </a:solidFill>
                <a:latin typeface="Times New Roman"/>
              </a:rPr>
              <a:t>НЕ позволяйте вашему чувству стеснения останавливать вас, когда другие предоставляют вам шанс говорить или предлагают помощь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174a"/>
                </a:solidFill>
                <a:latin typeface="Times New Roman"/>
              </a:rPr>
              <a:t>НЕ ожидайте, что тяжелые состояния, характерные для выгорания, уйдут сами по себе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174a"/>
                </a:solidFill>
                <a:latin typeface="Times New Roman"/>
              </a:rPr>
              <a:t>Если не предпринимать мер, они будут посещать вас в течение длительного времени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174a"/>
                </a:solidFill>
                <a:latin typeface="Times New Roman"/>
              </a:rPr>
              <a:t>Выделяйте достаточное время для сна, отдыха, размышлений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174a"/>
                </a:solidFill>
                <a:latin typeface="Times New Roman"/>
              </a:rPr>
              <a:t>Проявляйте ваши желания прямо, ясно и честно, говорите о них семье, друзьям и на работе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174a"/>
                </a:solidFill>
                <a:latin typeface="Times New Roman"/>
              </a:rPr>
              <a:t>Постарайтесь сохранять нормальный распорядок вашей жизни, насколько это возможно.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500" spc="-1" strike="noStrike">
                <a:solidFill>
                  <a:srgbClr val="5f174a"/>
                </a:solidFill>
                <a:latin typeface="Times New Roman"/>
              </a:rPr>
              <a:t>Спасибо за внимание !</a:t>
            </a:r>
            <a:endParaRPr b="0" lang="en-US" sz="75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11918" t="2740" r="11918" b="0"/>
          <a:stretch/>
        </p:blipFill>
        <p:spPr>
          <a:xfrm>
            <a:off x="1908000" y="3645000"/>
            <a:ext cx="5472360" cy="29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Одной из профессиональных проблем, связанных со здоровьем педагогов, является так называемое </a:t>
            </a:r>
            <a:r>
              <a:rPr b="1" lang="en-US" sz="3200" spc="-1" strike="noStrike">
                <a:solidFill>
                  <a:srgbClr val="5f174a"/>
                </a:solidFill>
                <a:latin typeface="Times New Roman"/>
              </a:rPr>
              <a:t>«выгорание»</a:t>
            </a: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. Часто его называют  «эмоциональным» или «профессиональным выгоранием»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71760" y="2491920"/>
            <a:ext cx="5486400" cy="3194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5660640"/>
            <a:ext cx="864216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1544"/>
                </a:solidFill>
                <a:latin typeface="Times New Roman"/>
              </a:rPr>
              <a:t>Проявляется нарастающим  эмоциональным истощением.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684360" y="333000"/>
            <a:ext cx="77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1544"/>
                </a:solidFill>
                <a:latin typeface="Times New Roman"/>
                <a:ea typeface="Times New Roman"/>
              </a:rPr>
              <a:t>Синдром эмоционального выгорания (СЭВ) введён американским психиатром Фрейденбергом в 1974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http://sz289.files.wordpress.com/2010/03/00036148.jpg?w=300&amp;h=242"/>
          <p:cNvPicPr/>
          <p:nvPr/>
        </p:nvPicPr>
        <p:blipFill>
          <a:blip r:embed="rId3"/>
          <a:stretch/>
        </p:blipFill>
        <p:spPr>
          <a:xfrm>
            <a:off x="1979640" y="1773360"/>
            <a:ext cx="5041800" cy="3798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2520" y="2762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4104"/>
                </a:solidFill>
                <a:latin typeface="Arial"/>
              </a:rPr>
              <a:t>Признаки эмоционального выгорания</a:t>
            </a:r>
            <a:endParaRPr b="0" lang="en-US" sz="36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114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1146"/>
                </a:solidFill>
                <a:latin typeface="Times New Roman"/>
              </a:rPr>
              <a:t>сниженный эмоциональный фон, эмоциональная вялость, отстраненность в общении с окружающими;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114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1146"/>
                </a:solidFill>
                <a:latin typeface="Times New Roman"/>
              </a:rPr>
              <a:t>негативное, подчас циничное отношение как к субъектам профессиональной деятельности (учащимся), так и к коллегам;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114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1146"/>
                </a:solidFill>
                <a:latin typeface="Times New Roman"/>
              </a:rPr>
              <a:t>нарастающее безразличие к своим должностным обязанностям, снижение трудовой активности и мотивации;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114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1146"/>
                </a:solidFill>
                <a:latin typeface="Times New Roman"/>
              </a:rPr>
              <a:t>ощущение собственной профессиональной несостоятельности и неудовлетворенности работой;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8920" y="1341360"/>
            <a:ext cx="42483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3114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1146"/>
                </a:solidFill>
                <a:latin typeface="Times New Roman"/>
              </a:rPr>
              <a:t>немотивированная или неадекватная агрессивность, недовольство собой и окружающими;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27640" y="1268280"/>
            <a:ext cx="446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3114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1146"/>
                </a:solidFill>
                <a:latin typeface="Times New Roman"/>
              </a:rPr>
              <a:t>неадекватная самооценка результатов профессиональной деятельности и снижение персональной ответственности за них;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3114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1146"/>
                </a:solidFill>
                <a:latin typeface="Times New Roman"/>
              </a:rPr>
              <a:t>ухудшение соматического состояния, головные боли, нарушения сна и т.д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3114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1146"/>
                </a:solidFill>
                <a:latin typeface="Times New Roman"/>
              </a:rPr>
              <a:t>снижение качества жизни в целом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2503440" cy="25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85920" y="5143680"/>
            <a:ext cx="620712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4104"/>
                </a:solidFill>
                <a:latin typeface="Arial"/>
              </a:rPr>
              <a:t>Невротические расстройства и психосоматические заболевания</a:t>
            </a:r>
            <a:endParaRPr b="0" lang="en-US" sz="28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57240" y="12142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174a"/>
                </a:solidFill>
                <a:latin typeface="Times New Roman"/>
              </a:rPr>
              <a:t>Невротические расстройства и психосоматические заболевания.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00" name="Рисунок 7" descr="http://diordieva7ana.files.wordpress.com/2009/12/d0b4d0b5d0bfd180d0b5d181d181d0b8d0b2d0bdd0bed0b5-d181d0bed181d182d0bed18fd0bdd0b8d0b5.jpg?w=300&amp;h=218"/>
          <p:cNvPicPr/>
          <p:nvPr/>
        </p:nvPicPr>
        <p:blipFill>
          <a:blip r:embed="rId2"/>
          <a:srcRect l="1562" t="0" r="1562" b="0"/>
          <a:stretch/>
        </p:blipFill>
        <p:spPr>
          <a:xfrm>
            <a:off x="1692360" y="907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4104"/>
                </a:solidFill>
                <a:latin typeface="Arial"/>
              </a:rPr>
              <a:t>Факторы провоцирующие «выгорание»</a:t>
            </a:r>
            <a:endParaRPr b="0" lang="en-US" sz="36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f174a"/>
                </a:solidFill>
                <a:uFillTx/>
                <a:latin typeface="Times New Roman"/>
              </a:rPr>
              <a:t>Внешние факторы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174a"/>
                </a:solidFill>
                <a:latin typeface="Times New Roman"/>
              </a:rPr>
              <a:t>хроническая напряженная психоэмоциональная деятельность;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174a"/>
                </a:solidFill>
                <a:latin typeface="Times New Roman"/>
              </a:rPr>
              <a:t>дестабилизирующая организация деятельности;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174a"/>
                </a:solidFill>
                <a:latin typeface="Times New Roman"/>
              </a:rPr>
              <a:t>повышенная ответственность и самоконтроль;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174a"/>
                </a:solidFill>
                <a:latin typeface="Times New Roman"/>
              </a:rPr>
              <a:t>неблагополучная психологическая атмосфера профессиональной деятельности;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174a"/>
                </a:solidFill>
                <a:latin typeface="Times New Roman"/>
              </a:rPr>
              <a:t>психологически трудный контингент, с которым имеет дело педагог.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4104"/>
                </a:solidFill>
                <a:uFillTx/>
                <a:latin typeface="Arial"/>
              </a:rPr>
              <a:t>Внутренние факторы</a:t>
            </a:r>
            <a:endParaRPr b="0" lang="en-US" sz="32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248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174a"/>
                </a:solidFill>
                <a:latin typeface="Times New Roman"/>
              </a:rPr>
              <a:t>склонность к эмоциональной ригидности;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174a"/>
                </a:solidFill>
                <a:latin typeface="Times New Roman"/>
              </a:rPr>
              <a:t>интенсивное восприятие и переживание обстоятельств, профессиональной деятельности;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174a"/>
                </a:solidFill>
                <a:latin typeface="Times New Roman"/>
              </a:rPr>
              <a:t>слабая мотивация эмоциональной отдачи в профессиональной деятельности;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80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17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174a"/>
                </a:solidFill>
                <a:latin typeface="Times New Roman"/>
              </a:rPr>
              <a:t>нравственные дефекты и дезориентация личности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5724360" y="3645000"/>
            <a:ext cx="264960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174a"/>
                </a:solidFill>
                <a:latin typeface="Times New Roman"/>
              </a:rPr>
              <a:t>Как предотвратить возникновение синдрома эмоционального выгорания?</a:t>
            </a: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3924360" y="4005360"/>
            <a:ext cx="1787400" cy="227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8:01:43Z</dcterms:created>
  <dc:creator>N15</dc:creator>
  <dc:description/>
  <dc:language>en-US</dc:language>
  <cp:lastModifiedBy>Полина Веселовзорова</cp:lastModifiedBy>
  <dcterms:modified xsi:type="dcterms:W3CDTF">2013-01-29T10:13:17Z</dcterms:modified>
  <cp:revision>69</cp:revision>
  <dc:subject/>
  <dc:title>Слайд 1</dc:title>
</cp:coreProperties>
</file>