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5F8-5F29-4337-BBE4-AB88B128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512-D4A3-4017-B993-1CEA6FE0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C82-FA0D-4BA2-841F-475F192C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D53-80A3-4974-8530-D04E37BB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F73-BD00-470F-B917-9B10A617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710-495E-44FC-BC45-D72356CA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E5E-C72B-4D8E-BF42-6208A265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3CD-D5DD-4D53-B0A4-D3AC835F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D63-ECAF-4BC8-8347-7CC0DAC6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7E8-ED20-4EDD-871B-DB41B1F5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638-26C3-49C1-B92A-A00A6B5F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7F0-1C45-4DD6-BD03-DFDF5D56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5304-96D2-4C78-AEAF-9BDC194E7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rchis_italica_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09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Какие растения и животные леса занесены в </a:t>
            </a: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Красную книгу?</a:t>
            </a:r>
            <a:br>
              <a:rPr sz="4800"/>
            </a:b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360" y="5105520"/>
            <a:ext cx="385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овьева 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ца 2 – 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У СОШ №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33"/>
                </a:solidFill>
                <a:latin typeface="Arial"/>
              </a:rPr>
              <a:t>Зуб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80000" y="260280"/>
            <a:ext cx="356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амое крупное травоядное животное. У него тонкий нюх, хорошее зрение и сл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р избежал исчезновения благодаря разведению в неволе (в нашей области – в Вязниковском р - не)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о создание вольных популяций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877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Подумайте, что означают эти экологические зна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129440" cy="4254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48000" y="4076640"/>
            <a:ext cx="4753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Берегите эту землю, эту вод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Даже малую былиночку, люб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Берегите всех зверей внутри приро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Убивайте лишь зверей внутри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Венерин башмач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0" y="1844280"/>
            <a:ext cx="4572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Цветки напоминают башмачок. Владелицей этой необычной "обуви" считается богиня красоты Венера. Поэтому цветок и получил такое название. Яркая окраска и запах привлекают насекомых, которые в поисках нектара забираются внутрь, а выбраться оттуда не так-то про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исленность его сокращается из-за повышенного внимания к красоте цве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храняется в национальном парке «Меще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46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Arial"/>
              </a:rPr>
              <a:t>Ятрышник (лесная фиалк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7280" y="1413000"/>
            <a:ext cx="4259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ение достигает в высоту 20—45 см. Имеет кисти душистых цветов до 10 см. В народной  медицине клубень этого растения широко используется при лечении дизентерии и пищевых отравлени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Причиной сокращения  является вырубка лесов и сбор цветов на бук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ы контроль за состоянием популяций, создание особо охраняемых природных террито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Ятрышни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4083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Ветреница дубрав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Зацветает в апреле – мае. Латинское название ветреницы как раз и означает "ветер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х нещадно рвут по весне. Потянешь чуть сильнее цветок, и можешь вытащить из земли все растеньице - вместе с корневищем.  А молодой цветок зацветет лишь на 10-12-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Следует исключить сбор цветов ранней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762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Arial"/>
              </a:rPr>
              <a:t>Сон - тр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ветки покрыты нежным пухом. Поникшие в начале цветения, кажутся как будто спящими. Отсюда, вероятно, и наз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ми появляются из-под снега, поэтому в народе называют «подснежник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помнить, что все части растения ядовиты. Рвать их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Плотные цветки поворачиваются за солнцем"/>
          <p:cNvPicPr/>
          <p:nvPr/>
        </p:nvPicPr>
        <p:blipFill>
          <a:blip r:embed="rId1"/>
          <a:stretch/>
        </p:blipFill>
        <p:spPr>
          <a:xfrm>
            <a:off x="250920" y="189000"/>
            <a:ext cx="47624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ирает сухие леса  с высокой численностью змей.         Численность вида сокращается из-за массового уничтожения и отлова зме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Необходимы зоны покоя вокруг обитаемых гнез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71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Arial"/>
              </a:rPr>
              <a:t>Малая вечерни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краска тела от рыжевато-коричневой до тёмно-каштановой. Кормится бабочками вскоре после заката солнца и перед рассветом.  Летом поселяется колониями в дуплах деревьев. К исчезновению привели санитарные рубки , при которых убираются дуплистые деревья.</a:t>
            </a:r>
            <a:br>
              <a:rPr sz="2000"/>
            </a:b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  Меры охраны: сохранение старовозрастных участков леса, развеска гнездовых ящиков для летучих мышей в "омоложенных" лес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Черный аис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пная птица размером с журавля, везде очень редка. Обитает в глухих влажных лесах. Гнездится отдельными парами на деревьях, очень осторожна, не выносит беспокойства и сторонитс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нездовья чёрных аистов исчезли  в результате вырубки ольхи и  браконьерского отстрела птиц во время пролё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 поиск мест гнездования чёрного аиста в нашей области, полный запрет вырубок, а также пропаганда охраны вида среди охотник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8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Орлан - белохвос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нездится на высоких деревьях. Гнездо массивное, из толстых сучьев, используется много лет подря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Питается рыбой, водоплавающими птицами, реже — млекопитающими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сокращению численности привела вырубка высокоствольных лесов вблизи водоемов, беспокойство, оскудение кормовой базы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быча запрещена. Необходимы выявление гнездовий орлана -белохвоста и придание им статуса памятников природы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6:57:53Z</dcterms:created>
  <dc:creator>Юлия</dc:creator>
  <dc:description/>
  <dc:language>en-US</dc:language>
  <cp:lastModifiedBy>Юлия</cp:lastModifiedBy>
  <dcterms:modified xsi:type="dcterms:W3CDTF">2009-06-05T18:20:21Z</dcterms:modified>
  <cp:revision>4</cp:revision>
  <dc:subject/>
  <dc:title>Венерин башмачок</dc:title>
</cp:coreProperties>
</file>