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88C3-0C64-4907-8DF4-8729857BD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9429-4F85-4E91-AAB0-9DD3C2ADC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96DB-1687-4134-AA04-F52D625DE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0E78-32D4-441A-ABD5-FAD10A938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EF57-49A1-4A2C-9677-572F16C73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8F6B-025B-4A13-A77E-72B4A8B73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E88C-99B5-4823-8E59-BF1B3A695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324A-1C79-4316-A8AA-1F4A63D7A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590B-EADA-45BA-9B51-F2BC9D04C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30F3-BC4B-4E21-B39D-BD721ACA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50F1-73F1-44E6-AAA6-84A5C0FD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B63F-C148-4F78-992F-754432AF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E5EB8-1527-47FF-BC5F-9EBC72F13F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fotki.yandex.ru/users/ik2704/view/25985/?page=0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827892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9933"/>
                </a:solidFill>
                <a:latin typeface="Arial"/>
              </a:rPr>
              <a:t>Какие растения и животные водоемов занесены</a:t>
            </a:r>
            <a:br>
              <a:rPr sz="5400"/>
            </a:br>
            <a:r>
              <a:rPr b="0" lang="en-US" sz="5400" spc="-1" strike="noStrike">
                <a:solidFill>
                  <a:srgbClr val="339933"/>
                </a:solidFill>
                <a:latin typeface="Arial"/>
              </a:rPr>
              <a:t> в Красную книгу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00"/>
                </a:solidFill>
                <a:latin typeface="Arial"/>
              </a:rPr>
              <a:t>Кузнецов Арт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00"/>
                </a:solidFill>
                <a:latin typeface="Arial"/>
              </a:rPr>
              <a:t>ученик 2 – б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00"/>
                </a:solidFill>
                <a:latin typeface="Arial"/>
              </a:rPr>
              <a:t>МАОУ СОШ №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Береги и охраняй </a:t>
            </a:r>
            <a:br>
              <a:rPr sz="7200"/>
            </a:br>
            <a:br>
              <a:rPr sz="7200"/>
            </a:b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родную природу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916280"/>
            <a:ext cx="5435640" cy="42242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Кувшинка бела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105520" y="1915920"/>
            <a:ext cx="40384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Имеет толстое корневище на глубине 4-5 метров. Цветки всплывают на поверхность и раскрываются рано утром. К вечеру опять прячутся под воду. Загрязнение водоемов, сбор цветов на букеты, заготовка корневищ для лекарств привели к сокращению числен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2276640"/>
            <a:ext cx="5219640" cy="3914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Кубышка (кувшинка желтая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105520" y="177300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е листья похожи ни листья белой кувшинки. Встречается в прудах, озерах и реках со спокойным течением. Цветет в мае – августе. Цветок находится на длинной ножке. Срывая цветок, мы наносим большой вред самому растению, так как через место разрыва вода попадает внутрь. А это приводит к загниванию подводной части растения.                                                                                                                                          Загрязнение водоемов, сбор цветов на букеты привели к сокращению численност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3886200" cy="5113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cc"/>
                </a:solidFill>
                <a:latin typeface="Arial"/>
              </a:rPr>
              <a:t>Купальниц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59280" y="1557000"/>
            <a:ext cx="41054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стречается на сырых лугах около водоемов. Имеет ярко-желтые цве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чины исчезновения: сборы на букеты, раннее сенокош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5292720" cy="39099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518000" y="3429000"/>
            <a:ext cx="108000" cy="360"/>
          </a:xfrm>
          <a:prstGeom prst="rect">
            <a:avLst/>
          </a:prstGeom>
          <a:solidFill>
            <a:srgbClr val="cad3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294922760" rIns="4294922760" tIns="-78840" bIns="-4290681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18000" y="3429000"/>
            <a:ext cx="108000" cy="360"/>
          </a:xfrm>
          <a:prstGeom prst="rect">
            <a:avLst/>
          </a:prstGeom>
          <a:solidFill>
            <a:srgbClr val="cad3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294922760" rIns="4294922760" tIns="-78840" bIns="-4290681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18000" y="3429000"/>
            <a:ext cx="108000" cy="360"/>
          </a:xfrm>
          <a:prstGeom prst="rect">
            <a:avLst/>
          </a:prstGeom>
          <a:solidFill>
            <a:srgbClr val="cad3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294922760" rIns="4294922760" tIns="-78840" bIns="-4290681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cc"/>
                </a:solidFill>
                <a:latin typeface="Arial"/>
              </a:rPr>
              <a:t>Сальвини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03280" y="1628280"/>
            <a:ext cx="4140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носится к семейству папоротниковых. Имеет тонкие стебли с ярко-зелеными листочками, покрытыми волосками.  Подводные листья подобны корешк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лавный фактор сокращения – загрязнение водоем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3887640" cy="54453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4720" y="475920"/>
            <a:ext cx="461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993300"/>
                </a:solidFill>
                <a:latin typeface="Arial"/>
              </a:rPr>
              <a:t>Выдр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00720" y="2133720"/>
            <a:ext cx="464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крупный зверь с гибким телом. Окраска меха сверху темно-бурая, снизу – светлая, серебристая. В речных берегах строит норы с несколькими выходами. Люди усиленно охотились из-за ценной шкурки. Охраняется в Клязьменско - Лухском заказн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4762440" cy="43974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418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3300"/>
                </a:solidFill>
                <a:latin typeface="Arial"/>
              </a:rPr>
              <a:t>Бобр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3280" y="476280"/>
            <a:ext cx="43164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грызун. Его жилище – хатка с входом под водой. В результате хищнического промысла бобр оказался на грани вымирания. Был введен запрет на охоту на бобров. Охраняется в Клязьменско - Лухском заказнике. Основную угрозу  в настоящее время составляют загрязнение воды и сооружение гидроэлектростанций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5261040" cy="39463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9933"/>
                </a:solidFill>
                <a:latin typeface="Arial"/>
              </a:rPr>
              <a:t>Выхухол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05520" y="1773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енный пушной зверек. Мех мягкий, шелковистый. Быстро плавает, хорошо ныряет. Норы делает на берегу с подводным входом. Из-за охоты почти полностью истреблен. Охраняется в Клязьменском и Муромском заказник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2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Какие меры следует предпринять для восстановления численност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3213000"/>
            <a:ext cx="8229600" cy="32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запрет сбора цветов на бук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запрет на охо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охрана мест произрас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охрана водоем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создание заказников по разведению особей в нево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4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4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19:06:34Z</dcterms:created>
  <dc:creator>Юлия</dc:creator>
  <dc:description/>
  <dc:language>en-US</dc:language>
  <cp:lastModifiedBy>Юлия</cp:lastModifiedBy>
  <dcterms:modified xsi:type="dcterms:W3CDTF">2013-10-14T16:40:27Z</dcterms:modified>
  <cp:revision>5</cp:revision>
  <dc:subject/>
  <dc:title>Слайд 1</dc:title>
</cp:coreProperties>
</file>