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5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12BA-E39A-4E73-9527-DE6E7976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2E14-EECC-416A-953F-75548833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A661-B0F6-4AEC-B279-831E61DD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7B08-E2BC-4FDA-935F-AF44B3A3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D8CF-9B82-4DCB-8367-B15C8F30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F606-588C-4C3E-85C6-7A213BA5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3D51-1ED5-4373-AC3A-0BCB8BDD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D795-BA37-4609-AC9B-10809791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AD16-3F6B-4BCA-A58A-944677E1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56A2-F919-4377-B663-619221D3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B680-DC23-48F4-8EFD-6C567B2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3D13-37E4-4DA7-9198-12A0938E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84B9-4468-4B3D-B712-36812AE7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C242-B21E-4BC4-A1BE-56D07F0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B90F-C518-4C38-AD9E-0E2E8A19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0480-32DF-4DD2-BEFF-86B5530C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EA57-59BD-4226-909C-BF60298D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71F7-B279-4208-A85D-F140C5BB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F537-11DD-4589-B805-BFC7D658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E44B-161A-4DB9-A5A7-90B2870E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C53B-2229-4395-9FFF-384C3891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BF0E-326E-4944-983D-10A77BB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1F5A-679F-4CF5-846B-9C6A4DC4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AC7F-0F6C-4E62-B18A-9FBEA9DC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1230-ACDE-4B6F-B33D-7BE508BDF93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15BE-BDBD-4C84-8471-C5FD2006027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713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bat"/>
              </a:rPr>
              <a:t>Проект.</a:t>
            </a:r>
            <a:br>
              <a:rPr sz="8800"/>
            </a:br>
            <a:r>
              <a:rPr b="1" lang="ru-RU" sz="8000" spc="-1" strike="noStrike">
                <a:solidFill>
                  <a:srgbClr val="ff0000"/>
                </a:solidFill>
                <a:latin typeface="Arbat"/>
              </a:rPr>
              <a:t>«Театр – это…»</a:t>
            </a:r>
            <a:br>
              <a:rPr sz="88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684360" y="981000"/>
            <a:ext cx="76388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428760" y="3643200"/>
            <a:ext cx="3135240" cy="300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Кукольный теат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клы -перча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клы- марионе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14240" y="2336760"/>
            <a:ext cx="3214800" cy="387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shat"/>
          <p:cNvPicPr/>
          <p:nvPr/>
        </p:nvPicPr>
        <p:blipFill>
          <a:blip r:embed="rId2"/>
          <a:stretch/>
        </p:blipFill>
        <p:spPr>
          <a:xfrm>
            <a:off x="4071960" y="2357280"/>
            <a:ext cx="485784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59"/>
                </a:solidFill>
                <a:latin typeface="Tahoma"/>
              </a:rPr>
              <a:t>Театр тен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Picture 2" descr="Жан-Люк Пансо — человек-театр. (Фото Виктории Ивлевой)"/>
          <p:cNvPicPr/>
          <p:nvPr/>
        </p:nvPicPr>
        <p:blipFill>
          <a:blip r:embed="rId1"/>
          <a:stretch/>
        </p:blipFill>
        <p:spPr>
          <a:xfrm>
            <a:off x="1000080" y="1500120"/>
            <a:ext cx="7072200" cy="459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59"/>
                </a:solidFill>
                <a:latin typeface="Tahoma"/>
              </a:rPr>
              <a:t>Фойе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066680" y="1643040"/>
            <a:ext cx="701064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59"/>
                </a:solidFill>
                <a:latin typeface="Tahoma"/>
              </a:rPr>
              <a:t>Зрительный за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л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яр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яр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льэтаж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уа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т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643200" y="785880"/>
            <a:ext cx="521496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59"/>
                </a:solidFill>
                <a:latin typeface="Tahoma"/>
              </a:rPr>
              <a:t>Оркестровая ям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2000160" y="1928880"/>
            <a:ext cx="6000840" cy="36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59"/>
                </a:solidFill>
                <a:latin typeface="Tahoma"/>
              </a:rPr>
              <a:t>Занавес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15160" cy="47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59"/>
                </a:solidFill>
                <a:latin typeface="Tahoma"/>
              </a:rPr>
              <a:t>Декор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rcRect l="0" t="0" r="-45" b="-105"/>
          <a:stretch/>
        </p:blipFill>
        <p:spPr>
          <a:xfrm>
            <a:off x="1071720" y="1428840"/>
            <a:ext cx="728640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59"/>
                </a:solidFill>
                <a:latin typeface="Tahoma"/>
              </a:rPr>
              <a:t>Декор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корации для спектакля изготавливаются в  живописно-декорационном цехе по эскизам художн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428840" y="428760"/>
            <a:ext cx="6000840" cy="436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59"/>
                </a:solidFill>
                <a:latin typeface="Tahoma"/>
              </a:rPr>
              <a:t>Бутафор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называются предметы, которые заменяют на сцене настоящие. Бутафорскими могут быть посуда, оружие, мебел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4143240" cy="2714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34290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59"/>
                </a:solidFill>
                <a:latin typeface="Tahoma"/>
              </a:rPr>
              <a:t>Софит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помощью софитов осветители могут изобразить рассвет и закат, вспышки молнии, звёздное небо и многое другое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5557" t="0" r="5557" b="0"/>
          <a:stretch/>
        </p:blipFill>
        <p:spPr>
          <a:xfrm>
            <a:off x="1071720" y="285840"/>
            <a:ext cx="6858000" cy="444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ahoma"/>
              </a:rPr>
              <a:t>ЦЕЛЬ  ПРОЕК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7640" y="2421000"/>
            <a:ext cx="5194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Сформировать понятие о теат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Выяснить,                 как работает теат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j0216516"/>
          <p:cNvPicPr/>
          <p:nvPr/>
        </p:nvPicPr>
        <p:blipFill>
          <a:blip r:embed="rId1"/>
          <a:stretch/>
        </p:blipFill>
        <p:spPr>
          <a:xfrm>
            <a:off x="539640" y="2276640"/>
            <a:ext cx="1820880" cy="2108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j0216516"/>
          <p:cNvPicPr/>
          <p:nvPr/>
        </p:nvPicPr>
        <p:blipFill>
          <a:blip r:embed="rId2"/>
          <a:stretch/>
        </p:blipFill>
        <p:spPr>
          <a:xfrm>
            <a:off x="571680" y="2286000"/>
            <a:ext cx="1820520" cy="2108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j0216516"/>
          <p:cNvPicPr/>
          <p:nvPr/>
        </p:nvPicPr>
        <p:blipFill>
          <a:blip r:embed="rId3"/>
          <a:stretch/>
        </p:blipFill>
        <p:spPr>
          <a:xfrm>
            <a:off x="571680" y="2286000"/>
            <a:ext cx="1820520" cy="210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59"/>
                </a:solidFill>
                <a:latin typeface="Tahoma"/>
              </a:rPr>
              <a:t>Звукооператор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может включить во время спектакля фонограмму: шум дождя или рокот волн, шум толпы или свист ветра- смотря что в это время происходит на сцен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143000" y="1714680"/>
            <a:ext cx="6929280" cy="47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59"/>
                </a:solidFill>
                <a:latin typeface="Tahoma"/>
              </a:rPr>
              <a:t>Гримёр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имёр перед спектаклем накладывает актёрам грим. Опытный мастер может изменить лицо актёра до неузнаваем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3" descr="miller_0101"/>
          <p:cNvPicPr/>
          <p:nvPr/>
        </p:nvPicPr>
        <p:blipFill>
          <a:blip r:embed="rId1"/>
          <a:stretch/>
        </p:blipFill>
        <p:spPr>
          <a:xfrm>
            <a:off x="500040" y="214200"/>
            <a:ext cx="3786120" cy="3214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iller_m"/>
          <p:cNvPicPr/>
          <p:nvPr/>
        </p:nvPicPr>
        <p:blipFill>
          <a:blip r:embed="rId2"/>
          <a:stretch/>
        </p:blipFill>
        <p:spPr>
          <a:xfrm>
            <a:off x="5357880" y="285840"/>
            <a:ext cx="2833560" cy="37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>
            <a:off x="571680" y="3500280"/>
            <a:ext cx="2446200" cy="183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59"/>
                </a:solidFill>
                <a:latin typeface="Tahoma"/>
              </a:rPr>
              <a:t>Актёрам для спектакля  могут понадобиться самые разные костюм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сь костюм сначала должен придумать и нарисовать </a:t>
            </a:r>
            <a:r>
              <a:rPr b="0" lang="ru-RU" sz="1800" spc="-1" strike="noStrike">
                <a:solidFill>
                  <a:srgbClr val="ffff59"/>
                </a:solidFill>
                <a:latin typeface="Tahoma"/>
              </a:rPr>
              <a:t>худож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Затем </a:t>
            </a:r>
            <a:r>
              <a:rPr b="0" lang="ru-RU" sz="1800" spc="-1" strike="noStrike">
                <a:solidFill>
                  <a:srgbClr val="ffff59"/>
                </a:solidFill>
                <a:latin typeface="Tahoma"/>
              </a:rPr>
              <a:t>портны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плотят его в жизнь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стера могут расписать кусок мешковины так, что из зала он будет казаться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гатой парчой или шёлк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3" descr="2"/>
          <p:cNvPicPr/>
          <p:nvPr/>
        </p:nvPicPr>
        <p:blipFill>
          <a:blip r:embed="rId1"/>
          <a:srcRect l="90" t="0" r="90" b="0"/>
          <a:stretch/>
        </p:blipFill>
        <p:spPr>
          <a:xfrm>
            <a:off x="1214280" y="285840"/>
            <a:ext cx="6429600" cy="44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59"/>
                </a:solidFill>
                <a:latin typeface="Tahoma"/>
              </a:rPr>
              <a:t>Режиссёр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н распределяет роли, проводит репетицию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актёрами, объясняет им, как двигаться, говорить, где делать паузу. Режиссёр выбирает , какую пьесу ставить, работает  с художником постановщиком, организует всё, что происходит на сцен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3" descr="еще репетиция"/>
          <p:cNvPicPr/>
          <p:nvPr/>
        </p:nvPicPr>
        <p:blipFill>
          <a:blip r:embed="rId1"/>
          <a:srcRect l="5697" t="0" r="5697" b="0"/>
          <a:stretch/>
        </p:blipFill>
        <p:spPr>
          <a:xfrm>
            <a:off x="1214280" y="214200"/>
            <a:ext cx="6643800" cy="451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59"/>
                </a:solidFill>
                <a:latin typeface="Tahoma"/>
              </a:rPr>
              <a:t>Премьер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конец спектакль готов, и театр приглашает зр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й спектакль называется премьер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3" descr="мазепа в Мариинке"/>
          <p:cNvPicPr/>
          <p:nvPr/>
        </p:nvPicPr>
        <p:blipFill>
          <a:blip r:embed="rId1"/>
          <a:srcRect l="5556" t="0" r="5556" b="0"/>
          <a:stretch/>
        </p:blipFill>
        <p:spPr>
          <a:xfrm>
            <a:off x="1285920" y="357120"/>
            <a:ext cx="6286320" cy="437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Город Кузнец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4286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3643200" y="1357200"/>
            <a:ext cx="5500800" cy="3143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3"/>
          <a:stretch/>
        </p:blipFill>
        <p:spPr>
          <a:xfrm>
            <a:off x="4643280" y="4286160"/>
            <a:ext cx="4143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Остались только фотографии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роительство летнего театра,1897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колов Н.А.- инициатор строительства нового теат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4" descr="C:\Documents and Settings\Валентин\Рабочий стол\ыыыыы\SL743005.JPG"/>
          <p:cNvPicPr/>
          <p:nvPr/>
        </p:nvPicPr>
        <p:blipFill>
          <a:blip r:embed="rId1"/>
          <a:srcRect l="-237" t="0" r="0" b="0"/>
          <a:stretch/>
        </p:blipFill>
        <p:spPr>
          <a:xfrm>
            <a:off x="457200" y="2606760"/>
            <a:ext cx="4040280" cy="30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Валентин\Рабочий стол\ыыыыы\SL742998.JPG"/>
          <p:cNvPicPr/>
          <p:nvPr/>
        </p:nvPicPr>
        <p:blipFill>
          <a:blip r:embed="rId2"/>
          <a:stretch/>
        </p:blipFill>
        <p:spPr>
          <a:xfrm>
            <a:off x="4857840" y="2286000"/>
            <a:ext cx="3071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втор проекта, архитектор здания- Плотицын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5" name="Picture 5" descr="C:\Documents and Settings\Валентин\Рабочий стол\ыыыыы\SL742996.JPG"/>
          <p:cNvPicPr/>
          <p:nvPr/>
        </p:nvPicPr>
        <p:blipFill>
          <a:blip r:embed="rId1"/>
          <a:stretch/>
        </p:blipFill>
        <p:spPr>
          <a:xfrm>
            <a:off x="2871720" y="1857240"/>
            <a:ext cx="32720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Кузнецкий драматический теат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6 декабря 1911 г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дание театра после капитального ремонта , 1955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C:\Documents and Settings\Валентин\Рабочий стол\ыыыыы\SL743010.JPG"/>
          <p:cNvPicPr/>
          <p:nvPr/>
        </p:nvPicPr>
        <p:blipFill>
          <a:blip r:embed="rId1"/>
          <a:stretch/>
        </p:blipFill>
        <p:spPr>
          <a:xfrm>
            <a:off x="214200" y="2786040"/>
            <a:ext cx="4283280" cy="2857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Documents and Settings\Валентин\Рабочий стол\ыыыыы\SL742997.JPG"/>
          <p:cNvPicPr/>
          <p:nvPr/>
        </p:nvPicPr>
        <p:blipFill>
          <a:blip r:embed="rId2"/>
          <a:stretch/>
        </p:blipFill>
        <p:spPr>
          <a:xfrm>
            <a:off x="4645080" y="2685960"/>
            <a:ext cx="4213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Артисты теат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колов Н.А. в роли царя Пав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родная артистка Соколовская А.А., 1909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4" descr="C:\Documents and Settings\Валентин\Рабочий стол\ыыыыы\SL742993.JPG"/>
          <p:cNvPicPr/>
          <p:nvPr/>
        </p:nvPicPr>
        <p:blipFill>
          <a:blip r:embed="rId1"/>
          <a:stretch/>
        </p:blipFill>
        <p:spPr>
          <a:xfrm>
            <a:off x="4645080" y="2357280"/>
            <a:ext cx="3927600" cy="3714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Documents and Settings\Валентин\Рабочий стол\ыыыыы\SL742988.JPG"/>
          <p:cNvPicPr/>
          <p:nvPr/>
        </p:nvPicPr>
        <p:blipFill>
          <a:blip r:embed="rId2"/>
          <a:stretch/>
        </p:blipFill>
        <p:spPr>
          <a:xfrm>
            <a:off x="1069920" y="2174760"/>
            <a:ext cx="28148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ЗАДАЧ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1.Выяснить историю появления театров в Росс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2. Узнать какие бывают теат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3.  Узнать о развитии театрального искусства в городе Кузнец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4.Определить основные театральные профе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5. Составить правила поведения в театр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6. Поставить спектак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Артисты теат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служенная артистка РСФСР Лозицкая Л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рнова З.В.-  режиссёр Кузнецкого Народного ТЮЗа «Мечтатели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7" descr="C:\Documents and Settings\Валентин\Рабочий стол\ыыыыы\SL742990.JPG"/>
          <p:cNvPicPr/>
          <p:nvPr/>
        </p:nvPicPr>
        <p:blipFill>
          <a:blip r:embed="rId1"/>
          <a:stretch/>
        </p:blipFill>
        <p:spPr>
          <a:xfrm>
            <a:off x="5143680" y="2257560"/>
            <a:ext cx="2844720" cy="395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C:\Documents and Settings\Валентин\Рабочий стол\ыыыыы\SL742992.JPG"/>
          <p:cNvPicPr/>
          <p:nvPr/>
        </p:nvPicPr>
        <p:blipFill>
          <a:blip r:embed="rId2"/>
          <a:stretch/>
        </p:blipFill>
        <p:spPr>
          <a:xfrm>
            <a:off x="1049400" y="2222640"/>
            <a:ext cx="3093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Театральные афиши, 1908 го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2" name="Picture 2" descr="C:\Documents and Settings\Валентин\Рабочий стол\театр откр урок\фото из музея\SL743002.JPG"/>
          <p:cNvPicPr/>
          <p:nvPr/>
        </p:nvPicPr>
        <p:blipFill>
          <a:blip r:embed="rId1"/>
          <a:stretch/>
        </p:blipFill>
        <p:spPr>
          <a:xfrm>
            <a:off x="642960" y="1357200"/>
            <a:ext cx="3397320" cy="453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Валентин\Рабочий стол\театр откр урок\фото из музея\SL743003.JPG"/>
          <p:cNvPicPr/>
          <p:nvPr/>
        </p:nvPicPr>
        <p:blipFill>
          <a:blip r:embed="rId2"/>
          <a:stretch/>
        </p:blipFill>
        <p:spPr>
          <a:xfrm>
            <a:off x="4572000" y="1500120"/>
            <a:ext cx="33973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59"/>
                </a:solidFill>
                <a:latin typeface="Tahoma"/>
              </a:rPr>
              <a:t>ТЮЗ «Мечтатели».</a:t>
            </a:r>
            <a:br>
              <a:rPr sz="4000"/>
            </a:br>
            <a:r>
              <a:rPr b="0" lang="ru-RU" sz="4000" spc="-1" strike="noStrike">
                <a:solidFill>
                  <a:srgbClr val="ffff59"/>
                </a:solidFill>
                <a:latin typeface="Tahoma"/>
              </a:rPr>
              <a:t>Режиссёр- Чернова З.В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.Дмитриева, В.Соколов «Ахи да ох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. Ягдфель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Музыка ночь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рама в пяти картин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7" descr="C:\Documents and Settings\Валентин\Рабочий стол\ыыыыы\SL743038.JPG"/>
          <p:cNvPicPr/>
          <p:nvPr/>
        </p:nvPicPr>
        <p:blipFill>
          <a:blip r:embed="rId1"/>
          <a:stretch/>
        </p:blipFill>
        <p:spPr>
          <a:xfrm>
            <a:off x="4645080" y="2714760"/>
            <a:ext cx="3998880" cy="2950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Documents and Settings\Валентин\Рабочий стол\театр откр урок\фото из музея\SL743019.JPG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ahoma"/>
              </a:rPr>
              <a:t>Театр- студия «БУМ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Режиссёр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Калашников Александр Николае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1523880" y="2852640"/>
            <a:ext cx="7620120" cy="4005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Documents and Settings\Валентин\Рабочий стол\ыыыыы\SL743011.JPG"/>
          <p:cNvPicPr/>
          <p:nvPr/>
        </p:nvPicPr>
        <p:blipFill>
          <a:blip r:embed="rId2"/>
          <a:stretch/>
        </p:blipFill>
        <p:spPr>
          <a:xfrm>
            <a:off x="214200" y="285768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Бумбарамбия</a:t>
            </a:r>
            <a:r>
              <a:rPr b="0" lang="en-US" sz="4200" spc="-1" strike="noStrike">
                <a:solidFill>
                  <a:srgbClr val="ffff59"/>
                </a:solidFill>
                <a:latin typeface="Tahoma"/>
              </a:rPr>
              <a:t>!!!</a:t>
            </a: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4" name="Picture 3" descr="C:\Documents and Settings\Валентин\Рабочий стол\театр откр урок\фото из музея\SL743049.JPG"/>
          <p:cNvPicPr/>
          <p:nvPr/>
        </p:nvPicPr>
        <p:blipFill>
          <a:blip r:embed="rId1"/>
          <a:stretch/>
        </p:blipFill>
        <p:spPr>
          <a:xfrm>
            <a:off x="285840" y="2351160"/>
            <a:ext cx="4209840" cy="3578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Documents and Settings\Валентин\Рабочий стол\театр откр урок\фото из музея\SL743054.JPG"/>
          <p:cNvPicPr/>
          <p:nvPr/>
        </p:nvPicPr>
        <p:blipFill>
          <a:blip r:embed="rId2"/>
          <a:stretch/>
        </p:blipFill>
        <p:spPr>
          <a:xfrm>
            <a:off x="4648320" y="1928880"/>
            <a:ext cx="42098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В театре работают люди разных професс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3492360" y="2781360"/>
            <a:ext cx="2376720" cy="503280"/>
          </a:xfrm>
          <a:custGeom>
            <a:avLst/>
            <a:gdLst>
              <a:gd name="textAreaLeft" fmla="*/ 542520 w 2376720"/>
              <a:gd name="textAreaRight" fmla="*/ 1834200 w 2376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835280" y="3500280"/>
            <a:ext cx="2376360" cy="50328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5148360" y="3500280"/>
            <a:ext cx="2376360" cy="50328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3492360" y="4437000"/>
            <a:ext cx="2376720" cy="503280"/>
          </a:xfrm>
          <a:custGeom>
            <a:avLst/>
            <a:gdLst>
              <a:gd name="textAreaLeft" fmla="*/ 542520 w 2376720"/>
              <a:gd name="textAreaRight" fmla="*/ 1834200 w 2376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5148360" y="5229360"/>
            <a:ext cx="2376360" cy="50328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1835280" y="5229360"/>
            <a:ext cx="2376360" cy="50328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3492360" y="5950080"/>
            <a:ext cx="2376720" cy="503280"/>
          </a:xfrm>
          <a:custGeom>
            <a:avLst/>
            <a:gdLst>
              <a:gd name="textAreaLeft" fmla="*/ 542520 w 2376720"/>
              <a:gd name="textAreaRight" fmla="*/ 1834200 w 2376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6516720" y="4221000"/>
            <a:ext cx="2376360" cy="50328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611280" y="4221000"/>
            <a:ext cx="2376360" cy="50328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611280" y="2781360"/>
            <a:ext cx="2376360" cy="50328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6443640" y="2781360"/>
            <a:ext cx="2376360" cy="50328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924360" y="28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жиссё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971640" y="28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сси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6804000" y="285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рдеробщ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219564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рамату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550872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удож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2195640" y="530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пози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508720" y="530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ореогра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85128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ктё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851280" y="6021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ч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30"/>
          <p:cNvSpPr/>
          <p:nvPr/>
        </p:nvSpPr>
        <p:spPr>
          <a:xfrm>
            <a:off x="971640" y="429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кора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6877080" y="429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рт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2"/>
          <p:cNvSpPr/>
          <p:nvPr/>
        </p:nvSpPr>
        <p:spPr>
          <a:xfrm>
            <a:off x="611280" y="6021360"/>
            <a:ext cx="2376360" cy="50328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43"/>
          <p:cNvSpPr/>
          <p:nvPr/>
        </p:nvSpPr>
        <p:spPr>
          <a:xfrm>
            <a:off x="6588000" y="5950080"/>
            <a:ext cx="2376720" cy="503280"/>
          </a:xfrm>
          <a:custGeom>
            <a:avLst/>
            <a:gdLst>
              <a:gd name="textAreaLeft" fmla="*/ 542520 w 2376720"/>
              <a:gd name="textAreaRight" fmla="*/ 1834200 w 2376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6948360" y="6021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борщ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971640" y="609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ё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WordArt 46"/>
          <p:cNvSpPr txBox="1"/>
          <p:nvPr/>
        </p:nvSpPr>
        <p:spPr>
          <a:xfrm>
            <a:off x="826920" y="1844640"/>
            <a:ext cx="7610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новные театральные профессии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2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4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Правила поведения в театр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Купи билет на спектакль в кассе теат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Сдай верхнюю одежду в гардеро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Покажи билет контролёру и пройди в з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Найди своё место в зале и спокойно жди начала спектак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Во время спектакля не шуми, не мешай другим зрител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Смотри спектакль вниматель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Во время антракта веди себя спокойно, можешь подкрепиться в буфе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Не ешь в зрительном за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Не опаздывай на спектакль после антра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Выражай благодарность артистам аплодисмент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1428840" y="500040"/>
            <a:ext cx="5743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2aa68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2aa68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Наш спектакль</a:t>
            </a:r>
            <a:br>
              <a:rPr sz="4200"/>
            </a:br>
            <a:r>
              <a:rPr b="0" lang="ru-RU" sz="3200" spc="-1" strike="noStrike">
                <a:solidFill>
                  <a:srgbClr val="ffff59"/>
                </a:solidFill>
                <a:latin typeface="Tahoma"/>
              </a:rPr>
              <a:t>«Новые приключения домовёнка Кузьки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42680"/>
            <a:ext cx="4040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7" descr="C:\Documents and Settings\Валентин\Рабочий стол\театр откр урок\фото к сказке\11.jpg"/>
          <p:cNvPicPr/>
          <p:nvPr/>
        </p:nvPicPr>
        <p:blipFill>
          <a:blip r:embed="rId1"/>
          <a:stretch/>
        </p:blipFill>
        <p:spPr>
          <a:xfrm>
            <a:off x="214200" y="1857240"/>
            <a:ext cx="4857840" cy="421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C:\Documents and Settings\Валентин\Рабочий стол\театр откр урок\фото к сказке\9.jpg"/>
          <p:cNvPicPr/>
          <p:nvPr/>
        </p:nvPicPr>
        <p:blipFill>
          <a:blip r:embed="rId2"/>
          <a:stretch/>
        </p:blipFill>
        <p:spPr>
          <a:xfrm>
            <a:off x="5286240" y="1571760"/>
            <a:ext cx="3571920" cy="50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А это наш ДИПЛОМ 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74" name="Picture 4" descr="C:\Documents and Settings\Валентин\Рабочий стол\театр откр урок\фото из музея\SL743071.JPG"/>
          <p:cNvPicPr/>
          <p:nvPr/>
        </p:nvPicPr>
        <p:blipFill>
          <a:blip r:embed="rId1"/>
          <a:stretch/>
        </p:blipFill>
        <p:spPr>
          <a:xfrm>
            <a:off x="1071720" y="1857240"/>
            <a:ext cx="3143160" cy="4714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C:\Documents and Settings\Валентин\Рабочий стол\театр откр урок\фото из музея\SL743047.JPG"/>
          <p:cNvPicPr/>
          <p:nvPr/>
        </p:nvPicPr>
        <p:blipFill>
          <a:blip r:embed="rId2"/>
          <a:stretch/>
        </p:blipFill>
        <p:spPr>
          <a:xfrm>
            <a:off x="4857840" y="1571760"/>
            <a:ext cx="321444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РЕЗУЛЬТАТ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75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Мы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 много нового узнали о теат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Собственными силами поставили спектак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Теперь каждый может продолжить высказывание: « Театр- это 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285840" y="3786120"/>
            <a:ext cx="2786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Ярмарка. Скоморох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428920" y="1285920"/>
            <a:ext cx="4143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ahoma"/>
              </a:rPr>
              <a:t>ВЫВОД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В театре работают люди разных професс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Одни люди участвуют в создании спектакля, другие – помогают в его обслужив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Совместная работа людей всех театральных профессий делает спектакль интересным зрител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ahoma"/>
              </a:rPr>
              <a:t>МЫ ИСПОЛЬЗОВАЛ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Алянский Ю. Азбука театра: 50 маленьких рассказов о театре.- Ленинград: Детская литература, 1986.-143 с., и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Джежелей О.В. Читаем и играем. – М.: Просвещение, 1994. –    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Материалы  муниципального учреждения «Культурно- выставочный центр» города Кузнецка Пензен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Энциклопедия для детей.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[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Том 7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]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. Искусство.    Ч. 3. – М.: Аванта+, 2006. – 62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festival.1september.ru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59"/>
                </a:solidFill>
                <a:latin typeface="Tahoma"/>
              </a:rPr>
              <a:t>http://images.yandex.ru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59"/>
                </a:solidFill>
                <a:latin typeface="Tahoma"/>
              </a:rPr>
              <a:t>МИХЕЕВА О.В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ahoma"/>
              </a:rPr>
              <a:t>Презентацию подготовила учитель начальных классов МБОУ гимназии №1 города Кузнецка Пензен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Знакомство с театр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4" descr="curtains"/>
          <p:cNvPicPr/>
          <p:nvPr/>
        </p:nvPicPr>
        <p:blipFill>
          <a:blip r:embed="rId1"/>
          <a:stretch/>
        </p:blipFill>
        <p:spPr>
          <a:xfrm>
            <a:off x="1785960" y="1571760"/>
            <a:ext cx="478620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59"/>
                </a:solidFill>
                <a:latin typeface="Tahoma"/>
              </a:rPr>
              <a:t>Театр оперы и бале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3" descr="scena"/>
          <p:cNvPicPr/>
          <p:nvPr/>
        </p:nvPicPr>
        <p:blipFill>
          <a:blip r:embed="rId1"/>
          <a:stretch/>
        </p:blipFill>
        <p:spPr>
          <a:xfrm>
            <a:off x="1428840" y="1714680"/>
            <a:ext cx="6072120" cy="41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59"/>
                </a:solidFill>
                <a:latin typeface="Tahoma"/>
              </a:rPr>
              <a:t>Опе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пере не говорят, а поют. То , что исполняет оперный певец , называется ар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575160" y="1214280"/>
            <a:ext cx="5354640" cy="39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59"/>
                </a:solidFill>
                <a:latin typeface="Tahoma"/>
              </a:rPr>
              <a:t>Балет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тисты балета рассказывают  зрителям обо всех событиях  и  отношениях  героев друг с другом  при помощи тан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3500280" y="1071720"/>
            <a:ext cx="5286600" cy="365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59"/>
                </a:solidFill>
                <a:latin typeface="Tahoma"/>
              </a:rPr>
              <a:t>Драматический театр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раматическом театре герои разговарива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 героях и событиях драматург в пьесе рассказывает через диало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3668760" y="1557360"/>
            <a:ext cx="492444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7T18:44:28Z</dcterms:created>
  <dc:creator>user</dc:creator>
  <dc:description/>
  <dc:language>en-US</dc:language>
  <cp:lastModifiedBy>Дом</cp:lastModifiedBy>
  <dcterms:modified xsi:type="dcterms:W3CDTF">2013-10-14T19:24:12Z</dcterms:modified>
  <cp:revision>202</cp:revision>
  <dc:subject/>
  <dc:title>Слайд 1</dc:title>
</cp:coreProperties>
</file>