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669C8-09ED-40D2-8DE8-5DB74F10A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0F7F2-1CDB-4C15-BA5B-20345585D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0CCFE-5741-42FC-B5B4-9ABF91014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B97F4-DE79-4599-B0B9-4195E100F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532FB-4111-427C-B55D-B30582952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C7139-E955-4CDA-A5EB-713A4EE9C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DDC27-7B48-450C-97AC-2358A023A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38CAA-325C-451C-958B-D12414C23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2F4AE-8947-46EF-8E19-3FB5BE982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1208A-0611-424A-84CF-60CC5D98C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1FD94-CA57-41CA-A0B4-FB6213CB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8901F-C4AB-46D5-8B2F-6DE07734A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9675F-F387-407D-9FB4-15EB3B2E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1040F-6A77-4687-BC8E-421C97D9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F8564-5506-413C-A73E-B80C6047C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971BE-95F9-4501-80CC-5E119FB99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3BA2D-C5A7-4CE3-946A-E89AA2038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9AF71-2662-40DF-ABA2-519B99354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8FB15-CBF4-4482-A802-B4F355B88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41772-A019-4541-BD05-BA610EA19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9CE6C-3ABB-4063-88E7-ADF9C0EEF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752EF-6EE1-4209-8E40-2C8339113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BE8A9-8C50-4314-891B-4A13D6E3B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66A02-EFBF-4380-A9A6-9EE3BF8F6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F476C-18ED-4934-BC65-E68FEC02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C17E9-BDB8-450A-9962-D369D529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6C772-C9F7-4560-B57E-5923908A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66D96-A9D4-4179-9F9E-33216C635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1D008-6EA0-4748-8D69-982040C8A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8BAAB-D1D1-441A-AD8D-60BA34023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D65E8-0670-4B49-9614-402953B88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DC252-998E-42C0-B0EB-5142192A9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FB7E6-B368-4D9C-982A-BB1DB3982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61E47-1B69-48D9-B00D-67E1EE7AD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87DF7-3C9E-4719-AB2D-0921F2AC2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77185-4499-4347-B104-1FBD47A8B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7A710-1C64-4344-82B6-3A496833F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D86EA-D6B0-42C5-96CA-55031F01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ABD79-C1C9-4540-AAC9-F220407B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6A699-3BAE-4530-9F57-E69A2545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732FF-5333-427F-91C5-1BBA76156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8AF3B-749D-4D0D-AE3B-A1DA2A36D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26345-E04C-4427-A50D-1556D1B6C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ABD7ED-6B5E-4EFE-8E74-034D4007A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56D1C-E56E-4807-BECA-BD2297009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EBBB03-EA69-40E7-B0D2-5F29A106F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667E28-A178-4E54-B292-AD8143F90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8D9FB0-9BCD-4682-AFBA-FE739010D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AF79F3-4C15-4D07-88B3-A732C3A8F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CB0CC8-390D-45D9-8058-0A9974919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4392C4-C591-4C15-9493-1A032625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EF36BD-EEE9-4F7D-8563-24AC9E5FA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A90899-818F-4148-B23D-1B4B8E5EE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C1B5E3-E122-4A6D-9156-84B5A93DE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74CD23-C129-45F0-BB9B-A142522F2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C070B-697F-454B-A98F-D9E33A975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99B672-518A-4A3A-93EE-B6B2F07E1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DD595-5F6A-4C3D-A2E1-D8E5A9AE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944D3-85ED-4E9B-A9C3-092997BC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1E4C3-51B6-4A93-AB4B-B56A8AEC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767EB-8333-4B7E-86E4-3041E5904C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8B288-B0E5-4657-B587-FED41EF5F6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77E2B-E134-4006-B2AD-EE48E5C787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33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34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5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6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7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8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39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0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3179C-C343-43EF-BBAB-00265DD87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A22BD-4CA9-45FB-A65B-006ADC0B947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Урок русского  языка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во 2 классе</a:t>
            </a:r>
            <a:br>
              <a:rPr sz="3200"/>
            </a:br>
            <a:r>
              <a:rPr b="1" lang="en-US" sz="1800" spc="-1" strike="noStrike">
                <a:solidFill>
                  <a:srgbClr val="e5e5ff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Тема: «Правописание мягкого знака в конце и середине слова перед другими согласными»</a:t>
            </a:r>
            <a:br>
              <a:rPr sz="4400"/>
            </a:br>
            <a:br>
              <a:rPr sz="1800"/>
            </a:b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учитель начальных классов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Кондакова Нина Ивановна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БОУ СОШ №3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г. Усмань  Липецкая  область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7" name="WordArt 4"/>
          <p:cNvSpPr txBox="1"/>
          <p:nvPr/>
        </p:nvSpPr>
        <p:spPr>
          <a:xfrm>
            <a:off x="1042920" y="2560680"/>
            <a:ext cx="6985080" cy="223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лодцы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wheel spokes="2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77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" dur="770" fill="hold"/>
                                        <p:tgtEl>
                                          <p:spTgt spid="2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" dur="77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" dur="77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26" name="Picture 4" descr="l_219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27" name="зыка_-_Чайковсий_-_Вальс_Цветов.mp3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0617" fill="hold"/>
                                        <p:tgtEl>
                                          <p:spTgt spid="2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158550_1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3"/>
          <p:cNvSpPr/>
          <p:nvPr/>
        </p:nvSpPr>
        <p:spPr>
          <a:xfrm>
            <a:off x="2484360" y="692280"/>
            <a:ext cx="424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3399"/>
                </a:solidFill>
                <a:latin typeface="Verdana"/>
              </a:rPr>
              <a:t>зима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2268360" y="2133720"/>
            <a:ext cx="583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3399"/>
                </a:solidFill>
                <a:latin typeface="Verdana"/>
              </a:rPr>
              <a:t>зимний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1835280" y="3573360"/>
            <a:ext cx="590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3399"/>
                </a:solidFill>
                <a:latin typeface="Verdana"/>
              </a:rPr>
              <a:t>зимовать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Rectangle 15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038840" cy="299880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476360" y="4508280"/>
            <a:ext cx="7199280" cy="27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Коньки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038840" cy="29988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1332000" y="450864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Коньки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003640" y="549360"/>
            <a:ext cx="3578400" cy="4103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5584680" y="4957920"/>
            <a:ext cx="212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Снегирь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6920" y="980640"/>
            <a:ext cx="7631280" cy="138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Garamond"/>
              </a:rPr>
              <a:t>Тема </a:t>
            </a:r>
            <a:r>
              <a:rPr b="0" lang="en-US" sz="6000" spc="-1" strike="noStrike">
                <a:solidFill>
                  <a:srgbClr val="ff0066"/>
                </a:solidFill>
                <a:latin typeface="Garamond"/>
              </a:rPr>
              <a:t>урока</a:t>
            </a:r>
            <a:r>
              <a:rPr b="1" lang="en-US" sz="6000" spc="-1" strike="noStrike">
                <a:solidFill>
                  <a:srgbClr val="ff0066"/>
                </a:solidFill>
                <a:latin typeface="Garamond"/>
              </a:rPr>
              <a:t>: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1403280" y="2420640"/>
            <a:ext cx="64008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ffff"/>
                </a:solidFill>
                <a:latin typeface="Garamond"/>
              </a:rPr>
              <a:t>«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Правописание мягкого знака в конце и середине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слова перед другими согласными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7200" spc="-1" strike="noStrike">
                <a:solidFill>
                  <a:srgbClr val="ffffff"/>
                </a:solidFill>
                <a:latin typeface="Garamond"/>
              </a:rPr>
              <a:t>»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394920" y="476280"/>
            <a:ext cx="820908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у нее нет собственного зву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но может влиять на звук, стоящий перед н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не может стоять в начале слов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не имеет заглавной букв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2" name="Picture 4" descr="22bf73e6e4ec[1]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3" name="У леса на опушке.mp3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33596" fill="hold"/>
                                        <p:tgtEl>
                                          <p:spTgt spid="2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Garamond"/>
              </a:rPr>
              <a:t>Игорь поймал на речке пять окуньков.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Garamond"/>
              </a:rPr>
              <a:t>На улице началась сильная метель.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1T08:47:38Z</dcterms:created>
  <dc:creator>Кондаковы</dc:creator>
  <dc:description/>
  <dc:language>en-US</dc:language>
  <cp:lastModifiedBy>Кондаковы</cp:lastModifiedBy>
  <dcterms:modified xsi:type="dcterms:W3CDTF">2013-04-10T18:58:42Z</dcterms:modified>
  <cp:revision>14</cp:revision>
  <dc:subject/>
  <dc:title>Зима  Зимний Зимовать</dc:title>
</cp:coreProperties>
</file>