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gif" ContentType="image/gif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18D-F480-4F8F-B367-BDB247CD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7CA-4457-4262-B94F-03E54CD7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FA4-2679-411F-8E09-2E0C1B64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8F8-5A4A-4C91-BA08-6181777F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6BB6-02ED-4352-8B70-DA6EB034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B8ED-F4CD-43C6-B130-80CEE9D7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DC07-06DB-4B09-916D-E86E2FA3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929-FD38-470C-BB54-3FED163A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1C97-306A-4F2B-8232-B394C7C8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A2BF-1FD2-4FC0-BFE7-18BC0DB6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ECEF-0700-4DA9-83C3-B9CEBAF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A2A-F0D6-4594-94BA-036B7C4C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4831-AED5-440C-A586-8541146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05BE-86E3-43D1-80FA-C8F954B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D6DE-8C5D-42DC-AC2F-2F8D880E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F3A8-0C62-4DFE-B465-9C83C075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CFE2-7003-45F4-8116-FCF9B6F9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123D-5B78-442A-B442-E5137870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A8E6B-8C49-4860-8E41-80751D2D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FA1F-10CC-4FC6-AD0F-B2954E09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8EF4-459A-4679-8FAA-418B91E2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247C-D346-4600-B547-F9E79E73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D50-4B6C-4248-ACE6-4E3DE8CB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0761-289E-4A46-80DE-4685598C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26728-501B-48A1-883A-A5C4403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C293-2F45-4B40-9862-2F3A6ED4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7439-E44B-4212-AB4D-8A695ABD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D141-1AFD-4143-BC1D-30E40885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EADF-0677-44A1-9DA8-6527F857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025A-85B4-4221-8773-F4539686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A1D7-49A9-4E26-8746-45DAD2AC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C3FE-4F0F-4807-9F3E-975F1511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7F07-8155-495D-9DFE-40819158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600-2503-489A-9F8C-7B13730E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4400A-7023-468D-AFC1-A60557DA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2844-3706-4FE1-A335-65B2BBC5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3841A-7086-4B79-BF4C-238AE922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BBD3-74BA-4434-950B-D76C8F81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9404-3134-4118-9886-EC4A2A23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BB50-06F8-4AC4-96E0-98366901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5A28-F4CF-428A-930D-D9E77D47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EB0D-6467-4C4B-A72A-00333958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0B31-ACD0-44D9-920F-899F2494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E3F-D0F4-457C-BA1F-3A355B26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128-1D6F-41D9-BB28-194DD561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24C-D7B7-4D1C-B934-EF04520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662-84D1-45F6-8033-E335F82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CCF-9C33-43FD-A975-936F137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E44A-0720-422A-B060-CC642E608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2003-01CB-4FAD-B5C9-57EB2EF49F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0EB1-2E53-4D5F-942B-FB0A687455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32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134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CB83-88A6-4639-9189-1E58423B6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.photo.tut.ua/shipilovay/539/13948/kos_1776840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0.xm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6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foto.rambler.ru/images/contest/2007/08/20/1187622505_11740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3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epizodsspace.testpilot.ru/bibl/fant/nosov/nezn-na-lune-1967/85.gif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2 апреля 1961 года –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2 апреля 2011 год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20760" y="1428480"/>
            <a:ext cx="8572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ые полеты в космос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тешествие по планетам Солнечной систем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10-2011 учебный г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Рисунок 5" descr="solnet-ee-k1-0z.jpg"/>
          <p:cNvPicPr/>
          <p:nvPr/>
        </p:nvPicPr>
        <p:blipFill>
          <a:blip r:embed="rId1"/>
          <a:stretch/>
        </p:blipFill>
        <p:spPr>
          <a:xfrm>
            <a:off x="468360" y="3284640"/>
            <a:ext cx="328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ервый человек в открытом космосе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лексей Леонов ( март 1965 г. «Восход-2»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2" name="Содержимое 5" descr="космонавт в открытом.jpg"/>
          <p:cNvPicPr/>
          <p:nvPr/>
        </p:nvPicPr>
        <p:blipFill>
          <a:blip r:embed="rId1"/>
          <a:stretch/>
        </p:blipFill>
        <p:spPr>
          <a:xfrm>
            <a:off x="4714920" y="2071800"/>
            <a:ext cx="3575160" cy="452592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7" descr="img.jpg"/>
          <p:cNvPicPr/>
          <p:nvPr/>
        </p:nvPicPr>
        <p:blipFill>
          <a:blip r:embed="rId2"/>
          <a:stretch/>
        </p:blipFill>
        <p:spPr>
          <a:xfrm>
            <a:off x="857160" y="2071800"/>
            <a:ext cx="320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«Луноход - 1» и «Луноход - 2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5" name="Содержимое 4" descr="p2visual.jpg"/>
          <p:cNvPicPr/>
          <p:nvPr/>
        </p:nvPicPr>
        <p:blipFill>
          <a:blip r:embed="rId1"/>
          <a:stretch/>
        </p:blipFill>
        <p:spPr>
          <a:xfrm>
            <a:off x="457200" y="224784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5" descr="cdad0b2fe11cc758a4f5581a0f50ff35.jpg"/>
          <p:cNvPicPr/>
          <p:nvPr/>
        </p:nvPicPr>
        <p:blipFill>
          <a:blip r:embed="rId2"/>
          <a:stretch/>
        </p:blipFill>
        <p:spPr>
          <a:xfrm>
            <a:off x="4786200" y="2214720"/>
            <a:ext cx="39006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дготовка к запуску нашего космического корабля.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859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емля – одна из планет Солнечной систем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олнце – ближайшая к нам звезда, раскалённый шар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Масса Земли в 330 раз больше массы Солнц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пециалистов, изучающих астрономию, называют астронавтам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емля движется вокруг Солнц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Наблюдать за Солнцем можно даже днём, глядя в бинокль или телескоп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611280" y="1341360"/>
            <a:ext cx="3585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012000" y="1341360"/>
            <a:ext cx="28728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116000" y="1268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516720" y="1268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39607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ароль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560" y="3500280"/>
            <a:ext cx="4033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Старт!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Picture 5" descr=" "/>
          <p:cNvPicPr/>
          <p:nvPr/>
        </p:nvPicPr>
        <p:blipFill>
          <a:blip r:embed="rId1"/>
          <a:stretch/>
        </p:blipFill>
        <p:spPr>
          <a:xfrm>
            <a:off x="4788000" y="1125360"/>
            <a:ext cx="3535200" cy="47246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8"/>
          <p:cNvSpPr/>
          <p:nvPr/>
        </p:nvSpPr>
        <p:spPr>
          <a:xfrm>
            <a:off x="1692360" y="1628640"/>
            <a:ext cx="28728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2195640" y="1628640"/>
            <a:ext cx="28728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3132000" y="1628640"/>
            <a:ext cx="28764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1116000" y="155736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539640" y="1557360"/>
            <a:ext cx="35892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6"/>
          <p:cNvSpPr/>
          <p:nvPr/>
        </p:nvSpPr>
        <p:spPr>
          <a:xfrm>
            <a:off x="2627280" y="155736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9"/>
          <p:cNvSpPr/>
          <p:nvPr/>
        </p:nvSpPr>
        <p:spPr>
          <a:xfrm>
            <a:off x="539640" y="1557360"/>
            <a:ext cx="35892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0"/>
          <p:cNvSpPr/>
          <p:nvPr/>
        </p:nvSpPr>
        <p:spPr>
          <a:xfrm>
            <a:off x="1692360" y="1628640"/>
            <a:ext cx="28728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3132000" y="1628640"/>
            <a:ext cx="28764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пуск ракеты 1.wmv" descr=""/>
          <p:cNvPicPr/>
          <p:nvPr/>
        </p:nvPicPr>
        <p:blipFill>
          <a:blip r:embed="rId1"/>
          <a:stretch/>
        </p:blipFill>
        <p:spPr>
          <a:xfrm>
            <a:off x="0" y="39600"/>
            <a:ext cx="9090000" cy="681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PIA06890"/>
          <p:cNvPicPr/>
          <p:nvPr/>
        </p:nvPicPr>
        <p:blipFill>
          <a:blip r:embed="rId1"/>
          <a:stretch/>
        </p:blipFill>
        <p:spPr>
          <a:xfrm>
            <a:off x="1763640" y="2637000"/>
            <a:ext cx="5794560" cy="40320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237" name="Text Box 8"/>
          <p:cNvSpPr/>
          <p:nvPr/>
        </p:nvSpPr>
        <p:spPr>
          <a:xfrm>
            <a:off x="1042920" y="18900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нечная система состоит из Солнца, окружённого девятью планетами (одна из которых Земля), из спутников планет, множества малых планет (или астероидов), метеоритов и комет, чьи появления непредсказуемы. Все планеты, их спутники и астероиды вращаются вокруг Сол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ланеты Солнечной систем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Содержимое 3" descr="planet1.jpg"/>
          <p:cNvPicPr/>
          <p:nvPr/>
        </p:nvPicPr>
        <p:blipFill>
          <a:blip r:embed="rId1"/>
          <a:stretch/>
        </p:blipFill>
        <p:spPr>
          <a:xfrm>
            <a:off x="723960" y="858960"/>
            <a:ext cx="7696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Меркурий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672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еркур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71280" y="2133360"/>
            <a:ext cx="727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емля делает оборот вокруг Солнца за 365 дней. А Меркурий делает 4 оборота вокруг Солнца за 352 дня. За сколько дней делает 1 оборот вокруг Солнца Меркурий , и на сколько это быстрее Земл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ене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Picture 4" descr="Венера"/>
          <p:cNvPicPr/>
          <p:nvPr/>
        </p:nvPicPr>
        <p:blipFill>
          <a:blip r:embed="rId1"/>
          <a:stretch/>
        </p:blipFill>
        <p:spPr>
          <a:xfrm>
            <a:off x="2340000" y="1413000"/>
            <a:ext cx="4748040" cy="50403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2" descr="Картинка 77 из 401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052640"/>
            <a:ext cx="7524720" cy="5543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763120" cy="1071720"/>
          </a:xfrm>
          <a:prstGeom prst="rect">
            <a:avLst/>
          </a:prstGeom>
          <a:solidFill>
            <a:srgbClr val="004d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бо и звезд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енера находится в 108 млн. км от Солнца, а Земля на 42 млн.км дальше. Сколько км между Землей и Солнцем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емл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Picture 5" descr="Земля"/>
          <p:cNvPicPr/>
          <p:nvPr/>
        </p:nvPicPr>
        <p:blipFill>
          <a:blip r:embed="rId1"/>
          <a:stretch/>
        </p:blipFill>
        <p:spPr>
          <a:xfrm>
            <a:off x="2268360" y="1341360"/>
            <a:ext cx="4807080" cy="47642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Наша любимая планета Земл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1" name="Содержимое 4" descr="земля планета любви.gif"/>
          <p:cNvPicPr/>
          <p:nvPr/>
        </p:nvPicPr>
        <p:blipFill>
          <a:blip r:embed="rId1"/>
          <a:stretch/>
        </p:blipFill>
        <p:spPr>
          <a:xfrm>
            <a:off x="571680" y="1643040"/>
            <a:ext cx="3214440" cy="3286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29040" y="692280"/>
            <a:ext cx="475776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« Красота-то какая! ». 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« Вижу землю, лес, облака»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«Отчетливо вырисовываются горные хребты, крупные реки, большие лесные массивы, пятна островов, береговая кромка морей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из книги воспоминаний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Юрия Алексеевича Гагарина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ар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4" name="Picture 5" descr="Марс"/>
          <p:cNvPicPr/>
          <p:nvPr/>
        </p:nvPicPr>
        <p:blipFill>
          <a:blip r:embed="rId1"/>
          <a:stretch/>
        </p:blipFill>
        <p:spPr>
          <a:xfrm>
            <a:off x="1979640" y="1268280"/>
            <a:ext cx="5256360" cy="52563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Ю+С+У+Н-П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Picture 15" descr="pln"/>
          <p:cNvPicPr/>
          <p:nvPr/>
        </p:nvPicPr>
        <p:blipFill>
          <a:blip r:embed="rId1"/>
          <a:stretch/>
        </p:blipFill>
        <p:spPr>
          <a:xfrm>
            <a:off x="324000" y="1557360"/>
            <a:ext cx="8280360" cy="49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708360" y="54936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  <a:ea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утон – наиболее удалённая от Солнца планета. Она покрыта льдом. Там очень холодно: -2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. Когда орбиты Плутона и Нептуна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… на некоторое время самой далёкой от Солнца планетой становится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т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Плутон"/>
          <p:cNvPicPr/>
          <p:nvPr/>
        </p:nvPicPr>
        <p:blipFill>
          <a:blip r:embed="rId1"/>
          <a:stretch/>
        </p:blipFill>
        <p:spPr>
          <a:xfrm>
            <a:off x="468360" y="981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Ю+С+У+Н-П=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771280" y="2565000"/>
            <a:ext cx="698508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2+19+21+15-17=7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Calibri"/>
              </a:rPr>
              <a:t>ПРОВЕРЬ СЕБЯ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468360" y="10000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планет насчитывает Солнечная сист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612320" y="2744640"/>
            <a:ext cx="117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468360" y="100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Самая близкая планета к Солнц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613760" y="2744640"/>
            <a:ext cx="292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Вен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М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Мерку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30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ежде чем отправиться в путешествие мы узнаем историю развития освоения  космоса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Меркурий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67280"/>
          </a:xfrm>
          <a:prstGeom prst="rect">
            <a:avLst/>
          </a:prstGeom>
          <a:ln w="57240">
            <a:solidFill>
              <a:srgbClr val="ffcc66"/>
            </a:solidFill>
            <a:miter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еркур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468360" y="10000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Самая большая планета Солнечной систе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613040" y="2744640"/>
            <a:ext cx="247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Юпи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Зе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Ур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Юпит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2" name="Picture 5" descr="Юпитер"/>
          <p:cNvPicPr/>
          <p:nvPr/>
        </p:nvPicPr>
        <p:blipFill>
          <a:blip r:embed="rId1"/>
          <a:stretch/>
        </p:blipFill>
        <p:spPr>
          <a:xfrm>
            <a:off x="2195640" y="1197000"/>
            <a:ext cx="5256000" cy="5256360"/>
          </a:xfrm>
          <a:prstGeom prst="rect">
            <a:avLst/>
          </a:prstGeom>
          <a:ln w="57240">
            <a:solidFill>
              <a:srgbClr val="ffcc66"/>
            </a:solidFill>
            <a:miter/>
          </a:ln>
        </p:spPr>
      </p:pic>
    </p:spTree>
  </p:cSld>
  <p:transition spd="slow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468360" y="10000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Назовите то место Солнечной системы, куда ступала ног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4612680" y="2744640"/>
            <a:ext cx="229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М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Непту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Лу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632720" cy="1511280"/>
          </a:xfrm>
          <a:prstGeom prst="rect">
            <a:avLst/>
          </a:prstGeom>
          <a:solidFill>
            <a:srgbClr val="004d99"/>
          </a:solidFill>
          <a:ln w="9360">
            <a:solidFill>
              <a:srgbClr val="33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6" name="Picture 9" descr="Картинка 2 из 5691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924280"/>
            <a:ext cx="41022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68360" y="10000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Какая планета самая яркая из видимых с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4613040" y="2744640"/>
            <a:ext cx="247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Юпи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Вен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М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р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0" name="Picture 5" descr="Марс"/>
          <p:cNvPicPr/>
          <p:nvPr/>
        </p:nvPicPr>
        <p:blipFill>
          <a:blip r:embed="rId1"/>
          <a:stretch/>
        </p:blipFill>
        <p:spPr>
          <a:xfrm>
            <a:off x="1979640" y="1268280"/>
            <a:ext cx="5256360" cy="5256360"/>
          </a:xfrm>
          <a:prstGeom prst="rect">
            <a:avLst/>
          </a:prstGeom>
          <a:ln w="57240">
            <a:solidFill>
              <a:srgbClr val="ffcc66"/>
            </a:solidFill>
            <a:miter/>
          </a:ln>
        </p:spPr>
      </p:pic>
    </p:spTree>
  </p:cSld>
  <p:transition spd="slow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4"/>
          <p:cNvSpPr txBox="1"/>
          <p:nvPr/>
        </p:nvSpPr>
        <p:spPr>
          <a:xfrm>
            <a:off x="1763640" y="1557360"/>
            <a:ext cx="5905440" cy="35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pln"/>
          <p:cNvPicPr/>
          <p:nvPr/>
        </p:nvPicPr>
        <p:blipFill>
          <a:blip r:embed="rId1"/>
          <a:stretch/>
        </p:blipFill>
        <p:spPr>
          <a:xfrm>
            <a:off x="395280" y="1125360"/>
            <a:ext cx="8496360" cy="46087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утешествие подошло к концу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99640" y="5157720"/>
            <a:ext cx="7704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ченикам 4-в за работ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6" name="Picture 2" descr="Картинка 1 из 6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76520"/>
            <a:ext cx="7129440" cy="445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Константин Эдуардович Циолковски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4" name="Содержимое 6" descr="Tsiolkovsky.jpg"/>
          <p:cNvPicPr/>
          <p:nvPr/>
        </p:nvPicPr>
        <p:blipFill>
          <a:blip r:embed="rId1"/>
          <a:stretch/>
        </p:blipFill>
        <p:spPr>
          <a:xfrm>
            <a:off x="214200" y="1916280"/>
            <a:ext cx="3000600" cy="3673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276720" y="1915920"/>
            <a:ext cx="5410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1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09. 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185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 19.09. 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1935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Калуг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 — русский и советский учёный-самоучка, исследователь, школьный учитель. Основоположник современной 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космонавтик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Обосновал вывод уравнения реактивного движения, пришёл к выводу о необходимости использования «ракетных поездов» — прототипов многоступенчатых раке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Генеральный конструктор космических корабле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Содержимое 4" descr="королев-конструктор.jpg"/>
          <p:cNvPicPr/>
          <p:nvPr/>
        </p:nvPicPr>
        <p:blipFill>
          <a:blip r:embed="rId1"/>
          <a:stretch/>
        </p:blipFill>
        <p:spPr>
          <a:xfrm>
            <a:off x="857160" y="1600200"/>
            <a:ext cx="285768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142880" y="1357200"/>
            <a:ext cx="4543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Королёв Сергей Павлович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(12.01.1907 – 14.01.1966) — главный конструктор первых ракет-носителей, искусственных спутников Земли, пилотируемых космических кораблей, основоположник практической космонавтики, академик АН СССР, Герой Социалистического Труда, лауреат Ленинской премии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ервый космонавт планеты Юрий Алексеевич Гагарин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0" name="Содержимое 4" descr="Юрий Гагарин.jpg"/>
          <p:cNvPicPr/>
          <p:nvPr/>
        </p:nvPicPr>
        <p:blipFill>
          <a:blip r:embed="rId1"/>
          <a:stretch/>
        </p:blipFill>
        <p:spPr>
          <a:xfrm>
            <a:off x="4429080" y="2714760"/>
            <a:ext cx="4038480" cy="3000240"/>
          </a:xfrm>
          <a:prstGeom prst="rect">
            <a:avLst/>
          </a:prstGeom>
          <a:ln w="0">
            <a:noFill/>
          </a:ln>
        </p:spPr>
      </p:pic>
      <p:pic>
        <p:nvPicPr>
          <p:cNvPr id="201" name="Содержимое 5" descr="797.jpg"/>
          <p:cNvPicPr/>
          <p:nvPr/>
        </p:nvPicPr>
        <p:blipFill>
          <a:blip r:embed="rId2"/>
          <a:stretch/>
        </p:blipFill>
        <p:spPr>
          <a:xfrm>
            <a:off x="642960" y="2286000"/>
            <a:ext cx="30481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ервый искусственный спутник Земли –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 октября 1957 год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Содержимое 6" descr="ad97166cd5332b557831de87793.jpg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143160"/>
          </a:xfrm>
          <a:prstGeom prst="rect">
            <a:avLst/>
          </a:prstGeom>
          <a:ln w="0">
            <a:noFill/>
          </a:ln>
        </p:spPr>
      </p:pic>
      <p:pic>
        <p:nvPicPr>
          <p:cNvPr id="204" name="Содержимое 4" descr="_571.jpg"/>
          <p:cNvPicPr/>
          <p:nvPr/>
        </p:nvPicPr>
        <p:blipFill>
          <a:blip r:embed="rId2"/>
          <a:stretch/>
        </p:blipFill>
        <p:spPr>
          <a:xfrm>
            <a:off x="457200" y="2273400"/>
            <a:ext cx="403848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елка и Стрелка – космические путешественницы (полет в космос в августе 1960 года, на борту вместе с ними находились мыши, насекомые, семена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Содержимое 4" descr="0008dcp2.jpg"/>
          <p:cNvPicPr/>
          <p:nvPr/>
        </p:nvPicPr>
        <p:blipFill>
          <a:blip r:embed="rId1"/>
          <a:stretch/>
        </p:blipFill>
        <p:spPr>
          <a:xfrm>
            <a:off x="428760" y="3571920"/>
            <a:ext cx="4038480" cy="2071800"/>
          </a:xfrm>
          <a:prstGeom prst="rect">
            <a:avLst/>
          </a:prstGeom>
          <a:ln w="0">
            <a:noFill/>
          </a:ln>
        </p:spPr>
      </p:pic>
      <p:pic>
        <p:nvPicPr>
          <p:cNvPr id="207" name="Содержимое 5" descr="0009a0t4.jpg"/>
          <p:cNvPicPr/>
          <p:nvPr/>
        </p:nvPicPr>
        <p:blipFill>
          <a:blip r:embed="rId2"/>
          <a:stretch/>
        </p:blipFill>
        <p:spPr>
          <a:xfrm>
            <a:off x="4786200" y="3071880"/>
            <a:ext cx="4038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ервая женщина-космонавт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алентина Терешкова   («Восток-3»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6 июня 1963г.)  и Юрий Гагарин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Содержимое 4" descr="терешкова.jpeg"/>
          <p:cNvPicPr/>
          <p:nvPr/>
        </p:nvPicPr>
        <p:blipFill>
          <a:blip r:embed="rId1"/>
          <a:stretch/>
        </p:blipFill>
        <p:spPr>
          <a:xfrm>
            <a:off x="928800" y="1928880"/>
            <a:ext cx="31701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Содержимое 7" descr="naj.jpg"/>
          <p:cNvPicPr/>
          <p:nvPr/>
        </p:nvPicPr>
        <p:blipFill>
          <a:blip r:embed="rId2"/>
          <a:stretch/>
        </p:blipFill>
        <p:spPr>
          <a:xfrm>
            <a:off x="4786200" y="200016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43:09Z</dcterms:created>
  <dc:creator>Рождественский</dc:creator>
  <dc:description/>
  <dc:language>en-US</dc:language>
  <cp:lastModifiedBy>Рождественский</cp:lastModifiedBy>
  <dcterms:modified xsi:type="dcterms:W3CDTF">2011-04-19T18:36:12Z</dcterms:modified>
  <cp:revision>12</cp:revision>
  <dc:subject/>
  <dc:title>   12 апреля 1961 года –  12 апреля 2011 года </dc:title>
</cp:coreProperties>
</file>