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724-326C-4518-8534-C8104320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307-5A8C-49E0-9316-DC7325B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65B-96A1-45A2-9360-CB9F4701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CF2-C12D-47BF-B8CC-32B7A576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25C3-9C8F-4065-9E67-9F0B5A92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DA6D-A4AC-4205-9030-94654C28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04E-6DA7-40E4-9809-642F8EFD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36E6-18F0-4B6A-8F8C-0C7B4684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53CA-B88A-4836-84B9-866457F6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0251-CE1F-4EB1-9142-ED09CC0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0F23-AD88-4DB4-91D0-A1187DD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9BF-9CC6-4533-93BD-F227F28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C930-E875-41FC-9389-29AC9D1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ED7B-C85D-4058-A4BE-1E7038E5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46BB-5416-410D-91EF-AC562E44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A578-BFA7-4C6E-B489-8A35790B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B5D1-EED7-48A1-8870-006F654A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D69-9BBA-4FF2-9D56-A6DFBBD0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8AD-8EF1-46BC-8CA0-7DF5B9D8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A1E-9B3D-4572-A2CD-2A149482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FF0-8C42-4F9A-9529-F1D25CE5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506-52D6-4F74-92ED-B729124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C11-A234-49F4-B8BB-A9E3DBE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2D2-D633-4CF5-A3F2-B11BB87C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022-1554-4564-BB79-274D83E3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76C1-6638-4FDF-9D31-AF9ED6140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1514520"/>
            <a:ext cx="841536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–</a:t>
            </a:r>
            <a:br>
              <a:rPr sz="40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ень 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нституции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ми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4880" y="1137960"/>
            <a:ext cx="82137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ssr"/>
          <p:cNvPicPr/>
          <p:nvPr/>
        </p:nvPicPr>
        <p:blipFill>
          <a:blip r:embed="rId1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_1c0d6_199e7891_XL"/>
          <p:cNvPicPr/>
          <p:nvPr/>
        </p:nvPicPr>
        <p:blipFill>
          <a:blip r:embed="rId1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55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32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80px-Dmitry_Medvedev_official_large_photo_-5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Якушина Екатерина</cp:lastModifiedBy>
  <dcterms:modified xsi:type="dcterms:W3CDTF">2012-01-16T10:06:52Z</dcterms:modified>
  <cp:revision>45</cp:revision>
  <dc:subject/>
  <dc:title>Слайд 1</dc:title>
</cp:coreProperties>
</file>