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608D-D324-4AA7-9BD4-65F8AA104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D78E-ADB8-4DFF-8256-E651AED7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B6873B-37E2-48A9-A3ED-05E9E729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CD6C48-116A-41A7-9CFC-6CCFD315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8E51BB-3AAC-4946-B716-0F36ECA0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D1BD26-E095-4FB2-95A3-DE720A59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B7AD00-C38B-4352-8156-3F6CCF19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9FA17D-5DB1-445C-A68B-97F30F86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0DDABA-B933-4986-AE14-2E64E4BB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BB1337-7E3A-4EEF-ADA4-2CC8033DB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DBDDD9-CA2C-4F15-8080-213878CCB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646187-FCF9-45CC-A19F-6D14BC796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A8C7-3723-4D1E-9B4A-6A2516938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6B2A61-EBAC-4571-A76A-B5FF53D1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95C024-0218-45F9-B8B9-BDE4BAD8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ED86A-A7A9-43CC-9396-7E7923A8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E129E-38F7-4DBC-986B-8AFB6D31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95C219-1EC1-4E70-9F4E-50F551BD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63BBF-2823-412F-A54C-18D9075D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B59E2-4938-4EF9-B1A0-1FB8D101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14E93-BB2C-4A6A-A3EE-738CBCE6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30344-F710-4282-82A9-F00DED11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BE37B-C10C-4445-BBFA-C7FB04B88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436D-AB28-413A-9653-D4980790C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975A1C-9DC0-4924-9494-75DCE0AED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7BE49-9ABA-4F07-998D-E8F63DE77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6E49D-7F6C-4266-AF4F-733802F5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DA80A-9C6D-4D45-A153-0A01E2B0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6A858-6190-451C-8A22-433A7834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DADC0-E89D-4642-B98F-9457C0A5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58A20-2B12-44D5-B06F-2091D9E3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3EE06-BC1D-4275-B04F-1263350E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59A7F-2E4A-4DC5-8347-9343AD5D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16B69-CA8D-4977-9460-757FBC46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B093-9CBC-4363-BFD5-3FC209D6E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443E4-7BEF-4401-9880-F1EB3269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31BB6-9B17-4E1C-9DD2-4C7D5A5AB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CDBD0-B9AB-44F2-9BCB-39ABF4A8E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2BA4F1-E324-4201-8CDB-69732BB50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690E1A-998B-4282-B6FE-993993A9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8EFDE2-6622-484A-8CD1-EF309ED5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23FF1C-E46A-4A20-A79A-1D8ED7FD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A9EA0-6E3C-4EA1-A09C-5B0D0782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3F76A1-E2E4-45B3-AB1A-673EA434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FC4B26-A070-4880-BA2F-07AAAE22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F651-D47B-41D6-A837-3C139A42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825865-3FA7-4E82-B131-E61369E7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2C3EF3-FBD3-4378-AD2E-7F3666E6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9F056F-6900-44CA-B3B8-56FA5CE2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E5052F-3825-4E53-8DA1-295D30905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4573E0-A3D5-413C-B192-33EA60983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C897DB-71DB-43D4-B8DB-2A512A538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88FD77-2BBE-4B21-8DBA-4034EA02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49CC54-BD47-4168-A428-2F5F4E21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3CCAF3-7486-4D47-A922-6AD08C65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FDD7CE-2C41-4ED8-A5CB-D76B08C9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E9DE-D8F3-4C1C-B5E4-130D3555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888F30-7C7A-4F74-9610-8A7ECB01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A2E688-F3A8-45D7-9653-AD753F94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8E470B-4910-4912-B895-499F8C0B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A94D86-F957-4857-89D4-67EE3E44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1D0F26-1B9F-410D-A27A-78E6EDCC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7F1AAC-74A9-4741-8A01-B945AE34D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B292BA-8342-4BBF-8792-7F7B46884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95AA20-0E39-4C73-90B5-FFA5C9193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F61168-A956-449B-B1FF-8491B8FF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6D3958-CB81-414B-814B-A1956A18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5B38-2AC1-4438-BEC2-57FA96F9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EE764C-62C2-42A4-BCB2-23F8A793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74BF2D-E653-4B75-A32C-B539476B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552FAD-2ECE-44D4-874D-5E6AC5F3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7347D5-991E-4653-A3B5-51D8CDC6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6B0F8F-1C53-4BAF-87A0-D7FD8FFD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0A713C-60BB-445C-B17C-CDFFE48E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5F59AF-5918-44FB-B8B4-D88F2367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9F5B08-DFE4-4187-9CEC-B720E8A95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FC18C9-B062-408E-B047-83CACF1E0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D631-A5EB-41BF-996E-742EED5C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19E3-3922-44A2-A92B-DA196ADA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5BAB-38F6-4C62-B47A-5B08679F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DDD9-F656-415E-8194-19623A6B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A3BD-4F07-480C-BA41-E9BE0B34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8C33-B5CD-407F-BA9B-6E78CC4A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4F2C-B457-4AE3-95A4-467FBF6F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99DF-28D8-4C6E-9308-7B6492FB3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3A6A-6C53-403D-9832-F1D02D7E6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83177-6550-4D5A-A90F-57A316CEB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6D709-FD2D-492C-B908-2BEFED21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00170-E7F1-4194-9876-57975EC5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C99B1-A7EF-4E05-B51F-085DFD01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4955D-4517-4F3C-9552-2FA6177A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3930-C284-4DC9-AAEA-61A5976F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DE3BE-5C02-4C39-830A-E6E0E08C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C93ED-EFF1-4F3F-A425-8B3B546D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37C85-3E5C-4995-9A97-900EBD5D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D12A9-56F3-4ED2-BFC2-681EF029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FA5F8-0535-49B4-A5F8-98BC59F0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99395-9A46-4641-AD79-6E7F44D6B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4C7B1-7DF2-4CA6-A5BE-D0C5CC683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513DC-D523-4F05-B9EF-7C8CE662F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C24F0-73FD-4196-9723-ACB3ACAA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ABCFD-5067-43A1-8A3F-96079794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B567-95EC-458A-B17E-2C421BDF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45BE8-D686-421E-958A-53FF1CD3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D695B-9E7E-4C52-A771-D98EC638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99452-C0EA-4773-A6F8-958ABC3E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FD0A7-1766-4864-B1F2-F244E69A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3B11B-6512-4A2F-BA83-42038A0F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67479-E04C-463E-8550-981A42C5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79560-EA91-49BD-9B50-25580BAE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FF919-3075-4963-AFC9-F9A51159A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8E6FE-53A9-4D5E-9782-ECF0460B9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F297B-C94F-4705-ACAB-8B1863713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99E2-32D9-4A37-BB7C-9064CA65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DF182-46A8-4ABA-A396-AE1C90F9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C87A7-80B9-4121-811F-02BAAF3C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752DF-B282-4A96-8A57-25038D6A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4C04A-273E-45F6-9AFD-D53C5167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D8510-56B3-4A07-9647-3528E6E7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4D980-9BF2-448C-B12A-2693D6D6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4469A-0BC3-4874-AF73-8426B4C0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D5E93-36E6-412E-9BB3-52B75C43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BE1D1-686D-42DB-9E48-52211DAF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C01F3-D12F-40AE-9BC2-E749E2B9E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8949-6431-4BB9-A0D8-B9E19A0E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2F60D-1833-4155-AABB-C164A58F4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F97969-3494-4E6C-8FF1-31484F81F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5400D1-6526-4EFA-9205-F4EF0F85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75A01D-A150-4562-9E69-310AAB53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A85011-2863-4512-B6ED-EA7D261C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D8B85E-367C-4667-82D4-E65D7108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78D010-C797-4061-8907-06B7D7F5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198138-1303-49EC-B3A6-8E247A4E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CDE1A7-3345-4B7F-B6B7-475FD4FF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A647D9-7D11-4C48-9A1D-37AEA171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4BA3-4590-4D35-99AC-CACE0B0B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E11644-2DA8-4716-B6FF-718BDA5B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C26510-BB8A-4461-9CD0-946F345F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660049-DE6F-4F4A-8E56-CFE6867F1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AFD0D-CF25-4EE7-9CC8-411BBA6A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6D965-5479-417D-A07B-C221C63C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B86F5-CCFC-4F4F-89A2-5984C722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C2582-8849-48B5-AA98-093520C9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54C4C-9CF3-4F66-86A3-D13CA621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C45C8-F80E-4BFF-9318-F59C664B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96116-A147-41B6-ACA8-E9D9F70F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0BAB-D889-499F-B615-D423022A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ADCA8-28FA-46BA-A2E1-7357BBF1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75AE1-264E-4F01-AB86-C968536E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40E47-A829-4C16-88CD-EB73DFC6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97195-FFF9-4E8F-A382-19AB1A24C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BA516-9686-48CF-AF8A-4AFF79FAB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BBB320-87EF-4FED-9300-F693B91A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13DE0B-E2FA-4F3C-B136-059037CB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BE7D13-0351-47ED-A6D5-A2F86C7F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093E54-4195-43E4-814A-656B95EC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FC1A16-FE1F-4634-92BD-4F93AFB8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0E81-C03C-45CF-928B-FF93C294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423E0B-E8A3-4081-8F00-4BF60910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B2D9DF-CC80-4BF5-A44A-33A0CC72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43828F-099B-4D74-A770-85AD5011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04AE37-4894-4E23-9973-82BAA9ED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924F6C-E379-4774-A892-77561485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455614-EED1-4C71-B9EC-D52A9197C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8CE0D6-06A4-41E7-B39E-EC093A122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F39343-9113-4F64-871D-07E1424F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3132E0-7191-44E7-A2C3-99657B53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7D8468-54D8-4F5D-B7BA-2B7D5319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109.xml"/><Relationship Id="rId35" Type="http://schemas.openxmlformats.org/officeDocument/2006/relationships/slideLayout" Target="../slideLayouts/slideLayout110.xml"/><Relationship Id="rId36" Type="http://schemas.openxmlformats.org/officeDocument/2006/relationships/slideLayout" Target="../slideLayouts/slideLayout111.xml"/><Relationship Id="rId37" Type="http://schemas.openxmlformats.org/officeDocument/2006/relationships/slideLayout" Target="../slideLayouts/slideLayout112.xml"/><Relationship Id="rId38" Type="http://schemas.openxmlformats.org/officeDocument/2006/relationships/slideLayout" Target="../slideLayouts/slideLayout113.xml"/><Relationship Id="rId39" Type="http://schemas.openxmlformats.org/officeDocument/2006/relationships/slideLayout" Target="../slideLayouts/slideLayout114.xml"/><Relationship Id="rId40" Type="http://schemas.openxmlformats.org/officeDocument/2006/relationships/slideLayout" Target="../slideLayouts/slideLayout115.xml"/><Relationship Id="rId41" Type="http://schemas.openxmlformats.org/officeDocument/2006/relationships/slideLayout" Target="../slideLayouts/slideLayout116.xml"/><Relationship Id="rId42" Type="http://schemas.openxmlformats.org/officeDocument/2006/relationships/slideLayout" Target="../slideLayouts/slideLayout117.xml"/><Relationship Id="rId43" Type="http://schemas.openxmlformats.org/officeDocument/2006/relationships/slideLayout" Target="../slideLayouts/slideLayout118.xml"/><Relationship Id="rId44" Type="http://schemas.openxmlformats.org/officeDocument/2006/relationships/slideLayout" Target="../slideLayouts/slideLayout119.xml"/><Relationship Id="rId4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D697-19B3-4624-98C9-6CEB760B7F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83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6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87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88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89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90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92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98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9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0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1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2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3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4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5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06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07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8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9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0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1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2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3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4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5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6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7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8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9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0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1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2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3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4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5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26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2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2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93DB-8BE7-4E10-A579-84FD2D6A41A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4"/>
    <p:sldLayoutId id="2147483767" r:id="rId35"/>
    <p:sldLayoutId id="2147483768" r:id="rId36"/>
    <p:sldLayoutId id="2147483769" r:id="rId37"/>
    <p:sldLayoutId id="2147483770" r:id="rId38"/>
    <p:sldLayoutId id="2147483771" r:id="rId39"/>
    <p:sldLayoutId id="2147483772" r:id="rId40"/>
    <p:sldLayoutId id="2147483773" r:id="rId41"/>
    <p:sldLayoutId id="2147483774" r:id="rId42"/>
    <p:sldLayoutId id="2147483775" r:id="rId43"/>
    <p:sldLayoutId id="2147483776" r:id="rId44"/>
    <p:sldLayoutId id="2147483777" r:id="rId4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79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F29A-1D10-4827-B994-13A1AF5492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39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C8A5-B9CF-43BE-BDD1-FF5D36B4F4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87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F477-A7AE-45FC-AD84-606DB1012FD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75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75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75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4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4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4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F13F-759F-425F-BDD3-FEC45FABCF3D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2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6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7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8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9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7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5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6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5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E55A-8B36-4770-AB74-74D82106F39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D580-D434-4E56-B023-81F6BDFCFA4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79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0355-41DD-4D92-B0DF-60891F466C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39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EB3D-60E9-44CB-82A9-BDD62A90F2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8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F822-6717-4F81-A226-74BAD7DF489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576E-5976-4A16-8DCC-C71117B55ED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397C-2706-412A-A744-5C6DA17AE2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5BDF-BE02-4120-9C01-05C351085E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асанзянова Люция Накифовна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Афаз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Полная или частичная утрата речи, обусловленная локальным поражением головного мозг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Акустико – гностическая сенсорная афаз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457200" y="1981080"/>
          <a:ext cx="8229600" cy="46674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273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первые описал немецкий психиатр Верник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никает при поражении задней трети верхней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сочной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извилин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рушается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е 2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ая черта –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рушение понимания речи при ее восприятии на слу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3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рушается экспрессив-ная речь (парафазии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огорея с выраженным аграмматиз-мо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рушения чтения и пись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убые нарушения сче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кустико – мнестическая афаз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24" name=""/>
          <p:cNvGraphicFramePr/>
          <p:nvPr/>
        </p:nvGraphicFramePr>
        <p:xfrm>
          <a:off x="468360" y="1628640"/>
          <a:ext cx="8229600" cy="4876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. Р. Лурия, 1969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. С. Цветкова, 19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ражаются средние и задние отделы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сочной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обла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я 21 и 3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основе лежит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рушение слухо-  речевой памя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9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рушение экспрессив-ной речи (трудности подбора слов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вышенная речевая активность, нарушение общения с 2 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беседник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грамматизм –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смешение флексий глаголов и сущ. в роде и числ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рушается чтение и письмо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экспрессивный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грамматизм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емантическая афаз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26" name=""/>
          <p:cNvGraphicFramePr/>
          <p:nvPr/>
        </p:nvGraphicFramePr>
        <p:xfrm>
          <a:off x="457200" y="1981080"/>
          <a:ext cx="8229600" cy="4523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230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первые описал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. Хэ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ражается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енно – затылочная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область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минантного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ушар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е 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ожный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мпрессивный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грамматиз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мена слова целой фразо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странствен-но – контруктивная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апракс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рушается понимание пословиц, поговорок, метафо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мнестические трудности в экспрессивной речи, трудности начала фраз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дность,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ереотипность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исьма, нарушения счетных операц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фферентная кинестетическая моторная афаз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никает при поражении вторичных зон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стцентральных и нижнетеменны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отделов коры головного мозг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ражаются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ля 7 и 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 вариант - выраженная апраксия артикуляционного аппар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 вариант – нарушение дифференцированного выбора способа артикуляц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торичные нарушения фонематического слух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структивно – пространственная апракс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рушение чтения и пись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фферентная моторная кинетическая афаз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зникает при поражении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ередних ветвей левой средней мозговой артер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ражаются поля 44, 4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тологическая инертность речевых стереотипов, трудности переключения с одного артикуляционного акта на другой: элизии, персеверации, контаминации, повто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блюдается выраженная аграф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торичные нарушения понимания реч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инамическая афаз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зникает при поражении заднелобных отделов левого доминантного по речи полушар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ная невозможность активного развертывания высказывания, нарушение внутреннего программирования высказы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чевые шаблоны, эхолалии, эхолал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хранны чтение и письм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сследование высших корковых функций при афаз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щая способность к речевой коммуник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нимание реч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кспрессивная реч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ение, письмо и сч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альный, пространственный и динамический пракси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кустический и оптический гнози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сты на левшество - правше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сновные положения коррекционной рабо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ределение сохранных и нарушенных функций реч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бор приемов зависит от стадии восстановления речевых функц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бор приемов предполагает восстановление нарушенных функций или реорганизацию сохранных звеньев (восстановительная терапия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нцип работы над всеми сторонами реч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всех формах восстанавливается коммуникативная функция реч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пользуется принцип интериориз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Задачи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коррекционной работы при акустико – гностической афазии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восстановление фонематического слуха;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восстановление вторично нарушенной экспрессивной речи;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восстановление навыков чтения и письма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Этапы коррекционной работы при акустико – гностической афази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Первый этап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- дифференциация слов, контрастных по длине, звуковому и ритмическому рисунку (кот – машина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Второй этап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дифференциация слов, близкой слоговой структуры, но далеких по звучанию (ноги – рыба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Третий этап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дифференциация слов с дизъюнктными фонемами -  (рак – мак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Четвертый этап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дифференциация слов с оппозиционными фонемами (рак – лак, дом – том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Пятый этап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подбор серий на заданный звук или букву в текст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ичины афаз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арушение мозгового кровообращ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ерепно – мозговые травм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пухоли головного мозг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нфекционные заболевания могза и его оболоче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Задачи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коррекционной работы при акустико – мнестической афазии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одоление нарушений слухоречевой памя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сстановление зрительных представлений о существенных признаках предмет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одоление амнестических трудносте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одоление элементов экспрессивного аграмматиз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иемы восстановления речи при акустико – мнестической афазии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каз предметов, объединенных одним смысло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тор серий слов (предметы, действия, качества, числа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струирование предметов из элементов (дорисовывание, зашумление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оговое прослушивание и повторение сложных  по слоговой структуре сл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нимание многозначности слов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авление письменных текст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Задачи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коррекционной работы при </a:t>
            </a: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семантической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афазии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преодоление трудностей нахождения названий предметов;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расширение лексического и синтаксического состава речи;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преодоление импрессивного аграмматизма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7d47d"/>
                </a:solidFill>
                <a:latin typeface="Arial"/>
              </a:rPr>
              <a:t>Приемы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f7d47d"/>
                </a:solidFill>
                <a:latin typeface="Arial"/>
              </a:rPr>
              <a:t>коррекционной работы при </a:t>
            </a:r>
            <a:r>
              <a:rPr b="1" i="1" lang="ru-RU" sz="3600" spc="-1" strike="noStrike">
                <a:solidFill>
                  <a:srgbClr val="f7d47d"/>
                </a:solidFill>
                <a:latin typeface="Arial"/>
              </a:rPr>
              <a:t>семантической </a:t>
            </a:r>
            <a:r>
              <a:rPr b="0" i="1" lang="ru-RU" sz="3600" spc="-1" strike="noStrike">
                <a:solidFill>
                  <a:srgbClr val="f7d47d"/>
                </a:solidFill>
                <a:latin typeface="Arial"/>
              </a:rPr>
              <a:t>афазии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развитие зрительно – пространственной деятельности (зрительный анализ геометрических фигур, складывание из элементов, ориентация в левом и правом, в частях света, в географической карте)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опоставление различных смысловых связей слов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писание сходств и различий синонимов, антонимов, омонимов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7d47d"/>
                </a:solidFill>
                <a:latin typeface="Arial"/>
              </a:rPr>
              <a:t>Приемы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f7d47d"/>
                </a:solidFill>
                <a:latin typeface="Arial"/>
              </a:rPr>
              <a:t>коррекционной работы при </a:t>
            </a:r>
            <a:r>
              <a:rPr b="1" i="1" lang="ru-RU" sz="3600" spc="-1" strike="noStrike">
                <a:solidFill>
                  <a:srgbClr val="f7d47d"/>
                </a:solidFill>
                <a:latin typeface="Arial"/>
              </a:rPr>
              <a:t>семантической </a:t>
            </a:r>
            <a:r>
              <a:rPr b="0" i="1" lang="ru-RU" sz="3600" spc="-1" strike="noStrike">
                <a:solidFill>
                  <a:srgbClr val="f7d47d"/>
                </a:solidFill>
                <a:latin typeface="Arial"/>
              </a:rPr>
              <a:t>афазии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точнение значений отдельных предлогов и наречий, усвоение схемы предлогов с перемещением точк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равнение описаний высоты, длины, логико – грамматических конструкций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точнение разрядов, входящих в число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стное описание элементов букв для преодоления оптической алексии и аграфии.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e5ffff"/>
                </a:solidFill>
                <a:latin typeface="Tahoma"/>
              </a:rPr>
              <a:t>Задачи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коррекционной работы при </a:t>
            </a: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афферентной моторной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афазии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одоление нарушений кинестетического артикуляторного пракси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одоление аграфии и алек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витие вторичных нарушений понимания ре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сстановление развернутого устного и  письменного высказы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Приемы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работы при афферентной моторной афази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лобальное, сопряженное произнес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ение автоматизированных речевых ряд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исывание и чтение про себ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рительные диктанты и чтение вслу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пись под диктовку бук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ухштабиров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уховой имитационный прием воспроизведения доступных зву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Приемы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работы при афферентной моторной афази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мере преодоления апраксии переходят к сопряженному и отраженному произнесению фра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мере возникновения ситуативной речи переходят к восстановлению монологической реч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ные задачи – расширение словаря, предупреждение аграмматизма, развитие развернутого устного и письменного высказывания, подготовка свободной диалогической реч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eec94"/>
                </a:solidFill>
                <a:latin typeface="Times New Roman"/>
              </a:rPr>
              <a:t>Задачи</a:t>
            </a: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 коррекционной</a:t>
            </a: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 работы при эфферентной моторной афазии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одоление патологической инертности в звене порождения слоговой структуры сло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сстановление чувства язы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одоление инертности выбора сл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одоление аграмматиз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сстановление структуры устного и письменного высказыва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одоление алексии и аграф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Приемы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восстановления речи при эфферентной афази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вторение слогов при складывании их из букв разрезной азбу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ение серий слов с одной слоговой структур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вторение пословиц и поговорок с рифмующимися глагола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ы на вопросы по картинка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говаривание однотипных фраз различными слова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дбор нескольких глаголов к существительным (сетки значений слов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тод пиктограмм и графического моделиров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ложность речевого расстройства при афазии зависит от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окализации пораж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личины очага пораж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обенностей остаточных элементов реч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вше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6" name="Picture 6" descr="j0240719"/>
          <p:cNvPicPr/>
          <p:nvPr/>
        </p:nvPicPr>
        <p:blipFill>
          <a:blip r:embed="rId1"/>
          <a:stretch/>
        </p:blipFill>
        <p:spPr>
          <a:xfrm>
            <a:off x="5435640" y="2060640"/>
            <a:ext cx="23274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Задачи коррекционной работы при динамической афази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одоление дефектов внутреннего речевого программир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ие программ высказывания с помощью внешних опор (вопросов, схем, фишек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ышение речевой инициатив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учение планированию тек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иемы коррекционной работы при динамической афази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ражнения на классификацию предметов (мебель, одежда, посуд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ямой и обратный порядковый сч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сказы по сюжетным картинкам и серии картин с внешней опор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веты на вопросы по картинк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алоги, беседы по данным опорным слов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сказы текс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сстановление письменных текс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ыводы и проблем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восстановлении речи у больных с афазией необходима предварительная неречевая раб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бота ведется над всеми сторонами речи с учетом специфики наруш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афазии ставится конкретная перспективная цель, работа ведется поэтапно в соответствии с индивидуальными особенностя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граммы восстановления речи носят дифференцированный характ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дной из важных проблем афазиологии является изучение вариантов разных форм афаз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тличие афазии от алал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Афаз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трата или распад сформированной реч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тская афазия – после 3 лет, когда речь уже сформиров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никает в результате сосудистой патологии, травм и инфекционных заболеваний мозг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Алал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сутствие или недоразвитие реч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является в раннем возрас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асто возникает в результате внутриутробной патолог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тличие афазии от дизартр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Афаз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рковое расстройство высших речевых функц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рушение всех компонентов реч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провождается апраксией, аграфией, алексией, акалькули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Дизартр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корковое расстройство рече - двигательных механизм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рушение произносительной стороны реч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провождается нарушением общемоторных функц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стория развития учения об афаз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861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П. Брока – моторный центр речи в лобных отдела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874, Вернике – сенсорный центр речи в височных отдела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863, Джексон – каждая функция имеет сложную «вертикальную» организаци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бманн – апраксия артикуляционного аппар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. Пик – апраксии аграмматиз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. Хэд – семантическая афаз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йропсихологическая классификация форм афазий А. Р. Лур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9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акустико – гностическая афаз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акустико – мнестическая афаз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семантическая афаз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 афферентная моторная афаз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. эфферентная моторная афаз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. динамическая афаз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равнительный анализ форм афаз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18" name=""/>
          <p:cNvGraphicFramePr/>
          <p:nvPr/>
        </p:nvGraphicFramePr>
        <p:xfrm>
          <a:off x="457200" y="1981080"/>
          <a:ext cx="8229600" cy="4711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ражаются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сочны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отделы коры головного мозг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10199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кустико – гностиче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10199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кустико – мнестиче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ражаются нижние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енны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отделы коры головного мозг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10199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мантиче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10199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фферентная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моторные и заднелобны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отделы коры головного мозг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10199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фферентная мотор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10199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намиче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равнительный анализ форм афаз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20" name=""/>
          <p:cNvGraphicFramePr/>
          <p:nvPr/>
        </p:nvGraphicFramePr>
        <p:xfrm>
          <a:off x="468360" y="1700280"/>
          <a:ext cx="8229600" cy="5013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01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мотор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10199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намиче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10199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фферентная мотор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0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тцентраль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10199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фферентная м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10199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кустико – гностиче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10199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кустико – мнестиче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10199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мантиче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08:00:08Z</dcterms:created>
  <dc:creator>Gulnara</dc:creator>
  <dc:description/>
  <dc:language>en-US</dc:language>
  <cp:lastModifiedBy>Ленар</cp:lastModifiedBy>
  <dcterms:modified xsi:type="dcterms:W3CDTF">2013-09-30T16:42:04Z</dcterms:modified>
  <cp:revision>48</cp:revision>
  <dc:subject/>
  <dc:title>Шашкина Гульнара Рустэмовна  Афазия</dc:title>
</cp:coreProperties>
</file>