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37D3-967F-4BF2-9566-9CC2AD0FF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D5BF-71A7-474D-B18B-34710B039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C6C-314B-4828-88F0-7E7D160A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13B-63C6-49E7-B345-8886102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A4F-3F75-4DF7-9195-493E4D8A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DF6-CF57-4D6D-8B66-08B622E2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723-908F-4315-8452-A44EA0D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B2F-04DC-435D-89BF-B3BF121A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ABA-4229-4449-B9FA-4A31B126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6AC-DA0A-4889-A9B4-B8710DE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5C2-44D9-423C-A2F8-930563E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6D0-FD08-4700-B7A4-E0B130A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B8B-932A-48FD-906C-F2A91BD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6F6-0D64-46C6-A1B1-B9CC17C3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lmonte Sn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25AF-6A2F-47F0-924B-1837C4D07E2E}" type="slidenum">
              <a:rPr b="0" lang="ru-RU" sz="1200" spc="-1" strike="noStrike">
                <a:solidFill>
                  <a:srgbClr val="000000"/>
                </a:solidFill>
                <a:latin typeface="Almonte Sn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85840" y="5000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lmonte Snow"/>
              </a:rPr>
              <a:t>Все мы любим душистый 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lmonte Snow"/>
              </a:rPr>
              <a:t>свежий чай!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  <p:pic>
        <p:nvPicPr>
          <p:cNvPr id="49" name="Picture 7" descr="D:\Irochka\Documents\новые презентации\chai-tot-samyi-sinii-slon-25_2g--7719-B.jpg"/>
          <p:cNvPicPr/>
          <p:nvPr/>
        </p:nvPicPr>
        <p:blipFill>
          <a:blip r:embed="rId1"/>
          <a:srcRect l="0" t="18923" r="0" b="18923"/>
          <a:stretch/>
        </p:blipFill>
        <p:spPr>
          <a:xfrm>
            <a:off x="571680" y="1643040"/>
            <a:ext cx="8358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морс"/>
          <p:cNvPicPr/>
          <p:nvPr/>
        </p:nvPicPr>
        <p:blipFill>
          <a:blip r:embed="rId2"/>
          <a:stretch/>
        </p:blipFill>
        <p:spPr>
          <a:xfrm>
            <a:off x="1643040" y="400068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мед2"/>
          <p:cNvPicPr/>
          <p:nvPr/>
        </p:nvPicPr>
        <p:blipFill>
          <a:blip r:embed="rId3"/>
          <a:stretch/>
        </p:blipFill>
        <p:spPr>
          <a:xfrm>
            <a:off x="214200" y="1571760"/>
            <a:ext cx="2143080" cy="217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-571680" y="36432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овуха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428840" y="585792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юквенный и брусничный морс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643280" y="1928880"/>
            <a:ext cx="39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lmonte Snow"/>
              </a:rPr>
              <a:t>сбитень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lmonte Snow"/>
              </a:rPr>
              <a:t>взвар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lmonte Snow"/>
              </a:rPr>
              <a:t>квас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lmonte Snow"/>
              </a:rPr>
              <a:t>травяные и цветочные настои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lmonte Snow"/>
              </a:rPr>
              <a:t>овощные соки</a:t>
            </a: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i065.radikal.ru/1002/6d/12f19e15f70f.jpg"/>
          <p:cNvPicPr/>
          <p:nvPr/>
        </p:nvPicPr>
        <p:blipFill>
          <a:blip r:embed="rId2"/>
          <a:stretch/>
        </p:blipFill>
        <p:spPr>
          <a:xfrm>
            <a:off x="785880" y="1714680"/>
            <a:ext cx="2962080" cy="3943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642960" y="57862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monte Snow"/>
              </a:rPr>
              <a:t>Иван-чай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214880" y="242892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ебные свойства: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учшает состав крови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ищает организм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репляет корни волос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раняет головную боль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рмализует давление.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71680" y="571680"/>
            <a:ext cx="811512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ай можно приготовить из листьев разных растений. На зиму заготовили 3070 г чая из листьев кипрея (Иван-чая), чая из листьев земляники на 840 г больше, а чая из брусники в 5 раз меньше, чем чая из листьев кипрея и земляники вместе. Сколько всего чая было заготовлено на зиму из этих растений? Ответ вырази в килограммах  и грамма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polpit.ru/content/rus/news_list/284/chai2.jpg"/>
          <p:cNvPicPr/>
          <p:nvPr/>
        </p:nvPicPr>
        <p:blipFill>
          <a:blip r:embed="rId2"/>
          <a:stretch/>
        </p:blipFill>
        <p:spPr>
          <a:xfrm>
            <a:off x="214200" y="1643040"/>
            <a:ext cx="2730600" cy="20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i.i.ua/photo/images/pic/7/3/2814637_33e0f9f8.jpg"/>
          <p:cNvPicPr/>
          <p:nvPr/>
        </p:nvPicPr>
        <p:blipFill>
          <a:blip r:embed="rId3"/>
          <a:stretch/>
        </p:blipFill>
        <p:spPr>
          <a:xfrm>
            <a:off x="214200" y="4000680"/>
            <a:ext cx="2714760" cy="2624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143160" y="2428920"/>
            <a:ext cx="578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толяет жажду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о от бессонницы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медляет процесс старения клеток, способствует долголетию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жогах снимает боль и воспаление кожи;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ся фтор, полезный для зубов.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500040"/>
            <a:ext cx="815832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Самые большие любители чая – англичане. На каждого англичанина приходится  в среднем 4 кг чая в год. Американец употребляет в течение года 1/8 этого количества, а на каждого жителя России приходится в 3 раза больше чая, чем на одного американца. Сколько чая употребляет в среднем в год один россиянин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mg0.liveinternet.ru/images/attach/c/1/58/790/58790076_tea.jpg"/>
          <p:cNvPicPr/>
          <p:nvPr/>
        </p:nvPicPr>
        <p:blipFill>
          <a:blip r:embed="rId2"/>
          <a:stretch/>
        </p:blipFill>
        <p:spPr>
          <a:xfrm>
            <a:off x="285840" y="1857240"/>
            <a:ext cx="3857400" cy="3857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42960" y="578628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monte Snow"/>
              </a:rPr>
              <a:t>Чай – уникальный витаминный напиток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429080" y="2428920"/>
            <a:ext cx="4714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има – красный чай</a:t>
            </a: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сна – цветочный чай</a:t>
            </a: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то – зеленый чай</a:t>
            </a: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нь – бирюзовый чай (улун)</a:t>
            </a: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99680" y="428400"/>
            <a:ext cx="818676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. Отец велел сыновьям собрать чайный лист с плантации, состоящей из 17 рядов. Старший сын должен обработать половину, средний – треть, а младший – девятую часть всех рядов. Братья не смогли разделить 17 рядов, как просил отец. На помощь пришёл сосед. Он предложил им собрать чай ещё с одного ряда на его плантации. Сколько рядов досталось каждому брату? Пришлось ли кому-то из братьев собирать чай с плантации соседа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93560" y="-36360"/>
            <a:ext cx="8595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428480"/>
            <a:ext cx="91440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Изучить историю появления чая на Ру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Выявить полезные свойства ч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ознакомиться с традициями чаепи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Отрабатывать умения решать арифметические текстовые задачи разных ви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Совершенствовать вычислительные навы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72040" y="35712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й горячий, аромат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на вкус весьма приятн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 недуги исцеляет, и усталость прогоня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ы новые даёт и друзей за стол зовё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благодарностью весь мир славит чудо-эликси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D:\Irochka\Documents\новые презентации\rolben_tea-2.jpg"/>
          <p:cNvPicPr/>
          <p:nvPr/>
        </p:nvPicPr>
        <p:blipFill>
          <a:blip r:embed="rId1"/>
          <a:srcRect l="0" t="0" r="0" b="8567"/>
          <a:stretch/>
        </p:blipFill>
        <p:spPr>
          <a:xfrm>
            <a:off x="1285920" y="50004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Irochka\Documents\новые презентации\gold_bond.jpg"/>
          <p:cNvPicPr/>
          <p:nvPr/>
        </p:nvPicPr>
        <p:blipFill>
          <a:blip r:embed="rId2"/>
          <a:stretch/>
        </p:blipFill>
        <p:spPr>
          <a:xfrm>
            <a:off x="0" y="2928960"/>
            <a:ext cx="2629080" cy="219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:\Irochka\Documents\новые презентации\lipton_pack_full_2.jpg"/>
          <p:cNvPicPr/>
          <p:nvPr/>
        </p:nvPicPr>
        <p:blipFill>
          <a:blip r:embed="rId3"/>
          <a:srcRect l="0" t="4044" r="0" b="11053"/>
          <a:stretch/>
        </p:blipFill>
        <p:spPr>
          <a:xfrm>
            <a:off x="2571840" y="5072040"/>
            <a:ext cx="2357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итай2"/>
          <p:cNvPicPr/>
          <p:nvPr/>
        </p:nvPicPr>
        <p:blipFill>
          <a:blip r:embed="rId1"/>
          <a:stretch/>
        </p:blipFill>
        <p:spPr>
          <a:xfrm>
            <a:off x="2571840" y="28584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36985_2009081443"/>
          <p:cNvPicPr/>
          <p:nvPr/>
        </p:nvPicPr>
        <p:blipFill>
          <a:blip r:embed="rId2"/>
          <a:stretch/>
        </p:blipFill>
        <p:spPr>
          <a:xfrm>
            <a:off x="428760" y="3429000"/>
            <a:ext cx="3286080" cy="3243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4357800" y="3500280"/>
            <a:ext cx="38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lmonte Snow"/>
              </a:rPr>
              <a:t>Родина чая – Китай.</a:t>
            </a:r>
            <a:endParaRPr b="0" lang="en-US" sz="28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929040" y="464328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й известен в мире более 500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7143840" y="685800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71680" y="642960"/>
            <a:ext cx="811512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питок из чайных листьев готовили в Китае уже 4 650 лет назад. В Россию чай впервые попал в 1631 году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в Западную Европ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 121 год раньше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 сколько лет раньше чай стали употреблять в Китае, чем в Западной Европ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71680" y="714240"/>
            <a:ext cx="81151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Китайский император Киенг Лон сочинил поэму, воспевавшую чай, и велел написать её на всех чашках, которые изготавливались на двух его фарфоровых фабриках. Не читать стихи императора было неудобно, и чашки быстро раскупали. В течение одного месяца на обеих фабриках было изготовлено 10 600 чашек, причём на одной фабрике сделали на 2 800 чашек больше, чем на другой. Сколько чашек изготовили за этот месяц на каждой фабри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aroma-city.com.ua/shop/published/publicdata/IRAAROMA2/attachments/SC/products_pictures/%D1%87%D0%B0%D0%B9%D0%BD%D0%BE%D0%B5%20%D0%B4%D0%B5%D1%80%D0%B5%D0%B2%D0%BE_enl.jpg"/>
          <p:cNvPicPr/>
          <p:nvPr/>
        </p:nvPicPr>
        <p:blipFill>
          <a:blip r:embed="rId2"/>
          <a:stretch/>
        </p:blipFill>
        <p:spPr>
          <a:xfrm>
            <a:off x="428760" y="3571920"/>
            <a:ext cx="3071520" cy="2212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static.diary.ru/userdir/6/4/8/1/648136/55314086.jpg"/>
          <p:cNvPicPr/>
          <p:nvPr/>
        </p:nvPicPr>
        <p:blipFill>
          <a:blip r:embed="rId3"/>
          <a:stretch/>
        </p:blipFill>
        <p:spPr>
          <a:xfrm>
            <a:off x="428760" y="1357200"/>
            <a:ext cx="3000240" cy="200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285840" y="60008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monte Snow"/>
              </a:rPr>
              <a:t>Чайный куст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pic>
        <p:nvPicPr>
          <p:cNvPr id="67" name="Picture 5" descr="DSC03960"/>
          <p:cNvPicPr/>
          <p:nvPr/>
        </p:nvPicPr>
        <p:blipFill>
          <a:blip r:embed="rId4"/>
          <a:stretch/>
        </p:blipFill>
        <p:spPr>
          <a:xfrm>
            <a:off x="5000760" y="135720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1"/>
          <p:cNvSpPr/>
          <p:nvPr/>
        </p:nvSpPr>
        <p:spPr>
          <a:xfrm>
            <a:off x="4786200" y="59292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monte Snow"/>
              </a:rPr>
              <a:t>Иероглиф «чай»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mg0.liveinternet.ru/images/attach/c/2/64/783/64783248_tea3.jpg"/>
          <p:cNvPicPr/>
          <p:nvPr/>
        </p:nvPicPr>
        <p:blipFill>
          <a:blip r:embed="rId2"/>
          <a:stretch/>
        </p:blipFill>
        <p:spPr>
          <a:xfrm>
            <a:off x="428760" y="228600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857160" y="56437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monte Snow"/>
              </a:rPr>
              <a:t>Китай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  <p:pic>
        <p:nvPicPr>
          <p:cNvPr id="72" name="Picture 4" descr="индия3"/>
          <p:cNvPicPr/>
          <p:nvPr/>
        </p:nvPicPr>
        <p:blipFill>
          <a:blip r:embed="rId3"/>
          <a:stretch/>
        </p:blipFill>
        <p:spPr>
          <a:xfrm>
            <a:off x="4929120" y="2286000"/>
            <a:ext cx="3821040" cy="3214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5143680" y="5715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monte Snow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Almonte Sn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99680" y="571680"/>
            <a:ext cx="81867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истья, собранные с чайного куста, сначала провяливают, рассыпая их тонким слоем – 600 г на 1 кв.м. За время провяливания из листьев испаряется влага. Чайный лист теряет 1/3 своей массы. Сколько килограммов чайного листа получают с площади 100 кв.м после его провялива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6:41:42Z</dcterms:created>
  <dc:creator>Бань Ирина Владимировна</dc:creator>
  <dc:description>Презентация к уроку</dc:description>
  <dc:language>en-US</dc:language>
  <cp:lastModifiedBy>Admin</cp:lastModifiedBy>
  <dcterms:modified xsi:type="dcterms:W3CDTF">2013-10-15T12:52:28Z</dcterms:modified>
  <cp:revision>73</cp:revision>
  <dc:subject/>
  <dc:title>Заглянем в чашку чая</dc:title>
</cp:coreProperties>
</file>